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2.gif" ContentType="image/gif"/>
  <Override PartName="/ppt/media/image9.jpeg" ContentType="image/jpeg"/>
  <Override PartName="/ppt/media/image11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9.gif" ContentType="image/gif"/>
  <Override PartName="/ppt/media/image1.png" ContentType="image/png"/>
  <Override PartName="/ppt/media/image7.jpeg" ContentType="image/jpeg"/>
  <Override PartName="/ppt/media/image12.jpeg" ContentType="image/jpeg"/>
  <Override PartName="/ppt/media/image3.wmf" ContentType="image/x-wmf"/>
  <Override PartName="/ppt/media/image4.png" ContentType="image/png"/>
  <Override PartName="/ppt/media/image18.gif" ContentType="image/gif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58F4-6899-4DB1-87A8-DAF30CA7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492-F51B-49C4-AE82-5C776DCF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DF0D-B343-4F43-AF6B-30E99E9E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B5AB-EEBF-4589-BEB7-DC17A7EE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2F88-DE58-4C34-8EDE-1459B88F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2371-C3EE-4344-A912-DFFA9706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7125-4D59-4972-BF81-16ADFC4D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6920-C09D-4FBB-A002-A34E53AF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461F-62E0-4CF0-8EB2-81D460DB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BB0B-B646-41CB-A6D9-385BF533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93A2-368E-4E53-9147-DD168433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D6A0-53F0-43CE-BB69-6FCAC366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BB47-CAE4-4EAA-9478-142F8340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CB88-652E-485B-91AF-A69886FE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5148-35B6-4133-887D-E12E70C3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32DC-BD83-4F78-A29E-196A557E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11F6-176B-4DBF-8C4C-098379FF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761A-395D-44CF-951A-8187EA4C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170F-E329-4953-9D68-392E511D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974E-E0F0-4228-A689-5CBBC0A4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FB4F-02C7-4C5F-860E-6D81ADA7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4CD4-6562-47A5-9324-FAA3A601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859B-CAD0-415F-AE17-AC9C389E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882A-B2FE-4555-9A28-DA67DE2F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0"/>
            <a:ext cx="8686800" cy="336240"/>
            <a:chOff x="228600" y="0"/>
            <a:chExt cx="8686800" cy="336240"/>
          </a:xfrm>
        </p:grpSpPr>
        <p:grpSp>
          <p:nvGrpSpPr>
            <p:cNvPr id="1" name=""/>
            <p:cNvGrpSpPr/>
            <p:nvPr/>
          </p:nvGrpSpPr>
          <p:grpSpPr>
            <a:xfrm>
              <a:off x="228600" y="0"/>
              <a:ext cx="1675800" cy="336240"/>
              <a:chOff x="228600" y="0"/>
              <a:chExt cx="1675800" cy="336240"/>
            </a:xfrm>
          </p:grpSpPr>
          <p:sp>
            <p:nvSpPr>
              <p:cNvPr id="2" name=""/>
              <p:cNvSpPr/>
              <p:nvPr/>
            </p:nvSpPr>
            <p:spPr>
              <a:xfrm>
                <a:off x="1066680" y="0"/>
                <a:ext cx="837720" cy="1681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68120"/>
                <a:ext cx="837720" cy="1681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228600" y="168120"/>
                <a:ext cx="838080" cy="1681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228600" y="0"/>
                <a:ext cx="838080" cy="1681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12480" y="83880"/>
                <a:ext cx="1508400" cy="168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981080" y="0"/>
              <a:ext cx="1676520" cy="336240"/>
              <a:chOff x="1981080" y="0"/>
              <a:chExt cx="1676520" cy="336240"/>
            </a:xfrm>
          </p:grpSpPr>
          <p:sp>
            <p:nvSpPr>
              <p:cNvPr id="8" name=""/>
              <p:cNvSpPr/>
              <p:nvPr/>
            </p:nvSpPr>
            <p:spPr>
              <a:xfrm>
                <a:off x="2819520" y="0"/>
                <a:ext cx="838080" cy="1681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819520" y="168120"/>
                <a:ext cx="838080" cy="1681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981080" y="168120"/>
                <a:ext cx="838440" cy="1681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981080" y="0"/>
                <a:ext cx="838440" cy="1681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064960" y="83880"/>
                <a:ext cx="1508760" cy="168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3733560" y="0"/>
              <a:ext cx="1676520" cy="336240"/>
              <a:chOff x="3733560" y="0"/>
              <a:chExt cx="1676520" cy="336240"/>
            </a:xfrm>
          </p:grpSpPr>
          <p:sp>
            <p:nvSpPr>
              <p:cNvPr id="14" name=""/>
              <p:cNvSpPr/>
              <p:nvPr/>
            </p:nvSpPr>
            <p:spPr>
              <a:xfrm>
                <a:off x="4572000" y="0"/>
                <a:ext cx="838080" cy="1681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572000" y="168120"/>
                <a:ext cx="838080" cy="1681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733560" y="168120"/>
                <a:ext cx="838440" cy="1681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733560" y="0"/>
                <a:ext cx="838440" cy="1681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817440" y="83880"/>
                <a:ext cx="1508760" cy="168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9" name=""/>
            <p:cNvGrpSpPr/>
            <p:nvPr/>
          </p:nvGrpSpPr>
          <p:grpSpPr>
            <a:xfrm>
              <a:off x="5486400" y="0"/>
              <a:ext cx="1675800" cy="336240"/>
              <a:chOff x="5486400" y="0"/>
              <a:chExt cx="1675800" cy="336240"/>
            </a:xfrm>
          </p:grpSpPr>
          <p:sp>
            <p:nvSpPr>
              <p:cNvPr id="20" name=""/>
              <p:cNvSpPr/>
              <p:nvPr/>
            </p:nvSpPr>
            <p:spPr>
              <a:xfrm>
                <a:off x="6324480" y="0"/>
                <a:ext cx="837720" cy="1681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6324480" y="168120"/>
                <a:ext cx="837720" cy="1681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486400" y="168120"/>
                <a:ext cx="838080" cy="1681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5486400" y="0"/>
                <a:ext cx="838080" cy="1681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5570280" y="83880"/>
                <a:ext cx="1508400" cy="168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7238880" y="0"/>
              <a:ext cx="1676520" cy="336240"/>
              <a:chOff x="7238880" y="0"/>
              <a:chExt cx="1676520" cy="336240"/>
            </a:xfrm>
          </p:grpSpPr>
          <p:sp>
            <p:nvSpPr>
              <p:cNvPr id="26" name=""/>
              <p:cNvSpPr/>
              <p:nvPr/>
            </p:nvSpPr>
            <p:spPr>
              <a:xfrm>
                <a:off x="8077320" y="0"/>
                <a:ext cx="838080" cy="1681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077320" y="168120"/>
                <a:ext cx="838080" cy="1681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238880" y="168120"/>
                <a:ext cx="838440" cy="1681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238880" y="0"/>
                <a:ext cx="838440" cy="1681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322760" y="83880"/>
                <a:ext cx="1508760" cy="168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grpSp>
        <p:nvGrpSpPr>
          <p:cNvPr id="31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32" name="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33" name="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5" name="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36" name="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8" name="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39" name="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41" name="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42" name="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44" name="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45" name="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48" name="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51" name="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54" name="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17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17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17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17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041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17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17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17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2"/>
          </p:nvPr>
        </p:nvSpPr>
        <p:spPr>
          <a:xfrm>
            <a:off x="685800" y="6365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66669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666699"/>
                </a:solidFill>
                <a:latin typeface="Times New Roman"/>
                <a:ea typeface="Arial"/>
              </a:rPr>
              <a:t>&lt;footer&gt;</a:t>
            </a:r>
            <a:r>
              <a:rPr b="0" lang="de-AT" sz="1400" spc="-1" strike="noStrike">
                <a:solidFill>
                  <a:srgbClr val="666699"/>
                </a:solidFill>
                <a:latin typeface="Times New Roman"/>
                <a:ea typeface="Arial"/>
              </a:rPr>
              <a:t>ABC-Analyse</a:t>
            </a:r>
            <a:r>
              <a:rPr b="0" lang="de-AT" sz="1400" spc="-1" strike="noStrike">
                <a:solidFill>
                  <a:srgbClr val="404176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AF00-3DDF-4575-A60D-65CA00801AF6}" type="slidenum">
              <a:rPr b="0" lang="de-DE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8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8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09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7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6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3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0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9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7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3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6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901C-4AB4-42BC-8C65-7346AECAA442}" type="slidenum">
              <a:rPr b="0" lang="de-DE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17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17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17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0417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17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17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17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5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9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image" Target="../media/image8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0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404176"/>
                </a:solidFill>
                <a:latin typeface="Arial"/>
              </a:rPr>
              <a:t>ABC-Analyse</a:t>
            </a:r>
            <a:endParaRPr b="1" lang="en-US" sz="5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176"/>
                </a:solidFill>
                <a:latin typeface="Arial"/>
                <a:ea typeface="Times New Roman"/>
              </a:rPr>
              <a:t>Im Schwerpunkt der Materialwirtschaft</a:t>
            </a: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8885-CBCA-4A67-A6AA-11BF8EF8471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3. Ma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b97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176"/>
                </a:solidFill>
                <a:latin typeface="Arial"/>
              </a:rPr>
              <a:t>3. Schritt</a:t>
            </a: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10920" y="1498680"/>
            <a:ext cx="50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404176"/>
                </a:solidFill>
                <a:latin typeface="Arial"/>
              </a:rPr>
              <a:t>Graphische Darstellung: </a:t>
            </a:r>
            <a:r>
              <a:rPr b="1" lang="de-DE" sz="2000" spc="-1" strike="noStrike" u="sng">
                <a:solidFill>
                  <a:srgbClr val="404176"/>
                </a:solidFill>
                <a:uFillTx/>
                <a:latin typeface="Arial"/>
              </a:rPr>
              <a:t>LORENZKURV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23" name="BD04972_" descr=""/>
          <p:cNvPicPr/>
          <p:nvPr/>
        </p:nvPicPr>
        <p:blipFill>
          <a:blip r:embed="rId2"/>
          <a:stretch/>
        </p:blipFill>
        <p:spPr>
          <a:xfrm>
            <a:off x="7620120" y="457200"/>
            <a:ext cx="1095120" cy="820800"/>
          </a:xfrm>
          <a:prstGeom prst="rect">
            <a:avLst/>
          </a:prstGeom>
          <a:ln w="0">
            <a:noFill/>
          </a:ln>
        </p:spPr>
      </p:pic>
      <p:grpSp>
        <p:nvGrpSpPr>
          <p:cNvPr id="624" name=""/>
          <p:cNvGrpSpPr/>
          <p:nvPr/>
        </p:nvGrpSpPr>
        <p:grpSpPr>
          <a:xfrm>
            <a:off x="380880" y="2286000"/>
            <a:ext cx="2514600" cy="3549600"/>
            <a:chOff x="380880" y="2286000"/>
            <a:chExt cx="2514600" cy="3549600"/>
          </a:xfrm>
        </p:grpSpPr>
        <p:graphicFrame>
          <p:nvGraphicFramePr>
            <p:cNvPr id="625" name=""/>
            <p:cNvGraphicFramePr/>
            <p:nvPr/>
          </p:nvGraphicFramePr>
          <p:xfrm>
            <a:off x="380880" y="3990960"/>
            <a:ext cx="2514600" cy="18446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62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3990960"/>
                      <a:ext cx="2514600" cy="184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7" name=""/>
            <p:cNvGraphicFramePr/>
            <p:nvPr/>
          </p:nvGraphicFramePr>
          <p:xfrm>
            <a:off x="380880" y="2286000"/>
            <a:ext cx="2514600" cy="172080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62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880" y="2286000"/>
                      <a:ext cx="2514600" cy="17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29" name=""/>
          <p:cNvGrpSpPr/>
          <p:nvPr/>
        </p:nvGrpSpPr>
        <p:grpSpPr>
          <a:xfrm>
            <a:off x="4889880" y="1828800"/>
            <a:ext cx="4253040" cy="4516560"/>
            <a:chOff x="4889880" y="1828800"/>
            <a:chExt cx="4253040" cy="4516560"/>
          </a:xfrm>
        </p:grpSpPr>
        <p:sp>
          <p:nvSpPr>
            <p:cNvPr id="630" name=""/>
            <p:cNvSpPr/>
            <p:nvPr/>
          </p:nvSpPr>
          <p:spPr>
            <a:xfrm>
              <a:off x="5587560" y="2205720"/>
              <a:ext cx="0" cy="3438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5587200" y="5644080"/>
              <a:ext cx="32562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76880" y="182880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Wert %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153280" y="6038280"/>
              <a:ext cx="95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Menge %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431680" y="4988880"/>
              <a:ext cx="23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207120" y="556272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905160" y="556272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26520" y="556272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145720" y="556272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766720" y="556272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31680" y="2289240"/>
              <a:ext cx="23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31680" y="3024360"/>
              <a:ext cx="23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431680" y="3679920"/>
              <a:ext cx="23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31680" y="4334760"/>
              <a:ext cx="23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975640" y="580716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20 %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966920" y="482544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20 %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672240" y="580716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40 %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966920" y="417024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40 %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293600" y="580716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60 %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966920" y="351648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60 %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966920" y="286128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80 %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914600" y="580716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80 %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889880" y="212436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100 %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456400" y="580716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100 %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5740560" y="4129200"/>
            <a:ext cx="85680" cy="90360"/>
          </a:xfrm>
          <a:prstGeom prst="flowChartConnector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913360" y="3309840"/>
            <a:ext cx="85680" cy="92160"/>
          </a:xfrm>
          <a:prstGeom prst="flowChartConnector">
            <a:avLst/>
          </a:prstGeom>
          <a:solidFill>
            <a:srgbClr val="ffcc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257880" y="2855880"/>
            <a:ext cx="85680" cy="9036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550280" y="2583000"/>
            <a:ext cx="85680" cy="90360"/>
          </a:xfrm>
          <a:prstGeom prst="flowChartConnector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8067600" y="2400480"/>
            <a:ext cx="85680" cy="91800"/>
          </a:xfrm>
          <a:prstGeom prst="flowChartConnector">
            <a:avLst/>
          </a:prstGeom>
          <a:solidFill>
            <a:srgbClr val="99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8669160" y="2309760"/>
            <a:ext cx="87480" cy="90720"/>
          </a:xfrm>
          <a:prstGeom prst="flowChartConnector">
            <a:avLst/>
          </a:prstGeom>
          <a:solidFill>
            <a:srgbClr val="c0c0c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275000" y="4129200"/>
            <a:ext cx="776520" cy="1546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ber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läche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275000" y="3309840"/>
            <a:ext cx="776520" cy="819360"/>
          </a:xfrm>
          <a:prstGeom prst="rect">
            <a:avLst/>
          </a:prstGeom>
          <a:solidFill>
            <a:srgbClr val="ffcc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olz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ern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75000" y="2855880"/>
            <a:ext cx="776520" cy="453960"/>
          </a:xfrm>
          <a:prstGeom prst="rect">
            <a:avLst/>
          </a:prstGeom>
          <a:solidFill>
            <a:srgbClr val="ffff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auf-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läche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275000" y="2583000"/>
            <a:ext cx="776520" cy="272880"/>
          </a:xfrm>
          <a:prstGeom prst="rect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ante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275000" y="2400480"/>
            <a:ext cx="776520" cy="182520"/>
          </a:xfrm>
          <a:prstGeom prst="rect">
            <a:avLst/>
          </a:prstGeom>
          <a:solidFill>
            <a:srgbClr val="99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serts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275000" y="2309760"/>
            <a:ext cx="776520" cy="90720"/>
          </a:xfrm>
          <a:prstGeom prst="rect">
            <a:avLst/>
          </a:prstGeom>
          <a:solidFill>
            <a:srgbClr val="96969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567400" y="4128840"/>
            <a:ext cx="173160" cy="154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5740560" y="3309840"/>
            <a:ext cx="258480" cy="81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5913360" y="2855520"/>
            <a:ext cx="430200" cy="54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6343560" y="2673360"/>
            <a:ext cx="1206720" cy="27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7635960" y="2491920"/>
            <a:ext cx="43164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8067600" y="2309400"/>
            <a:ext cx="689040" cy="18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999040" y="3309840"/>
            <a:ext cx="1800" cy="236556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343560" y="2946240"/>
            <a:ext cx="1800" cy="272916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756640" y="2309760"/>
            <a:ext cx="1440" cy="336564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567400" y="4856040"/>
            <a:ext cx="6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36d3d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913360" y="4402080"/>
            <a:ext cx="6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36d3d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464600" y="4038480"/>
            <a:ext cx="60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36d3d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30480" y="3309840"/>
            <a:ext cx="258840" cy="2365560"/>
          </a:xfrm>
          <a:custGeom>
            <a:avLst/>
            <a:gdLst>
              <a:gd name="textAreaLeft" fmla="*/ 165600 w 258840"/>
              <a:gd name="textAreaRight" fmla="*/ 259200 w 258840"/>
              <a:gd name="textAreaTop" fmla="*/ 61560 h 2365560"/>
              <a:gd name="textAreaBottom" fmla="*/ 2304000 h 236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103640" y="2855880"/>
            <a:ext cx="85680" cy="453960"/>
          </a:xfrm>
          <a:custGeom>
            <a:avLst/>
            <a:gdLst>
              <a:gd name="textAreaLeft" fmla="*/ 54720 w 85680"/>
              <a:gd name="textAreaRight" fmla="*/ 86040 w 85680"/>
              <a:gd name="textAreaTop" fmla="*/ 11520 h 453960"/>
              <a:gd name="textAreaBottom" fmla="*/ 442440 h 45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103640" y="2309760"/>
            <a:ext cx="85680" cy="546120"/>
          </a:xfrm>
          <a:custGeom>
            <a:avLst/>
            <a:gdLst>
              <a:gd name="textAreaLeft" fmla="*/ 54720 w 85680"/>
              <a:gd name="textAreaRight" fmla="*/ 86040 w 85680"/>
              <a:gd name="textAreaTop" fmla="*/ 14040 h 546120"/>
              <a:gd name="textAreaBottom" fmla="*/ 532080 h 54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072600" y="240048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36d3d"/>
                </a:solidFill>
                <a:latin typeface="Arial"/>
              </a:rPr>
              <a:t>C-Güter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072600" y="285588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36d3d"/>
                </a:solidFill>
                <a:latin typeface="Arial"/>
              </a:rPr>
              <a:t>B-Güter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986920" y="430992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36d3d"/>
                </a:solidFill>
                <a:latin typeface="Arial"/>
              </a:rPr>
              <a:t>A-Güter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238B-CD31-45F0-8DC6-7A4CA3CF5ADC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 Ma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b97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176"/>
                </a:solidFill>
                <a:latin typeface="Arial"/>
              </a:rPr>
              <a:t>Weitere Anwendungsmöglichkeiten in der Materialwirtschaft</a:t>
            </a: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14400" y="2514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04176"/>
                </a:solidFill>
                <a:latin typeface="Arial"/>
              </a:rPr>
              <a:t>Verbrauch/Einkaufsvolumen nach Artikel</a:t>
            </a:r>
            <a:r>
              <a:rPr b="0" lang="de-DE" sz="24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86" name="HAKEN" descr=""/>
          <p:cNvPicPr/>
          <p:nvPr/>
        </p:nvPicPr>
        <p:blipFill>
          <a:blip r:embed="rId2"/>
          <a:stretch/>
        </p:blipFill>
        <p:spPr>
          <a:xfrm>
            <a:off x="7391520" y="2209680"/>
            <a:ext cx="658800" cy="96840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914400" y="3276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04176"/>
                </a:solidFill>
                <a:latin typeface="Arial"/>
              </a:rPr>
              <a:t>Einkaufsvolumen pro Lieferant</a:t>
            </a:r>
            <a:r>
              <a:rPr b="0" lang="de-DE" sz="24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914400" y="3886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04176"/>
                </a:solidFill>
                <a:latin typeface="Arial"/>
              </a:rPr>
              <a:t>Lagerbestände</a:t>
            </a:r>
            <a:r>
              <a:rPr b="0" lang="de-DE" sz="24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404176"/>
                </a:solidFill>
                <a:latin typeface="Arial"/>
              </a:rPr>
              <a:t>nach Artikel/Artikelgruppe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914400" y="4572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04176"/>
                </a:solidFill>
                <a:latin typeface="Arial"/>
              </a:rPr>
              <a:t>Umschlagshäufigkeit nach Artik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914400" y="5257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04176"/>
                </a:solidFill>
                <a:latin typeface="Arial"/>
              </a:rPr>
              <a:t>Lieferanten nach Termintreu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914400" y="5943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04176"/>
                </a:solidFill>
                <a:latin typeface="Arial"/>
              </a:rPr>
              <a:t>Mängelstatistik nach Lieferante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62480" y="1828800"/>
            <a:ext cx="30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176"/>
                </a:solidFill>
                <a:latin typeface="Arial"/>
              </a:rPr>
              <a:t>Zur Bewertung von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B00-177D-469F-9D6E-6ECE7881665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 Ma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b97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176"/>
                </a:solidFill>
                <a:latin typeface="Arial"/>
              </a:rPr>
              <a:t>Weitere Anwendungsmöglichkeiten in der Betriebswirtschaft</a:t>
            </a: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971800" y="1828800"/>
            <a:ext cx="5410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404176"/>
                </a:solidFill>
                <a:latin typeface="Arial"/>
              </a:rPr>
              <a:t>Anlagen nach Ausfallszeit, Ausschussraten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404176"/>
                </a:solidFill>
                <a:latin typeface="Arial"/>
              </a:rPr>
              <a:t>Maschinen nach Instandhaltungskosten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86160" y="180324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04176"/>
                </a:solidFill>
                <a:latin typeface="Arial"/>
              </a:rPr>
              <a:t>Produktion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85440" y="281952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04176"/>
                </a:solidFill>
                <a:latin typeface="Arial"/>
              </a:rPr>
              <a:t>Kostenrechnung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971800" y="2819520"/>
            <a:ext cx="5410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404176"/>
                </a:solidFill>
                <a:latin typeface="Arial"/>
              </a:rPr>
              <a:t>Rangfolge der Kostenarten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176"/>
                </a:solidFill>
                <a:latin typeface="Arial"/>
              </a:rPr>
              <a:t>           </a:t>
            </a:r>
            <a:r>
              <a:rPr b="1" lang="de-DE" sz="1800" spc="-1" strike="noStrike">
                <a:solidFill>
                  <a:srgbClr val="404176"/>
                </a:solidFill>
                <a:latin typeface="Arial"/>
              </a:rPr>
              <a:t>A-Kosten = Kostensenkungspotential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048120" y="3352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373392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04176"/>
                </a:solidFill>
                <a:latin typeface="Arial"/>
              </a:rPr>
              <a:t>Vertrieb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971800" y="3733920"/>
            <a:ext cx="5410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404176"/>
                </a:solidFill>
                <a:latin typeface="Arial"/>
              </a:rPr>
              <a:t>Verkaufsumsatz nach Artikel/Artikelgruppen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404176"/>
                </a:solidFill>
                <a:latin typeface="Arial"/>
              </a:rPr>
              <a:t>Kundenstruktur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404176"/>
                </a:solidFill>
                <a:latin typeface="Arial"/>
              </a:rPr>
              <a:t>Deckungsbeitrag nach Artikel/Artikelgruppen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62120" y="50292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36d3d"/>
                </a:solidFill>
                <a:latin typeface="Arial"/>
              </a:rPr>
              <a:t>! ACHTUNG !    ! ACHTUNG !    ! ACHTUNG !     ! ACHTUNG !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888120" y="5421240"/>
            <a:ext cx="733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176"/>
                </a:solidFill>
                <a:latin typeface="Arial"/>
              </a:rPr>
              <a:t>Im Personalbereich sind derartige Analysen nur bedingt</a:t>
            </a:r>
            <a:br>
              <a:rPr sz="2000"/>
            </a:br>
            <a:r>
              <a:rPr b="0" lang="de-DE" sz="2000" spc="-1" strike="noStrike">
                <a:solidFill>
                  <a:srgbClr val="404176"/>
                </a:solidFill>
                <a:latin typeface="Arial"/>
              </a:rPr>
              <a:t>anwendbar, weil die Betrachtungsweise stark eingeschränkt ist!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0AD-5F4C-4395-ABD8-839D5A0E5A1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 Ma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b97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176"/>
                </a:solidFill>
                <a:latin typeface="Arial"/>
              </a:rPr>
              <a:t>Tipps aus und für die Praxis</a:t>
            </a: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62120" y="1752480"/>
            <a:ext cx="70866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04176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404176"/>
                </a:solidFill>
                <a:latin typeface="Arial"/>
              </a:rPr>
              <a:t>Achten Sie darauf, ob die Mengeneinheit und der Preis pro Mengeneinheit übereinstimmen (cm – m; kg – dag, Stk. – Packung)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25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04176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404176"/>
                </a:solidFill>
                <a:latin typeface="Arial"/>
              </a:rPr>
              <a:t>Beachten Sie, dass die Grenzen der A-B-C-Gruppen in den bereits besprochenen Prozentbereichen flexibel sind und schenken Sie den Grenzgütern bei der Einteilung besondere Beachtung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2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04176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404176"/>
                </a:solidFill>
                <a:latin typeface="Arial"/>
              </a:rPr>
              <a:t>Die ABC-Analysen sollen in regelmäßigen Abständen wiederholt werden, da sich Änderungen des Sachverhaltes ergeben können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801A-022A-45F4-83F5-BA223D09B71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 Ma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04176"/>
                </a:solidFill>
                <a:latin typeface="Arial"/>
              </a:rPr>
              <a:t>Viel Spaß und Erfolg mit der ABC-Analyse</a:t>
            </a:r>
            <a:br>
              <a:rPr sz="4000"/>
            </a:br>
            <a:r>
              <a:rPr b="1" lang="de-DE" sz="4000" spc="-1" strike="noStrike">
                <a:solidFill>
                  <a:srgbClr val="969696"/>
                </a:solidFill>
                <a:latin typeface="Arial"/>
              </a:rPr>
              <a:t>Herzlichen Dank für die Aufmerksamkeit</a:t>
            </a:r>
            <a:endParaRPr b="1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706" name="diddl1" descr=""/>
          <p:cNvPicPr/>
          <p:nvPr/>
        </p:nvPicPr>
        <p:blipFill>
          <a:blip r:embed="rId1"/>
          <a:stretch/>
        </p:blipFill>
        <p:spPr>
          <a:xfrm>
            <a:off x="3429000" y="3276720"/>
            <a:ext cx="2201760" cy="1501560"/>
          </a:xfrm>
          <a:prstGeom prst="rect">
            <a:avLst/>
          </a:prstGeom>
          <a:ln w="0">
            <a:noFill/>
          </a:ln>
        </p:spPr>
      </p:pic>
      <p:pic>
        <p:nvPicPr>
          <p:cNvPr id="707" name="diddl2" descr=""/>
          <p:cNvPicPr/>
          <p:nvPr/>
        </p:nvPicPr>
        <p:blipFill>
          <a:blip r:embed="rId2"/>
          <a:stretch/>
        </p:blipFill>
        <p:spPr>
          <a:xfrm>
            <a:off x="8001000" y="5105520"/>
            <a:ext cx="97164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5ADB-D7FC-49E8-A7F6-8C25E324A868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 Ma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b97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176"/>
                </a:solidFill>
                <a:latin typeface="Arial"/>
              </a:rPr>
              <a:t>Ausgangssituation</a:t>
            </a: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176"/>
                </a:solidFill>
                <a:latin typeface="Arial"/>
              </a:rPr>
              <a:t>Unübersichtliche Lagerlisten</a:t>
            </a: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176"/>
                </a:solidFill>
                <a:latin typeface="Arial"/>
                <a:ea typeface="Times New Roman"/>
              </a:rPr>
              <a:t>Verschiedenste Artikel </a:t>
            </a: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176"/>
                </a:solidFill>
                <a:latin typeface="Arial"/>
                <a:ea typeface="Times New Roman"/>
              </a:rPr>
              <a:t>In unterschiedlichen Mengen</a:t>
            </a: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176"/>
                </a:solidFill>
                <a:latin typeface="Arial"/>
                <a:ea typeface="Times New Roman"/>
              </a:rPr>
              <a:t>Mit unterschiedlichen Werten (Preisen)</a:t>
            </a: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417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04176"/>
                </a:solidFill>
                <a:latin typeface="Arial"/>
                <a:ea typeface="Times New Roman"/>
              </a:rPr>
              <a:t>Durch Betrachtung oder Beobachtung ist kein Überblick zu schaffen!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82" name="SCH075" descr=""/>
          <p:cNvPicPr/>
          <p:nvPr/>
        </p:nvPicPr>
        <p:blipFill>
          <a:blip r:embed="rId3"/>
          <a:stretch/>
        </p:blipFill>
        <p:spPr>
          <a:xfrm>
            <a:off x="6934320" y="1752480"/>
            <a:ext cx="154296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819-9C8F-4354-800C-2253DE61C27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 Ma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b97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176"/>
                </a:solidFill>
                <a:latin typeface="Arial"/>
              </a:rPr>
              <a:t>Lösung – Einsatz ABC-Analyse</a:t>
            </a: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1600200"/>
            <a:ext cx="7772400" cy="52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404176"/>
                </a:solidFill>
                <a:uFillTx/>
                <a:latin typeface="Arial"/>
              </a:rPr>
              <a:t>ZIEL:</a:t>
            </a:r>
            <a:r>
              <a:rPr b="0" lang="de-DE" sz="2400" spc="-1" strike="noStrike">
                <a:solidFill>
                  <a:srgbClr val="404176"/>
                </a:solidFill>
                <a:latin typeface="Arial"/>
              </a:rPr>
              <a:t>       </a:t>
            </a:r>
            <a:r>
              <a:rPr b="1" lang="de-DE" sz="2400" spc="-1" strike="noStrike">
                <a:solidFill>
                  <a:srgbClr val="404176"/>
                </a:solidFill>
                <a:latin typeface="Arial"/>
              </a:rPr>
              <a:t>Einteilen der Artikel in 3 Gruppe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81080" y="2514600"/>
            <a:ext cx="6782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sind bedeutend, hochwertig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hoher Anteil am Gesamtwert (60 – 85 %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niedriger Anteil an der Gesamtmenge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176"/>
                </a:solidFill>
                <a:latin typeface="Arial"/>
              </a:rPr>
              <a:t>A-Güter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3733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176"/>
                </a:solidFill>
                <a:latin typeface="Arial"/>
              </a:rPr>
              <a:t>B-Güter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981080" y="3809880"/>
            <a:ext cx="6782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sind weniger bedeutend, mittelwertig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mittlerer Anteil am Gesamtwert (10 – 25 %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mittlerer Anteil an der Gesamtmenge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981080" y="5105520"/>
            <a:ext cx="6782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sind weniger bedeutend, niedrigwertig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mittlerer Anteil am Gesamtwert (5 – 15 %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mittlerer Anteil an der Gesamtmenge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5029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176"/>
                </a:solidFill>
                <a:latin typeface="Arial"/>
              </a:rPr>
              <a:t>C-Güter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4DC6-2521-438E-9F03-DC5DD274BA3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 Ma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b97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176"/>
                </a:solidFill>
                <a:latin typeface="Arial"/>
              </a:rPr>
              <a:t>Was hilft mir diese Einteilung?</a:t>
            </a: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176"/>
                </a:solidFill>
                <a:latin typeface="Arial"/>
                <a:ea typeface="Times New Roman"/>
              </a:rPr>
              <a:t>Ansatzpunkte für Verbesserungen (A-Güter)</a:t>
            </a: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176"/>
                </a:solidFill>
                <a:latin typeface="Arial"/>
                <a:ea typeface="Times New Roman"/>
              </a:rPr>
              <a:t>Eliminierung von unwirtschaftlichen Anstrengungen (C-Güter) </a:t>
            </a: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828800" y="411480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176"/>
                </a:solidFill>
                <a:latin typeface="Arial"/>
                <a:ea typeface="Times New Roman"/>
              </a:rPr>
              <a:t>Mit ca. 20 % Aktivität (Aufwand) erzielt man ca. 80 % Verbesserung (Erfolg)!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14400" y="3045960"/>
            <a:ext cx="2438280" cy="39888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04176"/>
                </a:solidFill>
                <a:latin typeface="Arial"/>
                <a:ea typeface="Times New Roman"/>
              </a:rPr>
              <a:t>Pareto-Prinzip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505320" y="25909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176"/>
                </a:solidFill>
                <a:latin typeface="Arial"/>
              </a:rPr>
              <a:t>Ein </a:t>
            </a:r>
            <a:r>
              <a:rPr b="1" lang="de-DE" sz="2400" spc="-1" strike="noStrike" u="sng">
                <a:solidFill>
                  <a:srgbClr val="404176"/>
                </a:solidFill>
                <a:uFillTx/>
                <a:latin typeface="Arial"/>
              </a:rPr>
              <a:t>mengenmäßig kleiner</a:t>
            </a:r>
            <a:r>
              <a:rPr b="1" lang="de-DE" sz="2400" spc="-1" strike="noStrike">
                <a:solidFill>
                  <a:srgbClr val="404176"/>
                </a:solidFill>
                <a:latin typeface="Arial"/>
              </a:rPr>
              <a:t> Anteil besitzt einen sehr </a:t>
            </a:r>
            <a:r>
              <a:rPr b="1" lang="de-DE" sz="2400" spc="-1" strike="noStrike" u="sng">
                <a:solidFill>
                  <a:srgbClr val="404176"/>
                </a:solidFill>
                <a:uFillTx/>
                <a:latin typeface="Arial"/>
              </a:rPr>
              <a:t>hohen Wertanteil</a:t>
            </a:r>
            <a:r>
              <a:rPr b="1" lang="de-DE" sz="2400" spc="-1" strike="noStrike">
                <a:solidFill>
                  <a:srgbClr val="40417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62120" y="4191120"/>
            <a:ext cx="1066680" cy="5331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176"/>
                </a:solidFill>
                <a:latin typeface="Times New Roman"/>
              </a:rPr>
              <a:t>A-</a:t>
            </a: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Güter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828800" y="495288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176"/>
                </a:solidFill>
                <a:latin typeface="Arial"/>
                <a:ea typeface="Times New Roman"/>
              </a:rPr>
              <a:t>Aber auch: Für die restlichen ca. 20 % Erfolg müssen 80 %</a:t>
            </a:r>
            <a:br>
              <a:rPr sz="2000"/>
            </a:br>
            <a:r>
              <a:rPr b="0" lang="de-DE" sz="2000" spc="-1" strike="noStrike">
                <a:solidFill>
                  <a:srgbClr val="404176"/>
                </a:solidFill>
                <a:latin typeface="Arial"/>
                <a:ea typeface="Times New Roman"/>
              </a:rPr>
              <a:t>Aufwand betrieben werden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2120" y="5029200"/>
            <a:ext cx="1066680" cy="5335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176"/>
                </a:solidFill>
                <a:latin typeface="Times New Roman"/>
              </a:rPr>
              <a:t>C-</a:t>
            </a: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Güter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01D3-C111-4A25-BC03-9718367CF61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 Ma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b97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176"/>
                </a:solidFill>
                <a:latin typeface="Arial"/>
                <a:ea typeface="Times New Roman"/>
              </a:rPr>
              <a:t>Mögliche resultierende Maßnahmen</a:t>
            </a:r>
            <a:r>
              <a:rPr b="1" lang="de-AT" sz="3200" spc="-1" strike="noStrike">
                <a:solidFill>
                  <a:srgbClr val="40417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362320" y="4114440"/>
            <a:ext cx="6324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Nutzung zahlreicher Informationsquellen</a:t>
            </a: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Alternative Lieferanten suchen</a:t>
            </a: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Intensive Preis- und Konditionenverhandlung</a:t>
            </a: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09880" y="1506240"/>
            <a:ext cx="1600200" cy="39888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04176"/>
                </a:solidFill>
                <a:latin typeface="Arial"/>
                <a:ea typeface="Times New Roman"/>
              </a:rPr>
              <a:t>A-Güter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2133720"/>
            <a:ext cx="1828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DISPOSITION: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16560" y="3733920"/>
            <a:ext cx="63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BESCHAFFUNGSMARKTFORSCHUNG und -MARKETING: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916200" y="533412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INVENTUR: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364840" y="2438280"/>
            <a:ext cx="64522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Bestandsvermeidende Bewirtschaftung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Exakte Festlegung von niedrigen Sicherheitsbeständen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Exakte Disposition bzgl. Menge- und Termin (Just-in-Time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362680" y="5638680"/>
            <a:ext cx="26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Permanente Inventur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8B5D-A1FB-4960-BE46-C77C3FA6EBE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 Ma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b97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176"/>
                </a:solidFill>
                <a:latin typeface="Arial"/>
                <a:ea typeface="Times New Roman"/>
              </a:rPr>
              <a:t>Mögliche resultierende Maßnahmen</a:t>
            </a: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09880" y="1734840"/>
            <a:ext cx="1600200" cy="39888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04176"/>
                </a:solidFill>
                <a:latin typeface="Arial"/>
                <a:ea typeface="Times New Roman"/>
              </a:rPr>
              <a:t>B-Güter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89040" y="2209680"/>
            <a:ext cx="77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Angemessene Aktivitäten für Güter mit mittlerem Wert- und Mengenanteil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09880" y="3122280"/>
            <a:ext cx="1600200" cy="39888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04176"/>
                </a:solidFill>
                <a:latin typeface="Arial"/>
                <a:ea typeface="Times New Roman"/>
              </a:rPr>
              <a:t>C-Güter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85800" y="3581280"/>
            <a:ext cx="1828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DISPOSITION: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33720" y="3886200"/>
            <a:ext cx="6324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Vorratsbezogene Beschaffung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Bestellung in kostenoptimalen Losgrössen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Geringer Aufwand in Bestandsüberwachung und </a:t>
            </a:r>
            <a:br>
              <a:rPr sz="1800"/>
            </a:b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Bestandsführung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87600" y="533412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INVENTUR: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135160" y="563868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404176"/>
                </a:solidFill>
                <a:latin typeface="Arial"/>
              </a:rPr>
              <a:t>Stichprobeninventur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77A7-441C-45C8-AE69-95A53CB0E62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 Ma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b97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176"/>
                </a:solidFill>
                <a:latin typeface="Arial"/>
              </a:rPr>
              <a:t>Durchführung einer ABC-Analyse</a:t>
            </a: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16" name="board2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772080" cy="7686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24280" y="1523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176"/>
                </a:solidFill>
                <a:latin typeface="Arial"/>
              </a:rPr>
              <a:t>Beispiel: SNOWBOAR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8" name="board1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3365280" cy="184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9" name=""/>
          <p:cNvGraphicFramePr/>
          <p:nvPr/>
        </p:nvGraphicFramePr>
        <p:xfrm>
          <a:off x="1066680" y="3886200"/>
          <a:ext cx="7010640" cy="2649600"/>
        </p:xfrm>
        <a:graphic>
          <a:graphicData uri="http://schemas.openxmlformats.org/drawingml/2006/table">
            <a:tbl>
              <a:tblPr/>
              <a:tblGrid>
                <a:gridCol w="914400"/>
                <a:gridCol w="4114800"/>
                <a:gridCol w="990720"/>
                <a:gridCol w="990720"/>
              </a:tblGrid>
              <a:tr h="64260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Identnr.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Bezeichnung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Menge (Stk.)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Preis (Stk.)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10012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Kanten Allround 156 mm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8.00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€     </a:t>
                      </a: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0,7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20014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Holzkern Ultraflex 156 mm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1.60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€   </a:t>
                      </a: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14,5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30112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Zwischenlage 156 mm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4.00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 €    </a:t>
                      </a: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0,4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4007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Lauffläche Speed 156 mm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2.50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€     </a:t>
                      </a: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4,0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50003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Oberfläche Firehammer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1.40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€   </a:t>
                      </a: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24,0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60011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Inserts Standard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€    </a:t>
                      </a: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1,3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>
            <a:off x="1761840" y="3581280"/>
            <a:ext cx="545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04176"/>
                </a:solidFill>
                <a:latin typeface="Arial"/>
              </a:rPr>
              <a:t>Auszug Jahresverbrauchsliste - Snowboardproduktion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C2F3-1F72-47F7-83C8-B967699E653C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 Ma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b97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176"/>
                </a:solidFill>
                <a:latin typeface="Arial"/>
              </a:rPr>
              <a:t>1. Schritt</a:t>
            </a: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2057400"/>
            <a:ext cx="75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404176"/>
                </a:solidFill>
                <a:latin typeface="Arial"/>
              </a:rPr>
              <a:t>Absteigende Sortierung nach wertmäßigen Verbrauch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762120" y="2666880"/>
          <a:ext cx="5867280" cy="2649600"/>
        </p:xfrm>
        <a:graphic>
          <a:graphicData uri="http://schemas.openxmlformats.org/drawingml/2006/table">
            <a:tbl>
              <a:tblPr/>
              <a:tblGrid>
                <a:gridCol w="914400"/>
                <a:gridCol w="2895480"/>
                <a:gridCol w="1066680"/>
                <a:gridCol w="990720"/>
              </a:tblGrid>
              <a:tr h="64260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Identnr.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Bezeichnung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Menge (Stk.)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Preis (Stk.)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10012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Kanten Allround 156 mm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8.00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€     </a:t>
                      </a: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0,7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20014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Holzkern Ultraflex 156 mm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1.60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€   </a:t>
                      </a: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14,5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30112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Zwischenlage 156 mm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4.00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 €    </a:t>
                      </a: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0,4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4007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Lauffläche Speed 156 mm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2.50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€     </a:t>
                      </a: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4,0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50003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Oberfläche Firehammer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1.40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€   </a:t>
                      </a: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24,0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60011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Inserts Standard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€    </a:t>
                      </a: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1,3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6629400" y="2666880"/>
          <a:ext cx="990720" cy="264960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62568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Wert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€   </a:t>
                      </a: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5.60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€ </a:t>
                      </a: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23.20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€   </a:t>
                      </a: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1.60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€ </a:t>
                      </a: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10.00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€ </a:t>
                      </a: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33.60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€   </a:t>
                      </a: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3.90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5" name=""/>
          <p:cNvSpPr/>
          <p:nvPr/>
        </p:nvSpPr>
        <p:spPr>
          <a:xfrm>
            <a:off x="687240" y="1447920"/>
            <a:ext cx="65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404176"/>
                </a:solidFill>
                <a:latin typeface="Arial"/>
              </a:rPr>
              <a:t>Ermittlung des wertmäßigen Verbrauchs (Menge x Preis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7600" y="1752480"/>
            <a:ext cx="50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404176"/>
                </a:solidFill>
                <a:latin typeface="Arial"/>
              </a:rPr>
              <a:t>Summierung des wertmäßigen Verbrauch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6629400" y="5334120"/>
          <a:ext cx="990720" cy="38088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€ </a:t>
                      </a:r>
                      <a:r>
                        <a:rPr b="1" lang="de-DE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77.900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pSp>
        <p:nvGrpSpPr>
          <p:cNvPr id="428" name=""/>
          <p:cNvGrpSpPr/>
          <p:nvPr/>
        </p:nvGrpSpPr>
        <p:grpSpPr>
          <a:xfrm>
            <a:off x="762120" y="2666880"/>
            <a:ext cx="6858000" cy="3048120"/>
            <a:chOff x="762120" y="2666880"/>
            <a:chExt cx="6858000" cy="3048120"/>
          </a:xfrm>
        </p:grpSpPr>
        <p:sp>
          <p:nvSpPr>
            <p:cNvPr id="429" name=""/>
            <p:cNvSpPr/>
            <p:nvPr/>
          </p:nvSpPr>
          <p:spPr>
            <a:xfrm>
              <a:off x="5639040" y="4981680"/>
              <a:ext cx="99036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€    </a:t>
              </a: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0,40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72000" y="4981680"/>
              <a:ext cx="106704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4.000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676520" y="4981680"/>
              <a:ext cx="289548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Zwischenlage 156 mm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2120" y="4981680"/>
              <a:ext cx="91440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30112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39040" y="4646520"/>
              <a:ext cx="99036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€     </a:t>
              </a: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1,30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572000" y="4646520"/>
              <a:ext cx="106704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3.000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676520" y="4646520"/>
              <a:ext cx="289548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Inserts Standard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62120" y="4646520"/>
              <a:ext cx="9144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60011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39040" y="4311720"/>
              <a:ext cx="99036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€     </a:t>
              </a: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0,70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72000" y="4311720"/>
              <a:ext cx="106704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8.000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76520" y="4311720"/>
              <a:ext cx="289548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Kanten Allround 156 mm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2120" y="4311720"/>
              <a:ext cx="91440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10012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639040" y="3976560"/>
              <a:ext cx="99036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 €    </a:t>
              </a: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4,00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572000" y="3976560"/>
              <a:ext cx="106704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2.500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76520" y="3976560"/>
              <a:ext cx="289548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Lauffläche Speed 156 mm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62120" y="3976560"/>
              <a:ext cx="9144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40070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39040" y="3641760"/>
              <a:ext cx="99036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€   </a:t>
              </a: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14,50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572000" y="3641760"/>
              <a:ext cx="106704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1.600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676520" y="3641760"/>
              <a:ext cx="289548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Holzkern Ultraflex 156 mm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2120" y="3641760"/>
              <a:ext cx="91440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20014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639040" y="3306600"/>
              <a:ext cx="99036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€   </a:t>
              </a: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24,00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72000" y="3306600"/>
              <a:ext cx="106704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1.400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676520" y="3306600"/>
              <a:ext cx="289548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Oberfläche Firehammer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2120" y="3306600"/>
              <a:ext cx="9144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50003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639040" y="2666880"/>
              <a:ext cx="990360" cy="6397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404176"/>
                  </a:solidFill>
                  <a:latin typeface="Arial"/>
                </a:rPr>
                <a:t>Preis (Stk.)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72000" y="2666880"/>
              <a:ext cx="1067040" cy="6397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404176"/>
                  </a:solidFill>
                  <a:latin typeface="Arial"/>
                </a:rPr>
                <a:t>Menge (Stk.)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676520" y="2666880"/>
              <a:ext cx="2895480" cy="6397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404176"/>
                  </a:solidFill>
                  <a:latin typeface="Arial"/>
                </a:rPr>
                <a:t>Bezeichnung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2120" y="2666880"/>
              <a:ext cx="914400" cy="6397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404176"/>
                  </a:solidFill>
                  <a:latin typeface="Arial"/>
                </a:rPr>
                <a:t>Identnr.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2120" y="2666880"/>
              <a:ext cx="5867280" cy="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62120" y="3306600"/>
              <a:ext cx="58672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62120" y="3641760"/>
              <a:ext cx="58672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62120" y="3976560"/>
              <a:ext cx="58672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62120" y="4311720"/>
              <a:ext cx="58672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62120" y="4646520"/>
              <a:ext cx="58672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120" y="4981680"/>
              <a:ext cx="58672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2120" y="5316480"/>
              <a:ext cx="5867280" cy="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2120" y="2666880"/>
              <a:ext cx="0" cy="264960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676520" y="2666880"/>
              <a:ext cx="0" cy="264960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72000" y="2666880"/>
              <a:ext cx="0" cy="264960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639040" y="2666880"/>
              <a:ext cx="0" cy="264960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629400" y="2666880"/>
              <a:ext cx="0" cy="264960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29400" y="4981680"/>
              <a:ext cx="99072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€   </a:t>
              </a: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1.600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629400" y="4646520"/>
              <a:ext cx="99072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€   </a:t>
              </a: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3.900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629400" y="4311720"/>
              <a:ext cx="99072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€   </a:t>
              </a: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5.600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29400" y="3976560"/>
              <a:ext cx="99072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€ </a:t>
              </a: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10.000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629400" y="3641760"/>
              <a:ext cx="99072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€ </a:t>
              </a: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23.200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29400" y="3306600"/>
              <a:ext cx="99072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€ </a:t>
              </a: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33.600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629400" y="2666880"/>
              <a:ext cx="990720" cy="6397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404176"/>
                  </a:solidFill>
                  <a:latin typeface="Arial"/>
                </a:rPr>
                <a:t>Wert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629400" y="2666880"/>
              <a:ext cx="990720" cy="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29400" y="3306600"/>
              <a:ext cx="9907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629400" y="3641760"/>
              <a:ext cx="9907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629400" y="3976560"/>
              <a:ext cx="9907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629400" y="4311720"/>
              <a:ext cx="9907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629400" y="4646520"/>
              <a:ext cx="9907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629400" y="4981680"/>
              <a:ext cx="9907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629400" y="5316480"/>
              <a:ext cx="990720" cy="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629400" y="2666880"/>
              <a:ext cx="0" cy="264960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620120" y="2666880"/>
              <a:ext cx="0" cy="264960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29400" y="5334120"/>
              <a:ext cx="990720" cy="3808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€ </a:t>
              </a:r>
              <a:r>
                <a:rPr b="1" lang="de-DE" sz="1600" spc="-1" strike="noStrike">
                  <a:solidFill>
                    <a:srgbClr val="404176"/>
                  </a:solidFill>
                  <a:latin typeface="Arial"/>
                </a:rPr>
                <a:t>77.900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629400" y="5334120"/>
              <a:ext cx="990720" cy="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629400" y="5715000"/>
              <a:ext cx="990720" cy="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29400" y="5334120"/>
              <a:ext cx="0" cy="38088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20120" y="5334120"/>
              <a:ext cx="0" cy="38088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7848720" y="3276720"/>
            <a:ext cx="304560" cy="2057400"/>
          </a:xfrm>
          <a:prstGeom prst="downArrow">
            <a:avLst>
              <a:gd name="adj1" fmla="val 50000"/>
              <a:gd name="adj2" fmla="val 168883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D956-C4F3-44E3-8FFF-D6A735B3263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 Ma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b97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176"/>
                </a:solidFill>
                <a:latin typeface="Arial"/>
              </a:rPr>
              <a:t>2. Schritt</a:t>
            </a:r>
            <a:endParaRPr b="1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962520" y="5715000"/>
            <a:ext cx="892080" cy="34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176"/>
                </a:solidFill>
                <a:latin typeface="Arial"/>
              </a:rPr>
              <a:t>€ </a:t>
            </a:r>
            <a:r>
              <a:rPr b="1" lang="de-DE" sz="1400" spc="-1" strike="noStrike">
                <a:solidFill>
                  <a:srgbClr val="404176"/>
                </a:solidFill>
                <a:latin typeface="Arial"/>
              </a:rPr>
              <a:t>77.900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533520" y="3262320"/>
            <a:ext cx="4321080" cy="2413080"/>
            <a:chOff x="533520" y="3262320"/>
            <a:chExt cx="4321080" cy="2413080"/>
          </a:xfrm>
        </p:grpSpPr>
        <p:sp>
          <p:nvSpPr>
            <p:cNvPr id="496" name=""/>
            <p:cNvSpPr/>
            <p:nvPr/>
          </p:nvSpPr>
          <p:spPr>
            <a:xfrm>
              <a:off x="3962520" y="3274920"/>
              <a:ext cx="892080" cy="576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404176"/>
                  </a:solidFill>
                  <a:latin typeface="Arial"/>
                </a:rPr>
                <a:t>Wert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71880" y="5346720"/>
              <a:ext cx="8906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€    </a:t>
              </a: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0,40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111400" y="5373720"/>
              <a:ext cx="9604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4.000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33520" y="5373720"/>
              <a:ext cx="26064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Zwischenlage...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71880" y="5045040"/>
              <a:ext cx="8906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€     </a:t>
              </a: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1,30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111400" y="5072040"/>
              <a:ext cx="9604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3.000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33520" y="5072040"/>
              <a:ext cx="26064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Inserts...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071880" y="4743360"/>
              <a:ext cx="8906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€     </a:t>
              </a: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0,70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11400" y="4770360"/>
              <a:ext cx="9604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8.000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33520" y="4770360"/>
              <a:ext cx="26064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Kanten...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071880" y="4441680"/>
              <a:ext cx="8906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 €    </a:t>
              </a: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4,00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111400" y="4468680"/>
              <a:ext cx="9604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2.500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33520" y="4468680"/>
              <a:ext cx="26064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Lauffläche...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071880" y="4140000"/>
              <a:ext cx="8906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€   </a:t>
              </a: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14,50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111400" y="4167000"/>
              <a:ext cx="9604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1.600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3520" y="4167000"/>
              <a:ext cx="26064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Holzkern...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071880" y="3838320"/>
              <a:ext cx="8906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€   </a:t>
              </a: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24,00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11400" y="3865320"/>
              <a:ext cx="9604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1.400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3520" y="3865320"/>
              <a:ext cx="26064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Oberfläche...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071880" y="3262320"/>
              <a:ext cx="890640" cy="57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404176"/>
                  </a:solidFill>
                  <a:latin typeface="Arial"/>
                </a:rPr>
                <a:t>Preis (Stk.)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11400" y="3289320"/>
              <a:ext cx="960480" cy="576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404176"/>
                  </a:solidFill>
                  <a:latin typeface="Arial"/>
                </a:rPr>
                <a:t>Menge (Stk.)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33520" y="3289320"/>
              <a:ext cx="1577880" cy="576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404176"/>
                  </a:solidFill>
                  <a:latin typeface="Arial"/>
                </a:rPr>
                <a:t>Bezeichnung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520" y="3274920"/>
              <a:ext cx="4321080" cy="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33520" y="3851280"/>
              <a:ext cx="43210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3520" y="4152960"/>
              <a:ext cx="43210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3520" y="4454280"/>
              <a:ext cx="43210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4755960"/>
              <a:ext cx="43210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3520" y="5057640"/>
              <a:ext cx="43210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3520" y="5359320"/>
              <a:ext cx="43210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3520" y="5661000"/>
              <a:ext cx="4321080" cy="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3520" y="3274920"/>
              <a:ext cx="0" cy="238608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33520" y="3274920"/>
              <a:ext cx="0" cy="238608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11400" y="3274920"/>
              <a:ext cx="0" cy="238608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71880" y="3274920"/>
              <a:ext cx="0" cy="238608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62520" y="5333760"/>
              <a:ext cx="892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€   </a:t>
              </a: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1.600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962520" y="5032440"/>
              <a:ext cx="892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€   </a:t>
              </a: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3.900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962520" y="4730760"/>
              <a:ext cx="892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€   </a:t>
              </a: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5.600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962520" y="4416480"/>
              <a:ext cx="892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€ </a:t>
              </a: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10.000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962520" y="4127400"/>
              <a:ext cx="892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€ </a:t>
              </a: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23.200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962520" y="3825720"/>
              <a:ext cx="892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€ </a:t>
              </a: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33.600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962520" y="3274920"/>
              <a:ext cx="0" cy="238608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854600" y="3274920"/>
              <a:ext cx="0" cy="238608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854600" y="3274920"/>
              <a:ext cx="0" cy="238608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876920" y="3276720"/>
            <a:ext cx="892080" cy="2382840"/>
            <a:chOff x="4876920" y="3276720"/>
            <a:chExt cx="892080" cy="2382840"/>
          </a:xfrm>
        </p:grpSpPr>
        <p:sp>
          <p:nvSpPr>
            <p:cNvPr id="540" name=""/>
            <p:cNvSpPr/>
            <p:nvPr/>
          </p:nvSpPr>
          <p:spPr>
            <a:xfrm>
              <a:off x="4876920" y="5358240"/>
              <a:ext cx="892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2,1 %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876920" y="5056560"/>
              <a:ext cx="892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5,0 %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876920" y="4756320"/>
              <a:ext cx="89208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7,2 %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876920" y="4454640"/>
              <a:ext cx="892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12,8 %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76920" y="4153320"/>
              <a:ext cx="892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29,8 %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876920" y="3851640"/>
              <a:ext cx="892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43,1 %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876920" y="3276720"/>
              <a:ext cx="892080" cy="5749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Wert</a:t>
              </a:r>
              <a:br>
                <a:rPr sz="1400"/>
              </a:b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%-Anteil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876920" y="3276720"/>
              <a:ext cx="892080" cy="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76920" y="3851640"/>
              <a:ext cx="8920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76920" y="4153320"/>
              <a:ext cx="8920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76920" y="4454640"/>
              <a:ext cx="8920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876920" y="4756320"/>
              <a:ext cx="8920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6920" y="5056560"/>
              <a:ext cx="8920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6920" y="5358240"/>
              <a:ext cx="8920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6920" y="5659560"/>
              <a:ext cx="892080" cy="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6920" y="3276720"/>
              <a:ext cx="0" cy="238284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69000" y="3276720"/>
              <a:ext cx="0" cy="238284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5791320" y="3276720"/>
            <a:ext cx="892080" cy="2382840"/>
            <a:chOff x="5791320" y="3276720"/>
            <a:chExt cx="892080" cy="2382840"/>
          </a:xfrm>
        </p:grpSpPr>
        <p:sp>
          <p:nvSpPr>
            <p:cNvPr id="558" name=""/>
            <p:cNvSpPr/>
            <p:nvPr/>
          </p:nvSpPr>
          <p:spPr>
            <a:xfrm>
              <a:off x="5791320" y="5358240"/>
              <a:ext cx="892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100,0 %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791320" y="5056560"/>
              <a:ext cx="892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97,9 %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791320" y="4756320"/>
              <a:ext cx="89208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92,9 %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791320" y="4454640"/>
              <a:ext cx="892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85,8 %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91320" y="4153320"/>
              <a:ext cx="892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72,9 %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91320" y="3851640"/>
              <a:ext cx="892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43,1 %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791320" y="3276720"/>
              <a:ext cx="892080" cy="5749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kum.Wert</a:t>
              </a:r>
              <a:br>
                <a:rPr sz="1400"/>
              </a:b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%-Anteil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791320" y="3276720"/>
              <a:ext cx="892080" cy="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791320" y="3851640"/>
              <a:ext cx="8920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791320" y="4153320"/>
              <a:ext cx="8920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791320" y="4454640"/>
              <a:ext cx="8920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791320" y="4756320"/>
              <a:ext cx="8920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791320" y="5056560"/>
              <a:ext cx="8920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791320" y="5358240"/>
              <a:ext cx="8920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791320" y="5659560"/>
              <a:ext cx="892080" cy="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791320" y="3276720"/>
              <a:ext cx="0" cy="238284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83400" y="3276720"/>
              <a:ext cx="0" cy="238284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6705720" y="3276720"/>
            <a:ext cx="892080" cy="2382840"/>
            <a:chOff x="6705720" y="3276720"/>
            <a:chExt cx="892080" cy="2382840"/>
          </a:xfrm>
        </p:grpSpPr>
        <p:sp>
          <p:nvSpPr>
            <p:cNvPr id="576" name=""/>
            <p:cNvSpPr/>
            <p:nvPr/>
          </p:nvSpPr>
          <p:spPr>
            <a:xfrm>
              <a:off x="6705720" y="5358240"/>
              <a:ext cx="892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705720" y="5056560"/>
              <a:ext cx="892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05720" y="4756320"/>
              <a:ext cx="89208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705720" y="4454640"/>
              <a:ext cx="892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705720" y="4153320"/>
              <a:ext cx="892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705720" y="3851640"/>
              <a:ext cx="892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05720" y="3276720"/>
              <a:ext cx="892080" cy="5749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Gruppe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705720" y="3276720"/>
              <a:ext cx="892080" cy="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705720" y="3851640"/>
              <a:ext cx="8920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705720" y="4153320"/>
              <a:ext cx="8920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705720" y="4454640"/>
              <a:ext cx="8920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05720" y="4756320"/>
              <a:ext cx="8920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705720" y="5056560"/>
              <a:ext cx="8920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705720" y="5358240"/>
              <a:ext cx="8920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705720" y="5659560"/>
              <a:ext cx="892080" cy="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705720" y="3276720"/>
              <a:ext cx="0" cy="238284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597800" y="3276720"/>
              <a:ext cx="0" cy="238284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7620120" y="3276720"/>
            <a:ext cx="892080" cy="2382840"/>
            <a:chOff x="7620120" y="3276720"/>
            <a:chExt cx="892080" cy="2382840"/>
          </a:xfrm>
        </p:grpSpPr>
        <p:sp>
          <p:nvSpPr>
            <p:cNvPr id="594" name=""/>
            <p:cNvSpPr/>
            <p:nvPr/>
          </p:nvSpPr>
          <p:spPr>
            <a:xfrm>
              <a:off x="7620120" y="5358240"/>
              <a:ext cx="892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19,5 %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620120" y="5056560"/>
              <a:ext cx="892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14,7 %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620120" y="4756320"/>
              <a:ext cx="89208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39,0 %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620120" y="4454640"/>
              <a:ext cx="892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12,2 %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20120" y="4153320"/>
              <a:ext cx="892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7,8 %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620120" y="3851640"/>
              <a:ext cx="892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6,8 %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620120" y="3276720"/>
              <a:ext cx="892080" cy="574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Menge</a:t>
              </a:r>
              <a:br>
                <a:rPr sz="1400"/>
              </a:br>
              <a:r>
                <a:rPr b="1" lang="de-DE" sz="1400" spc="-1" strike="noStrike">
                  <a:solidFill>
                    <a:srgbClr val="404176"/>
                  </a:solidFill>
                  <a:latin typeface="Arial"/>
                </a:rPr>
                <a:t>%-Anteil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20120" y="3276720"/>
              <a:ext cx="892080" cy="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620120" y="3851640"/>
              <a:ext cx="8920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620120" y="4153320"/>
              <a:ext cx="8920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20120" y="4454640"/>
              <a:ext cx="8920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620120" y="4756320"/>
              <a:ext cx="8920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620120" y="5056560"/>
              <a:ext cx="8920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620120" y="5358240"/>
              <a:ext cx="89208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20120" y="5659560"/>
              <a:ext cx="892080" cy="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620120" y="3276720"/>
              <a:ext cx="0" cy="238284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512200" y="3276720"/>
              <a:ext cx="0" cy="2382840"/>
            </a:xfrm>
            <a:prstGeom prst="line">
              <a:avLst/>
            </a:prstGeom>
            <a:ln cap="sq"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4876920" y="5715000"/>
            <a:ext cx="892080" cy="343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176"/>
                </a:solidFill>
                <a:latin typeface="Arial"/>
              </a:rPr>
              <a:t>100 %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620120" y="5715000"/>
            <a:ext cx="892080" cy="343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176"/>
                </a:solidFill>
                <a:latin typeface="Arial"/>
              </a:rPr>
              <a:t>100 %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133720" y="5715000"/>
            <a:ext cx="968400" cy="343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176"/>
                </a:solidFill>
                <a:latin typeface="Arial"/>
              </a:rPr>
              <a:t>€ </a:t>
            </a:r>
            <a:r>
              <a:rPr b="1" lang="de-DE" sz="1400" spc="-1" strike="noStrike">
                <a:solidFill>
                  <a:srgbClr val="404176"/>
                </a:solidFill>
                <a:latin typeface="Arial"/>
              </a:rPr>
              <a:t>77.900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85800" y="2362320"/>
            <a:ext cx="75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404176"/>
                </a:solidFill>
                <a:latin typeface="Arial"/>
              </a:rPr>
              <a:t>Ermittlung der %-uellen Mengenanteile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1447920"/>
            <a:ext cx="62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404176"/>
                </a:solidFill>
                <a:latin typeface="Arial"/>
              </a:rPr>
              <a:t>Ermittlung des %-uell wertmäßigen Anteils pro Artikel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1752480"/>
            <a:ext cx="63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404176"/>
                </a:solidFill>
                <a:latin typeface="Arial"/>
              </a:rPr>
              <a:t>Ermittlung der kumulierten %-uell wertmäßigen Anteile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cxnSp>
        <p:nvCxnSpPr>
          <p:cNvPr id="617" name=""/>
          <p:cNvCxnSpPr>
            <a:stCxn id="613" idx="2"/>
            <a:endCxn id="612" idx="2"/>
          </p:cNvCxnSpPr>
          <p:nvPr/>
        </p:nvCxnSpPr>
        <p:spPr>
          <a:xfrm flipH="1" rot="16200000">
            <a:off x="5340960" y="3348720"/>
            <a:ext cx="2520" cy="5448600"/>
          </a:xfrm>
          <a:prstGeom prst="bentConnector3">
            <a:avLst>
              <a:gd name="adj1" fmla="val 13500000"/>
            </a:avLst>
          </a:prstGeom>
          <a:ln w="9360">
            <a:solidFill>
              <a:srgbClr val="8383a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8" name=""/>
          <p:cNvCxnSpPr/>
          <p:nvPr/>
        </p:nvCxnSpPr>
        <p:spPr>
          <a:xfrm flipH="1" rot="16200000">
            <a:off x="4647240" y="2817360"/>
            <a:ext cx="2520" cy="915120"/>
          </a:xfrm>
          <a:prstGeom prst="bentConnector3">
            <a:avLst>
              <a:gd name="adj1" fmla="val -14400000"/>
            </a:avLst>
          </a:prstGeom>
          <a:ln w="9360">
            <a:solidFill>
              <a:srgbClr val="8383a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9" name=""/>
          <p:cNvCxnSpPr/>
          <p:nvPr/>
        </p:nvCxnSpPr>
        <p:spPr>
          <a:xfrm flipH="1" rot="16200000">
            <a:off x="5790240" y="2817360"/>
            <a:ext cx="2520" cy="915120"/>
          </a:xfrm>
          <a:prstGeom prst="bentConnector3">
            <a:avLst>
              <a:gd name="adj1" fmla="val -14400000"/>
            </a:avLst>
          </a:prstGeom>
          <a:ln w="9360">
            <a:solidFill>
              <a:srgbClr val="8383a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20" name=""/>
          <p:cNvSpPr/>
          <p:nvPr/>
        </p:nvSpPr>
        <p:spPr>
          <a:xfrm>
            <a:off x="685800" y="2057400"/>
            <a:ext cx="75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404176"/>
                </a:solidFill>
                <a:latin typeface="Arial"/>
              </a:rPr>
              <a:t>Bestimmung der Gruppen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CB2D-0D49-4355-9255-E600FD31EEC1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 Ma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18:13:38Z</dcterms:created>
  <dc:creator>Ewald Lungenschmied</dc:creator>
  <dc:description/>
  <dc:language>en-US</dc:language>
  <cp:lastModifiedBy>Siegfried Ganser</cp:lastModifiedBy>
  <dcterms:modified xsi:type="dcterms:W3CDTF">2003-05-22T18:55:49Z</dcterms:modified>
  <cp:revision>119</cp:revision>
  <dc:subject/>
  <dc:title>ABC-Analyse</dc:title>
</cp:coreProperties>
</file>