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CDF9-2A98-41E6-B58D-4ABF4A67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C09A-0CBC-4C69-8AF1-FFCB3B58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B13-2858-4000-B621-B90CA70C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CA5-9F5B-4A86-8EE4-EEADABA5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477-037B-4F45-B708-6500E0F0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5C5-ED25-4024-B2AA-F730CB00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B6E-1A1A-47D2-B9BF-E0D7FA03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218-C26E-44B4-A201-28B75200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F9D-0FBC-4CA2-AFA7-77D6AA2C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2B8-7F91-4D51-9627-E9763BFB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2A67-BFD7-4B38-B279-5EDDBA7D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554-F359-4ECF-BCE2-2562BC4F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162920" y="6172200"/>
            <a:ext cx="1805040" cy="460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rot="5400000">
            <a:off x="-2629440" y="3467160"/>
            <a:ext cx="586764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BD41-63A4-46F9-86F1-DC91F2C5F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174880" y="645012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omic Sans MS"/>
              </a:rPr>
              <a:t>© Karl Döbe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85800"/>
            <a:ext cx="8686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160" y="0"/>
            <a:ext cx="6116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99"/>
                </a:solidFill>
                <a:latin typeface="Arial"/>
              </a:rPr>
              <a:t>Unternehmensübergreifende Organisationsform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35800" y="330120"/>
            <a:ext cx="46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Kooperations- und Globalisierungsstrate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089120" y="6324480"/>
            <a:ext cx="105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3333cc"/>
                </a:solidFill>
                <a:latin typeface="Tahoma"/>
              </a:rPr>
              <a:t>www.trauner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image" Target="../media/image2.wmf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6.xml"/><Relationship Id="rId10" Type="http://schemas.openxmlformats.org/officeDocument/2006/relationships/slide" Target="slide18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4.xml"/><Relationship Id="rId14" Type="http://schemas.openxmlformats.org/officeDocument/2006/relationships/slide" Target="slide3.xml"/><Relationship Id="rId15" Type="http://schemas.openxmlformats.org/officeDocument/2006/relationships/slide" Target="slide4.xml"/><Relationship Id="rId16" Type="http://schemas.openxmlformats.org/officeDocument/2006/relationships/slide" Target="slide16.xml"/><Relationship Id="rId17" Type="http://schemas.openxmlformats.org/officeDocument/2006/relationships/slide" Target="slide20.xml"/><Relationship Id="rId18" Type="http://schemas.openxmlformats.org/officeDocument/2006/relationships/slide" Target="slide18.xml"/><Relationship Id="rId19" Type="http://schemas.openxmlformats.org/officeDocument/2006/relationships/slide" Target="slide21.xml"/><Relationship Id="rId20" Type="http://schemas.openxmlformats.org/officeDocument/2006/relationships/slide" Target="slide24.xml"/><Relationship Id="rId21" Type="http://schemas.openxmlformats.org/officeDocument/2006/relationships/slide" Target="slide27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16.xml"/><Relationship Id="rId10" Type="http://schemas.openxmlformats.org/officeDocument/2006/relationships/slide" Target="slide20.xml"/><Relationship Id="rId11" Type="http://schemas.openxmlformats.org/officeDocument/2006/relationships/slide" Target="slide18.xml"/><Relationship Id="rId12" Type="http://schemas.openxmlformats.org/officeDocument/2006/relationships/slide" Target="slide21.xml"/><Relationship Id="rId13" Type="http://schemas.openxmlformats.org/officeDocument/2006/relationships/slide" Target="slide24.xml"/><Relationship Id="rId14" Type="http://schemas.openxmlformats.org/officeDocument/2006/relationships/slide" Target="slide4.xml"/><Relationship Id="rId15" Type="http://schemas.openxmlformats.org/officeDocument/2006/relationships/slide" Target="slide10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D05515_" descr=""/>
          <p:cNvPicPr/>
          <p:nvPr/>
        </p:nvPicPr>
        <p:blipFill>
          <a:blip r:embed="rId1"/>
          <a:stretch/>
        </p:blipFill>
        <p:spPr>
          <a:xfrm>
            <a:off x="533520" y="4572000"/>
            <a:ext cx="2286000" cy="1873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90920" y="4114800"/>
            <a:ext cx="3733560" cy="2247840"/>
          </a:xfrm>
          <a:prstGeom prst="wedgeEllipseCallout">
            <a:avLst>
              <a:gd name="adj1" fmla="val 27592"/>
              <a:gd name="adj2" fmla="val -4662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können Sie mit dies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rbeiten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20523600">
            <a:off x="5257800" y="4648320"/>
            <a:ext cx="2063880" cy="990360"/>
          </a:xfrm>
          <a:prstGeom prst="leftArrow">
            <a:avLst>
              <a:gd name="adj1" fmla="val 50000"/>
              <a:gd name="adj2" fmla="val 5209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lick h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2590920" y="4229280"/>
            <a:ext cx="2286000" cy="2057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2590920" y="4114800"/>
            <a:ext cx="3733560" cy="2209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78560" y="5486400"/>
            <a:ext cx="153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zum Anfang der</a:t>
            </a:r>
            <a:br>
              <a:rPr sz="1600"/>
            </a:b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7391520" y="4572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9191" y="3794"/>
                </a:moveTo>
                <a:lnTo>
                  <a:pt x="23204" y="10800"/>
                </a:lnTo>
                <a:lnTo>
                  <a:pt x="91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5520" y="22860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18080" y="15228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Pepita MT"/>
              </a:rPr>
              <a:t>©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rl Döb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971800"/>
            <a:ext cx="838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Unternehmensübergreifende Organisationsform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505320"/>
            <a:ext cx="519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Kooperations- und Globalisierungsstrategie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990720" y="990720"/>
            <a:ext cx="7672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994720" y="380880"/>
            <a:ext cx="29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Interessensgemein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0320" y="762120"/>
            <a:ext cx="50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Interessensgemeinsch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65680" y="1295280"/>
            <a:ext cx="50940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Zusammenschluss von rechtlich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wirtschaftlich selbstständigen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1800" y="2057400"/>
            <a:ext cx="510552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horizontalen Zusammen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auf vertraglicher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4038480"/>
            <a:ext cx="3089160" cy="1313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Wahrung und Förd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dauerhafter gemeinsa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Interess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5257800"/>
            <a:ext cx="3048120" cy="13136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Rationalisieru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Kosteneinsparu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Umsatzsteigerun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2857680"/>
            <a:ext cx="5105520" cy="1008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Gewinne aus den Kooperationsber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werden zusammengele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(Pool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3886200"/>
            <a:ext cx="73152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5105520"/>
            <a:ext cx="525780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65880" y="7632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21587400">
            <a:off x="839520" y="411480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21587400">
            <a:off x="762840" y="541008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ü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13040" y="762120"/>
            <a:ext cx="55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Arbeitsgemeinschaft (AR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65680" y="1295280"/>
            <a:ext cx="50940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Zusammenschluss von rechtlich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wirtschaftlich selbstständigen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2133720"/>
            <a:ext cx="510552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horizontalen Zusammen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auf vertraglicher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66040" y="4038480"/>
            <a:ext cx="47664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urchführung einer bestimmten Auf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3657600"/>
            <a:ext cx="73152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68760" y="380880"/>
            <a:ext cx="21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3300"/>
                </a:solidFill>
                <a:latin typeface="Arial Rounded MT Bold"/>
              </a:rPr>
              <a:t>Arbeitsgemeinsch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4572000"/>
            <a:ext cx="3697200" cy="10087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urchführung einer begrenz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zahl von Verträ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68920" y="5410080"/>
            <a:ext cx="362196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auptsächlich im Baugewer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65880" y="7632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484560" y="439344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867600" y="762120"/>
            <a:ext cx="24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Konsort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1295280"/>
            <a:ext cx="50292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bindung von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uf vertraglicher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71800" y="2209680"/>
            <a:ext cx="5105520" cy="398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eist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horizontalen Zusammen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4038480"/>
            <a:ext cx="396252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urchführung bestimmt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bgegrenzter Pro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3657600"/>
            <a:ext cx="73152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41400" y="38088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3300"/>
                </a:solidFill>
                <a:latin typeface="Arial Rounded MT Bold"/>
              </a:rPr>
              <a:t>Konsort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68200" y="4876920"/>
            <a:ext cx="403344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auptsächlich im Bankengewer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(Konsortialkred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819520"/>
            <a:ext cx="510552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tretung des Konsortiums gegenüber Dritten durch den Konsortialfüh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65880" y="7632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484560" y="439344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807840" y="76212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1800" y="914400"/>
            <a:ext cx="59436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greifendes Netzwerk industrieller Leitbetrie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71800" y="1447920"/>
            <a:ext cx="594360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stärkte Kooperation mit den direkten und indirekten Zuliefer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3886200"/>
            <a:ext cx="50292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 und Kommun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3657600"/>
            <a:ext cx="73152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48960" y="38088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3300"/>
                </a:solidFill>
                <a:latin typeface="Arial Rounded MT Bold"/>
              </a:rPr>
              <a:t>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4343400"/>
            <a:ext cx="502920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Zusammenarbeit im Bereich der Aus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d Weiter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2286000"/>
            <a:ext cx="5943600" cy="1008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nehmen arbeiten in einem einheitlichen Markt und bieten zueinander komplementäre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(sich ergänzende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Leistungen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1" action="ppaction://hlinksldjump"/>
          </p:cNvPr>
          <p:cNvSpPr/>
          <p:nvPr/>
        </p:nvSpPr>
        <p:spPr>
          <a:xfrm>
            <a:off x="8077320" y="518148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4490" y="10800"/>
                </a:moveTo>
                <a:lnTo>
                  <a:pt x="24995" y="3794"/>
                </a:lnTo>
                <a:lnTo>
                  <a:pt x="24995" y="17806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12645" y="3794"/>
                </a:lnTo>
                <a:lnTo>
                  <a:pt x="12645" y="17806"/>
                </a:lnTo>
                <a:lnTo>
                  <a:pt x="10982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03880" y="56689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15560" y="5181480"/>
            <a:ext cx="508788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operationen: F&amp;E, Produktion, Marketi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ogistik, EDV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19520" y="5943600"/>
            <a:ext cx="247176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ternational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65880" y="7632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484560" y="439344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809280" y="762120"/>
            <a:ext cx="14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Kar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1295280"/>
            <a:ext cx="59436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orizontaler Zusammenschluss durch vertragliche Abspra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71800" y="2133720"/>
            <a:ext cx="5943600" cy="398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eine kapitalmäßige Verflech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19520" y="3886200"/>
            <a:ext cx="50292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rktbeherrschung durch Beschränkung des Wettbewer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3657600"/>
            <a:ext cx="73152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50760" y="38088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3300"/>
                </a:solidFill>
                <a:latin typeface="Arial Rounded MT Bold"/>
              </a:rPr>
              <a:t>Kart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819520"/>
            <a:ext cx="59436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Selbstständigkeit bleibt er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4800600"/>
            <a:ext cx="502920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rktbeherrschung durch Beseitigung des Wettbewer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" action="ppaction://hlinkshowjump?jump=nextslide"/>
          </p:cNvPr>
          <p:cNvSpPr/>
          <p:nvPr/>
        </p:nvSpPr>
        <p:spPr>
          <a:xfrm>
            <a:off x="8229600" y="55627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09920" y="563868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ächste Fo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65880" y="7632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484560" y="439344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822600" y="762120"/>
            <a:ext cx="24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Kartella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2120" y="1295280"/>
            <a:ext cx="8153280" cy="8254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Konditionenkartelle</a:t>
            </a:r>
            <a:br>
              <a:rPr sz="28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bsprachen im Bereich Absatz- und Geschäftsbeding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50760" y="38088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3300"/>
                </a:solidFill>
                <a:latin typeface="Arial Rounded MT Bold"/>
              </a:rPr>
              <a:t>Kart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8077320" y="518148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4490" y="10800"/>
                </a:moveTo>
                <a:lnTo>
                  <a:pt x="24995" y="3794"/>
                </a:lnTo>
                <a:lnTo>
                  <a:pt x="24995" y="17806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12645" y="3794"/>
                </a:lnTo>
                <a:lnTo>
                  <a:pt x="12645" y="17806"/>
                </a:lnTo>
                <a:lnTo>
                  <a:pt x="10982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003880" y="56689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2286000"/>
            <a:ext cx="8153280" cy="11304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Preiskartelle</a:t>
            </a:r>
            <a:br>
              <a:rPr sz="28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alkulationskartell, Mindestpreiskartell, Einheitspreiskartell, Rabattkartell, Markenschutzkartell, Submissionskart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2120" y="3657600"/>
            <a:ext cx="8153280" cy="11304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Produktionskartelle</a:t>
            </a:r>
            <a:br>
              <a:rPr sz="28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Normungskartell, Typisierungskartell, Patentverwertungskartell, Kontingentierungskartell, Spezialisierungskart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5029200"/>
            <a:ext cx="6172200" cy="11304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Absatzkartell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rodukte werden über gemeinsame Verkaufsstellen abgesetzt (besonders im Exportbereich anzutreff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65880" y="7632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785160" y="7621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Joint Ven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1295280"/>
            <a:ext cx="59436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operation eines Unternehmens mit ausländischen Partner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1800" y="2133720"/>
            <a:ext cx="5943600" cy="398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ründung eines eigenen Unternehm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3886200"/>
            <a:ext cx="50292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ufeinandertreffen von Vertragspartner aus unterschiedlichen Kulturkrei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3657600"/>
            <a:ext cx="739152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71800" y="2819520"/>
            <a:ext cx="59436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apitalmäßige Beteil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19520" y="4800600"/>
            <a:ext cx="502920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ngelnde Transparenz zwischen den Vertragspartn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8229600" y="55627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009920" y="563868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ächste Fo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05720" y="152280"/>
            <a:ext cx="21891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Joint Ven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19520" y="5715000"/>
            <a:ext cx="403848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Fehlende oder belastete Vertrauens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165960" y="4710960"/>
            <a:ext cx="21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Probl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 rot="19800000">
            <a:off x="853560" y="2747880"/>
            <a:ext cx="8031960" cy="207324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dffefe"/>
              </a:gs>
            </a:gsLst>
            <a:lin ang="5400000"/>
          </a:gra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500" spc="-1" strike="noStrike">
                <a:solidFill>
                  <a:srgbClr val="000000"/>
                </a:solidFill>
                <a:latin typeface="Arial"/>
              </a:rPr>
              <a:t>Gründe die zu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500" spc="-1" strike="noStrike">
                <a:solidFill>
                  <a:srgbClr val="000000"/>
                </a:solidFill>
                <a:latin typeface="Arial"/>
              </a:rPr>
              <a:t>Joint Ventures führen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23280" y="6164280"/>
            <a:ext cx="540504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chtlicher Zwang zur Gründ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6080" y="906480"/>
            <a:ext cx="540648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eilung/Reduzierung von Ris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94160" y="1592280"/>
            <a:ext cx="404100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erringerung/Abbau v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rkteintrittsbarr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72440" y="2735280"/>
            <a:ext cx="601776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mgehung von Handelshemmni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08000" y="3421080"/>
            <a:ext cx="617904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ascher Zugang zu Marktkenntni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1680" y="5554800"/>
            <a:ext cx="621864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ärken der Partner werden gebünd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84840" y="4183200"/>
            <a:ext cx="6060240" cy="947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utzung der Fähigkeiten/Ressourc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es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152280"/>
            <a:ext cx="21891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Joint Ven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803880" y="76212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Konz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1295280"/>
            <a:ext cx="59436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nehmen bleiben rechtlich Selbstständ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1828800"/>
            <a:ext cx="5943600" cy="398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apitalmäßige Verflech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19520" y="3886200"/>
            <a:ext cx="50292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ationalisierung und Kostensenk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3657600"/>
            <a:ext cx="73152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71800" y="2438280"/>
            <a:ext cx="59436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Zusammenschluss unter eine einheitliche Leit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(wirtschaftliche Selbstständigkeit geht verlohr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19520" y="4419720"/>
            <a:ext cx="5029200" cy="398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rktbeherrsc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8229600" y="55627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09920" y="563868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ächste Fo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05720" y="152280"/>
            <a:ext cx="21891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Konz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19520" y="4952880"/>
            <a:ext cx="50292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breiterung der Kapital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6248520"/>
            <a:ext cx="38862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isikostreu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19520" y="5410080"/>
            <a:ext cx="388620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Optimierung der Besteuerung durch Gewinnverlag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382320" y="464724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ü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830880" y="762120"/>
            <a:ext cx="36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Konzern - Begrif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05720" y="152280"/>
            <a:ext cx="21891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Konz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62120" y="1295280"/>
            <a:ext cx="8153280" cy="22885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  <a:ea typeface="Arial"/>
              </a:rPr>
              <a:t>Horizontaler Konz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leiche Branche, gleiche Produktionsstu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  <a:ea typeface="Arial"/>
              </a:rPr>
              <a:t>Vertikaler Konz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leiche Branche, aufeinander folgende Produktionsstu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  <a:ea typeface="Arial"/>
              </a:rPr>
              <a:t>Diagonaler Konz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ranchenfremde Unternehmen, unterschiedliche Produktionsstu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3657600"/>
            <a:ext cx="8153280" cy="9471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Muttergesellschaf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herrschende Gesellscha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Tochtergesellschaf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beherrschte Gesellscha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6172200" cy="18003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Unterordnungskonz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Gleichordnungskonz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H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Multinationale Gesellschaf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705920" y="838080"/>
            <a:ext cx="2742480" cy="6426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Grundla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64840" y="4952880"/>
            <a:ext cx="4005720" cy="6426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Rechtliche</a:t>
            </a: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Fra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6920" y="3962520"/>
            <a:ext cx="1812960" cy="73404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33cc"/>
                </a:solidFill>
                <a:latin typeface="Comic Sans MS"/>
              </a:rPr>
              <a:t>Fus</a:t>
            </a: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de-DE" sz="4200" spc="-1" strike="noStrike">
                <a:solidFill>
                  <a:srgbClr val="3333cc"/>
                </a:solidFill>
                <a:latin typeface="Comic Sans MS"/>
              </a:rPr>
              <a:t>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2880" y="3962520"/>
            <a:ext cx="2265480" cy="73404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33cc"/>
                </a:solidFill>
                <a:latin typeface="Comic Sans MS"/>
              </a:rPr>
              <a:t>Konzer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440" y="2971800"/>
            <a:ext cx="3231720" cy="8251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Joint</a:t>
            </a:r>
            <a:r>
              <a:rPr b="0" lang="de-DE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Ven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600200"/>
            <a:ext cx="8153280" cy="137376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5120" y="5791320"/>
            <a:ext cx="6023880" cy="9475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Wirtschaftliche</a:t>
            </a: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Bedeu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der Kooperations- und Globalisierungsstrateg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66120" y="1600200"/>
            <a:ext cx="29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Interessensgemein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68520" y="1905120"/>
            <a:ext cx="24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Arbeitsgemein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92760" y="228600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Konsort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46400" y="22860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05200" y="2286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Kart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685800" y="175248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4724280" y="838080"/>
            <a:ext cx="2667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5791320" y="1676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791320" y="1981080"/>
            <a:ext cx="2859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4876920" y="23623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BD05515_" descr=""/>
          <p:cNvPicPr/>
          <p:nvPr/>
        </p:nvPicPr>
        <p:blipFill>
          <a:blip r:embed="rId6"/>
          <a:stretch/>
        </p:blipFill>
        <p:spPr>
          <a:xfrm>
            <a:off x="6553080" y="3048120"/>
            <a:ext cx="2286000" cy="187308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620120" y="2362320"/>
            <a:ext cx="99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6477120" y="23623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9" action="ppaction://hlinksldjump"/>
          </p:cNvPr>
          <p:cNvSpPr/>
          <p:nvPr/>
        </p:nvSpPr>
        <p:spPr>
          <a:xfrm>
            <a:off x="533520" y="2971800"/>
            <a:ext cx="3657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0" action="ppaction://hlinksldjump"/>
          </p:cNvPr>
          <p:cNvSpPr/>
          <p:nvPr/>
        </p:nvSpPr>
        <p:spPr>
          <a:xfrm>
            <a:off x="2743200" y="388620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1" action="ppaction://hlinksldjump"/>
          </p:cNvPr>
          <p:cNvSpPr/>
          <p:nvPr/>
        </p:nvSpPr>
        <p:spPr>
          <a:xfrm>
            <a:off x="533520" y="3962520"/>
            <a:ext cx="1904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2" action="ppaction://hlinksldjump"/>
          </p:cNvPr>
          <p:cNvSpPr/>
          <p:nvPr/>
        </p:nvSpPr>
        <p:spPr>
          <a:xfrm>
            <a:off x="1447920" y="49528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3" action="ppaction://hlinksldjump"/>
          </p:cNvPr>
          <p:cNvSpPr/>
          <p:nvPr/>
        </p:nvSpPr>
        <p:spPr>
          <a:xfrm>
            <a:off x="838080" y="57913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4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5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6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7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8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9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20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5029200"/>
            <a:ext cx="1600200" cy="990720"/>
          </a:xfrm>
          <a:prstGeom prst="ellipse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nde d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21" action="ppaction://hlinksldjump"/>
          </p:cNvPr>
          <p:cNvSpPr/>
          <p:nvPr/>
        </p:nvSpPr>
        <p:spPr>
          <a:xfrm>
            <a:off x="6934320" y="5029200"/>
            <a:ext cx="175248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1828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133720"/>
            <a:ext cx="28591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5146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25146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5146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4640" y="762120"/>
            <a:ext cx="23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018440" y="762120"/>
            <a:ext cx="14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71800" y="1295280"/>
            <a:ext cx="59436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urch Verschmelzung von mindestens zwei Unternehmen entsteht ein Groß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71800" y="3429000"/>
            <a:ext cx="5943600" cy="10695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usion durch Neubi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e zusammengeschlossenen Unternehmen bilden eine neue Gesellsch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71800" y="2133720"/>
            <a:ext cx="5943600" cy="10695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usion durch Aufnahm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mögen eines Unternehmens geht im Vermögen eines anderen Unternehmens a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05720" y="152280"/>
            <a:ext cx="21891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6200000">
            <a:off x="-298440" y="2739240"/>
            <a:ext cx="373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099080" y="68580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Rechtliche 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914400" y="1295280"/>
            <a:ext cx="7315200" cy="8254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uropäische Binnenmarkt beruht auf den Grundsätzen der Marktwirt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14400" y="5105520"/>
            <a:ext cx="5943600" cy="11912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usschaltung des Wettbewer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onopolistische Preis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gnation in der Betriebs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14400" y="2743200"/>
            <a:ext cx="7315200" cy="8254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chutz des Wettbewerbes vor Verfälschung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urch entsprechende Geset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48520" y="152280"/>
            <a:ext cx="26463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Rechtliche Fr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14400">
            <a:off x="6781320" y="1752480"/>
            <a:ext cx="1295280" cy="11430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66680" y="40384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Kritik an </a:t>
            </a:r>
            <a:r>
              <a:rPr b="0" lang="de-AT" sz="2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Kooperations- und Globalisierungsstrategi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" action="ppaction://hlinkshowjump?jump=nextslide"/>
          </p:cNvPr>
          <p:cNvSpPr/>
          <p:nvPr/>
        </p:nvSpPr>
        <p:spPr>
          <a:xfrm>
            <a:off x="8305920" y="54864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86240" y="556272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ächste Fo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870480" y="76212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Rechtliche 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5480" y="1228680"/>
            <a:ext cx="8229600" cy="20444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U: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G-Kartellre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t.81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s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le unternehmerischen Verhaltensweisen, die eine Verhinderung, Einschränkung oder Verfälschung des Wettbewerbs bezwecken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84080" y="3416400"/>
            <a:ext cx="8229600" cy="26236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Österreich: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artellgesetz 198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in der Fassung der Kartellgesetz-Novelle 199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ru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uf den Richtlinien der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schnitte über Kartelle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tikale Vertriebsbindungen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ktbeherrschende Unternehmen und Zusammenschlü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Kartellgerich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 Oberlandesgericht Wien für das gesamte Bundesgebiet</a:t>
            </a:r>
            <a:r>
              <a:rPr b="0" lang="de-A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48520" y="152280"/>
            <a:ext cx="26463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Rechtliche Fr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>
            <a:hlinkClick r:id="" action="ppaction://hlinkshowjump?jump=nextslide"/>
          </p:cNvPr>
          <p:cNvSpPr/>
          <p:nvPr/>
        </p:nvSpPr>
        <p:spPr>
          <a:xfrm>
            <a:off x="624852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028840" y="617220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ächste Fo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946440" y="83808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Rechtliche 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1981080"/>
            <a:ext cx="4038480" cy="28382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i horizontalen Vereinba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alkulationsverfahrenskartelle, Rabattkartell, Konditionenkartell, Kooperationskartell, Exportkartelle, Einkaufskartell, Spezialisierungskartelle, Normungskartell, Typsierungskart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48520" y="152280"/>
            <a:ext cx="26463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Rechtliche Fr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45120" y="14428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meldungspflichtige Kartellar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76920" y="1981080"/>
            <a:ext cx="4038480" cy="28382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i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ertikalen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Vereinba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bsprachen über die Festsetzung von Wiederverkaufspreisen, Gebietsschutzabspra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38280" y="5029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reistellung vom Kartellverb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14400" y="541008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  <a:ea typeface="Arial"/>
              </a:rPr>
              <a:t>Maßnahmen der Warenerzeugung oder –vertei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  <a:ea typeface="Arial"/>
              </a:rPr>
              <a:t>Förderung des technischen oder wirtschaftlichen Fortschrit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 rot="19800000">
            <a:off x="638280" y="2900520"/>
            <a:ext cx="8239320" cy="155484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dffefe"/>
              </a:gs>
            </a:gsLst>
            <a:lin ang="5400000"/>
          </a:gra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Vorteile der Kooperations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und Globalisierungsstrategi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24120" y="4038480"/>
            <a:ext cx="262836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ößenvorteil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46720" y="2057400"/>
            <a:ext cx="668952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zielung von externen Synergieeffekte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1480" y="2666880"/>
            <a:ext cx="80521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ärkung der Markt- bzw. Wettbewerbspositione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87640" y="4343400"/>
            <a:ext cx="253692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ostenvorte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92160" y="3352680"/>
            <a:ext cx="790272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onzentration auf spezielle Wettbewerbsstärk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9280" y="914400"/>
            <a:ext cx="5438520" cy="8557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Comic Sans MS"/>
              </a:rPr>
              <a:t>Wirtschaftliche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3333cc"/>
                </a:solidFill>
                <a:latin typeface="Comic Sans MS"/>
              </a:rPr>
              <a:t>Bedeu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der Kooperations- und Globalisierungsstrate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48160" y="5181480"/>
            <a:ext cx="603576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isikoteilung und Risikobegrenzu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>
            <a:hlinkClick r:id="" action="ppaction://hlinkshowjump?jump=nextslide"/>
          </p:cNvPr>
          <p:cNvSpPr/>
          <p:nvPr/>
        </p:nvSpPr>
        <p:spPr>
          <a:xfrm>
            <a:off x="624852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8840" y="617220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ächste Fo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 rot="19800000">
            <a:off x="638280" y="2900520"/>
            <a:ext cx="8239320" cy="155484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dffefe"/>
              </a:gs>
            </a:gsLst>
            <a:lin ang="5400000"/>
          </a:gra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Nachteile der Kooperations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und Globalisierungsstrategi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25560" y="4038480"/>
            <a:ext cx="60721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eitergabe des e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gene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 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now-how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de-A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0160" y="1905120"/>
            <a:ext cx="839196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nschränkung des eigenen Handlungsspielraum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4640" y="2658960"/>
            <a:ext cx="594288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itschleppung von „Trittbrettfahrern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499280" y="4648320"/>
            <a:ext cx="380304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oordination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aufwand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9760" y="3352680"/>
            <a:ext cx="615924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nzureichende Kontrollmöglichkei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19280" y="914400"/>
            <a:ext cx="5438520" cy="8557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Comic Sans MS"/>
              </a:rPr>
              <a:t>Wirtschaftliche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3333cc"/>
                </a:solidFill>
                <a:latin typeface="Comic Sans MS"/>
              </a:rPr>
              <a:t>Bedeu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der Kooperations- und Globalisierungsstrate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16200" y="5334120"/>
            <a:ext cx="6516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: Partnersuche, Verhandlunge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899360" y="2666880"/>
            <a:ext cx="545832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Gehen Sie die Präsentation gan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nfach der Reihe nach d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29440" y="914400"/>
            <a:ext cx="7143840" cy="1557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Verwenden Sie die Hyperli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zu den einzelnen Begriff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(in der Folie oder in der Übersicht am linken Folienr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914400" y="4038480"/>
            <a:ext cx="6099120" cy="1557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rucken Sie Fol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(farbig oder schwarz-wei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Für den OH-Projektor a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378560" y="5486400"/>
            <a:ext cx="153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zum Anfang der</a:t>
            </a:r>
            <a:br>
              <a:rPr sz="1600"/>
            </a:b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91520" y="4572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9191" y="3794"/>
                </a:moveTo>
                <a:lnTo>
                  <a:pt x="23204" y="10800"/>
                </a:lnTo>
                <a:lnTo>
                  <a:pt x="91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8"/>
          <a:stretch/>
        </p:blipFill>
        <p:spPr>
          <a:xfrm>
            <a:off x="762120" y="1066680"/>
            <a:ext cx="8153280" cy="266724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1914480" y="2863800"/>
            <a:ext cx="593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9933"/>
                </a:solidFill>
                <a:latin typeface="Arial"/>
              </a:rPr>
              <a:t>Ihr Partner in Sach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9933"/>
                </a:solidFill>
                <a:latin typeface="Arial"/>
              </a:rPr>
              <a:t>Schulbu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600200" y="1219320"/>
            <a:ext cx="380880" cy="304560"/>
          </a:xfrm>
          <a:prstGeom prst="rect">
            <a:avLst/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rot="19945800">
            <a:off x="858960" y="2518920"/>
            <a:ext cx="7926840" cy="2468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dffefe"/>
              </a:gs>
            </a:gsLst>
            <a:lin ang="5400000"/>
          </a:gra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5200" spc="-1" strike="noStrike">
                <a:solidFill>
                  <a:srgbClr val="000000"/>
                </a:solidFill>
                <a:latin typeface="Arial"/>
              </a:rPr>
              <a:t>Gründe für die Entstehung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5200" spc="-1" strike="noStrike">
                <a:solidFill>
                  <a:srgbClr val="000000"/>
                </a:solidFill>
                <a:latin typeface="Arial"/>
              </a:rPr>
              <a:t>Von Kooperations- und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5200" spc="-1" strike="noStrike">
                <a:solidFill>
                  <a:srgbClr val="000000"/>
                </a:solidFill>
                <a:latin typeface="Arial"/>
              </a:rPr>
              <a:t>Globalisierungsaktivitäten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2360" y="5410080"/>
            <a:ext cx="567324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Ausnutzung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des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Größenvorte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1520" y="914400"/>
            <a:ext cx="454536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Globalisierung der Mär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45800" y="1143000"/>
            <a:ext cx="33598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Globale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Reichwe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42560" y="1752480"/>
            <a:ext cx="395568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Wettbewerbszunah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362320"/>
            <a:ext cx="27684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Kostensenk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1040" y="2955960"/>
            <a:ext cx="5978160" cy="947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Verkürzung von Entwicklungs-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Produktionszyk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35600" y="3962520"/>
            <a:ext cx="63910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Technologie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und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Ressourcenzu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62120" y="2209680"/>
            <a:ext cx="343152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Steuerliche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Vorte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7760" y="6095880"/>
            <a:ext cx="5965560" cy="5814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Aufbringung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hoher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Kapitalbeträ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920" y="4648320"/>
            <a:ext cx="6563160" cy="5814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Änderungen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im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Verbraucherverhal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37880" y="152280"/>
            <a:ext cx="160884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423680" y="4952880"/>
            <a:ext cx="451512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Geografische Ausrich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der Alli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920" y="3429000"/>
            <a:ext cx="3416040" cy="1373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Inhalt der Alli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Bereiche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685800" y="3429000"/>
            <a:ext cx="3352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905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ereinbarungen zwischen zwei oder mehreren Unternehmen, auf ga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stimmten Gebieten mehr oder weniger e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zusammenzuarbei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41640" y="5562720"/>
            <a:ext cx="303984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Umfang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89960" y="3048120"/>
            <a:ext cx="3039840" cy="947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Richtungen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0400" y="4267080"/>
            <a:ext cx="346176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Dauer der Alli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74320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3048120"/>
            <a:ext cx="457200" cy="2057400"/>
          </a:xfrm>
          <a:prstGeom prst="downArrow">
            <a:avLst>
              <a:gd name="adj1" fmla="val 50000"/>
              <a:gd name="adj2" fmla="val 1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04812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1880" y="2590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362320"/>
            <a:ext cx="8381880" cy="622080"/>
          </a:xfrm>
          <a:custGeom>
            <a:avLst/>
            <a:gdLst/>
            <a:ahLst/>
            <a:rect l="l" t="t" r="r" b="b"/>
            <a:pathLst>
              <a:path w="5286" h="440">
                <a:moveTo>
                  <a:pt x="0" y="42"/>
                </a:moveTo>
                <a:cubicBezTo>
                  <a:pt x="169" y="88"/>
                  <a:pt x="593" y="248"/>
                  <a:pt x="1017" y="313"/>
                </a:cubicBezTo>
                <a:cubicBezTo>
                  <a:pt x="1437" y="385"/>
                  <a:pt x="2077" y="440"/>
                  <a:pt x="2544" y="432"/>
                </a:cubicBezTo>
                <a:cubicBezTo>
                  <a:pt x="3011" y="424"/>
                  <a:pt x="3369" y="408"/>
                  <a:pt x="3805" y="336"/>
                </a:cubicBezTo>
                <a:cubicBezTo>
                  <a:pt x="4161" y="285"/>
                  <a:pt x="4577" y="217"/>
                  <a:pt x="4803" y="161"/>
                </a:cubicBezTo>
                <a:cubicBezTo>
                  <a:pt x="5050" y="105"/>
                  <a:pt x="5185" y="34"/>
                  <a:pt x="5286" y="0"/>
                </a:cubicBezTo>
              </a:path>
            </a:pathLst>
          </a:custGeom>
          <a:noFill/>
          <a:ln w="792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1219320" y="5562720"/>
            <a:ext cx="3047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4419720" y="4952880"/>
            <a:ext cx="4495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5105520" y="42670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5943600" y="3048120"/>
            <a:ext cx="2971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6" action="ppaction://hlinksldjump"/>
          </p:cNvPr>
          <p:cNvSpPr/>
          <p:nvPr/>
        </p:nvSpPr>
        <p:spPr>
          <a:xfrm>
            <a:off x="6068880" y="6039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95800" y="6526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9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0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1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2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838080"/>
            <a:ext cx="8153280" cy="137376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Arial"/>
              </a:rPr>
              <a:t>Strategische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3333cc"/>
                </a:solidFill>
                <a:latin typeface="Arial"/>
              </a:rPr>
              <a:t>Allianz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6120" y="838080"/>
            <a:ext cx="29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Interessensgemein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8520" y="1143000"/>
            <a:ext cx="24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Arbeitsgemein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92760" y="152388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Konsort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46400" y="1523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05200" y="15238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Kart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14" action="ppaction://hlinksldjump"/>
          </p:cNvPr>
          <p:cNvSpPr/>
          <p:nvPr/>
        </p:nvSpPr>
        <p:spPr>
          <a:xfrm>
            <a:off x="685800" y="99072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15" action="ppaction://hlinksldjump"/>
          </p:cNvPr>
          <p:cNvSpPr/>
          <p:nvPr/>
        </p:nvSpPr>
        <p:spPr>
          <a:xfrm>
            <a:off x="5791320" y="914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16" action="ppaction://hlinksldjump"/>
          </p:cNvPr>
          <p:cNvSpPr/>
          <p:nvPr/>
        </p:nvSpPr>
        <p:spPr>
          <a:xfrm>
            <a:off x="5791320" y="1219320"/>
            <a:ext cx="28591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16002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0120" y="1600200"/>
            <a:ext cx="99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16002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914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219320"/>
            <a:ext cx="28591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16002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600200"/>
            <a:ext cx="99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16002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15238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1523880"/>
            <a:ext cx="99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3048120"/>
            <a:ext cx="457200" cy="2819160"/>
          </a:xfrm>
          <a:prstGeom prst="downArrow">
            <a:avLst>
              <a:gd name="adj1" fmla="val 50000"/>
              <a:gd name="adj2" fmla="val 15415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354720" y="22860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92840" y="982800"/>
            <a:ext cx="3210480" cy="1373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halt der Alli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reiche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2514600"/>
            <a:ext cx="853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Erhaltung und/oder der Ausbau von Wettbewerbsvorte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Know-how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Lizenz-, Liefer-, Vertriebs-, Beratungs-,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sabkommen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Vertragliche Willenserklärung zur gegenseitigen Beacht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Gemeinsame Nutzung von Produktionsanlagen, Materialwirtschaft, Marketing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orschung und Entwicklung, Personal, EDV-Nutzu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4191120" y="6248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10800"/>
                </a:moveTo>
                <a:lnTo>
                  <a:pt x="28598" y="3794"/>
                </a:lnTo>
                <a:lnTo>
                  <a:pt x="2859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352680"/>
            <a:ext cx="792468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4876920"/>
            <a:ext cx="792468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4876920"/>
            <a:ext cx="792468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3124080"/>
            <a:ext cx="8381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wirtschaftliche und rechtl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Selbstständigkeit bleibt erhal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rechtliche Selbstständigkeit bleibt erhalten, die wirtschaftliche Selbständigkeit wird in den Kooperationsbereichen teilweise oder ganz aufge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Dabei verringert sich meist die Entscheidungsautonomie in den Kooperationsberei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19112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8040" y="914400"/>
            <a:ext cx="2850840" cy="947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mfang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2133720"/>
            <a:ext cx="2819520" cy="838080"/>
          </a:xfrm>
          <a:prstGeom prst="leftRightArrow">
            <a:avLst>
              <a:gd name="adj1" fmla="val 50000"/>
              <a:gd name="adj2" fmla="val 66974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54720" y="22860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1587400">
            <a:off x="838800" y="220932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ehr l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21587400">
            <a:off x="6172560" y="220968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ehr intensi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19112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07320" y="1287360"/>
            <a:ext cx="4278600" cy="947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eografische Ausrich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er Alli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991400">
            <a:off x="1639440" y="2305080"/>
            <a:ext cx="914400" cy="2057400"/>
          </a:xfrm>
          <a:prstGeom prst="downArrow">
            <a:avLst>
              <a:gd name="adj1" fmla="val 50000"/>
              <a:gd name="adj2" fmla="val 5625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9404600">
            <a:off x="6680160" y="2293560"/>
            <a:ext cx="914400" cy="2057400"/>
          </a:xfrm>
          <a:prstGeom prst="downArrow">
            <a:avLst>
              <a:gd name="adj1" fmla="val 50000"/>
              <a:gd name="adj2" fmla="val 5625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21590400">
            <a:off x="4114800" y="2360520"/>
            <a:ext cx="914400" cy="1828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54720" y="22860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21587400">
            <a:off x="838440" y="4419360"/>
            <a:ext cx="18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21587400">
            <a:off x="3429360" y="4419720"/>
            <a:ext cx="269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21587400">
            <a:off x="6858360" y="441972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419112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53880" y="182880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itliche Begren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991400">
            <a:off x="3200040" y="2362320"/>
            <a:ext cx="914400" cy="13716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9620000">
            <a:off x="4952520" y="2361960"/>
            <a:ext cx="914400" cy="13716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94040" y="1287360"/>
            <a:ext cx="330804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auer der Alli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54720" y="22860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21587400">
            <a:off x="1065600" y="4052520"/>
            <a:ext cx="34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kurzfristi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Vereinbaru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21587400">
            <a:off x="5028120" y="4052520"/>
            <a:ext cx="34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langfristi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Vereinbaru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419112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64760" y="1287360"/>
            <a:ext cx="2850840" cy="947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ichtungen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991400">
            <a:off x="1904760" y="2362320"/>
            <a:ext cx="914400" cy="13716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404600">
            <a:off x="6553080" y="2361960"/>
            <a:ext cx="914400" cy="13716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590400">
            <a:off x="4191120" y="2362320"/>
            <a:ext cx="914400" cy="13716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5760" y="4648320"/>
            <a:ext cx="21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nerhalb dersel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ran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5400" y="46483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Lieferan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K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79640" y="46483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schäftspartner a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deren Bran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54720" y="22860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38862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10600" y="388620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Verti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1587400">
            <a:off x="6781320" y="3809520"/>
            <a:ext cx="19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Diag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1:56:32Z</dcterms:created>
  <dc:creator>Mag. Döberl Karl</dc:creator>
  <dc:description/>
  <dc:language>en-US</dc:language>
  <cp:lastModifiedBy>Mag. Döberl Karl</cp:lastModifiedBy>
  <dcterms:modified xsi:type="dcterms:W3CDTF">2002-10-18T19:16:53Z</dcterms:modified>
  <cp:revision>98</cp:revision>
  <dc:subject/>
  <dc:title>PowerPoint-Präsentation</dc:title>
</cp:coreProperties>
</file>