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5E4-D37F-429B-8F51-3FD2BCC3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591-86C3-459F-882C-5BD7AC3E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890-9704-4B5C-960D-55920C06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343-5C46-4E6E-8A47-A0F4397E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8C3-8B08-4CD6-9356-E47C23A2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3E0-18A2-4EE1-82F7-CFFDB541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862-089D-4F14-93AA-94EAACD7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B47-9A33-44C4-8BB7-7E38AAE3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557-CA55-40A6-8BB8-BF626FA7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46F-00C6-47BF-985E-DB9D3D45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651-631F-40C3-8781-5338D585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E95-C13E-4FBA-8C46-C0FA1952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050F-B6E0-47C4-B147-02E0986AF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-eu.amazon.com/images/P/B000A85P70.03.LZZZZZZZ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5000" y="0"/>
            <a:ext cx="4903920" cy="9367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gemeines Aufbauschema am Beispiel einer Anf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3280" y="118728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um geht‘s: Was soll im Brieftext steh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440" y="1763640"/>
            <a:ext cx="1817640" cy="642600"/>
          </a:xfrm>
          <a:prstGeom prst="rect">
            <a:avLst/>
          </a:prstGeom>
          <a:solidFill>
            <a:srgbClr val="f6fca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geme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bau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26080" y="1835280"/>
            <a:ext cx="1983600" cy="368280"/>
          </a:xfrm>
          <a:prstGeom prst="rect">
            <a:avLst/>
          </a:prstGeom>
          <a:solidFill>
            <a:srgbClr val="f6fca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spiel Anf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9160" y="2492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re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27520" y="2484360"/>
            <a:ext cx="33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 der Ware (z.B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Anfrage MP3-Player/512 MB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92280"/>
            <a:ext cx="476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0028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5910120"/>
            <a:ext cx="6990480" cy="3234960"/>
            <a:chOff x="0" y="5910120"/>
            <a:chExt cx="6990480" cy="3234960"/>
          </a:xfrm>
        </p:grpSpPr>
        <p:sp>
          <p:nvSpPr>
            <p:cNvPr id="50" name=""/>
            <p:cNvSpPr/>
            <p:nvPr/>
          </p:nvSpPr>
          <p:spPr>
            <a:xfrm>
              <a:off x="2927520" y="7645320"/>
              <a:ext cx="25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fangreicher Auftra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itere Aufträg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28240" y="6773760"/>
              <a:ext cx="406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tte um sofortiges Angebo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tte um möglichst günstiges Angebo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28960" y="5910120"/>
              <a:ext cx="375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r wenn ich unübliche Info, Unter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gen wünsche (z.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7000" y="591012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gründ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5920" y="7638840"/>
              <a:ext cx="198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öglich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l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8800" y="677376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warte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k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8080" y="8502480"/>
              <a:ext cx="175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rben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lussform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26440" y="8574120"/>
              <a:ext cx="24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ußformel reicht au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5910120"/>
              <a:ext cx="47628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6773760"/>
              <a:ext cx="47628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7638840"/>
              <a:ext cx="476280" cy="35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8574120"/>
              <a:ext cx="47628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9000" y="871848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92280" y="78548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720" y="61261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37000" y="69897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0" y="3276720"/>
            <a:ext cx="6430680" cy="2192400"/>
            <a:chOff x="0" y="3276720"/>
            <a:chExt cx="6430680" cy="2192400"/>
          </a:xfrm>
        </p:grpSpPr>
        <p:sp>
          <p:nvSpPr>
            <p:cNvPr id="67" name=""/>
            <p:cNvSpPr/>
            <p:nvPr/>
          </p:nvSpPr>
          <p:spPr>
            <a:xfrm>
              <a:off x="476280" y="327672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lass de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reib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7000" y="427788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igen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lie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29320" y="3276720"/>
              <a:ext cx="350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nweis auf Homepage, Katalog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mpfehlung von Freunde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28960" y="4277880"/>
              <a:ext cx="3260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he Informationen will ich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allgemeine Inf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spezielle 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3420720"/>
              <a:ext cx="47628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285800"/>
              <a:ext cx="47628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60640" y="3492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65360" y="442872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Maxfield G-Flash Tragbarer MP3-Player 512 MB schwar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332000"/>
            <a:ext cx="15238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20:48:07Z</dcterms:created>
  <dc:creator>Mike</dc:creator>
  <dc:description/>
  <dc:language>en-US</dc:language>
  <cp:lastModifiedBy>cegull</cp:lastModifiedBy>
  <dcterms:modified xsi:type="dcterms:W3CDTF">2006-03-02T16:07:32Z</dcterms:modified>
  <cp:revision>44</cp:revision>
  <dc:subject/>
  <dc:title>Schreibstil in Geschäftsbriefen</dc:title>
</cp:coreProperties>
</file>