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33DB-580C-436B-B89E-D5315834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A0A8-D7D4-414C-8D88-B78D1A82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6153-01E5-4CDA-A177-E7C99912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6CC7-F927-4555-BE41-77FBC1DF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057D-8752-48B0-BB6F-160BE93F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48A7-7CF7-41D6-8CDF-653168C7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0902-767D-4145-A46C-DD778880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E8B7-D09E-4E82-95C5-04D32CC8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F99C-96D2-4338-B1D7-B75567A8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30E0-7CAB-41F0-A117-FE395C5A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59E7-85DD-47EF-8C9F-30404D5B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B82D-765F-42BA-9819-647B9590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E7D8-4384-4683-9291-FF088347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EC48-9080-405B-9614-45C93B42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72A5-9B48-469B-A22E-EE4CFAD2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307C-51C5-429D-A342-55F93C11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EFFD-C41B-43B8-B3B3-ACD3D6C9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7002-D003-4399-A75E-9C2CB8FC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BDC7-5A39-4064-845F-2BC71A52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2EC2-94FC-40C9-AE20-D59C0A8B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94FC-D90C-46D6-99C0-91EE9AF6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396-2AB4-497D-849A-B5F3DEE0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308-88A0-40DC-A4FE-8B8968C2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D337-4222-4514-9D02-1503432F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E0FB-33A4-4F5D-93AA-6FB37C8E28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040" y="414972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811B-34D9-4080-9A6C-11E640A871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6040" y="414972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Buchungen im Zusammenhang mit de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8920" y="5132160"/>
            <a:ext cx="88362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Bankkont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ffffff"/>
                </a:solidFill>
                <a:latin typeface="Arial"/>
              </a:rPr>
              <a:t>Abschlussposte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Vierteljährlich werden Zinsen und Bankspesen abgerechn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Folgende Verbuchungen können anfall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Guthabenzinsen („Habenzinsen“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Kapitalertragssteuer („KESt“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Schuldzinsen („Sollzinsen“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Spesen, Provisionen, Gebühren, 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43280" y="73080"/>
            <a:ext cx="45007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ffffff"/>
                </a:solidFill>
                <a:latin typeface="Arial"/>
              </a:rPr>
              <a:t>Abschlussposten: Guthabenzins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Für ein Guthaben auf dem Konto erhält man Zinsen (=Zinserträg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Guthabenzinsen bezeichnet man auch als „Habenzinsen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Die Zinserträge werden auf dem </a:t>
            </a:r>
            <a:r>
              <a:rPr b="0" lang="de-AT" sz="3200" spc="-1" strike="noStrike">
                <a:solidFill>
                  <a:srgbClr val="ff3300"/>
                </a:solidFill>
                <a:latin typeface="Verdana"/>
              </a:rPr>
              <a:t>Konto 8100 Zinserträge </a:t>
            </a:r>
            <a:r>
              <a:rPr b="0" lang="de-AT" sz="2200" spc="-1" strike="noStrike">
                <a:solidFill>
                  <a:srgbClr val="ff3300"/>
                </a:solidFill>
                <a:latin typeface="Verdana"/>
              </a:rPr>
              <a:t>aus Bankguthaben</a:t>
            </a:r>
            <a:r>
              <a:rPr b="0" lang="de-AT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verbuch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08000" y="5372280"/>
            <a:ext cx="9036000" cy="649080"/>
          </a:xfrm>
          <a:prstGeom prst="rect">
            <a:avLst/>
          </a:prstGeom>
          <a:solidFill>
            <a:srgbClr val="001968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2800 Bank / 8100 Zinserträge </a:t>
            </a: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aus Bankguthab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885080" y="1052640"/>
            <a:ext cx="10098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ffffff"/>
                </a:solidFill>
                <a:latin typeface="Arial"/>
              </a:rPr>
              <a:t>Abschlussposten: K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Für Guthabenzinsen muss man Kapitalertragssteuer (KESt) bezahl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 u="sng">
                <a:solidFill>
                  <a:srgbClr val="f4d1c8"/>
                </a:solidFill>
                <a:uFillTx/>
                <a:latin typeface="Verdana"/>
                <a:hlinkClick r:id="rId2" action="ppaction://hlinksldjump"/>
              </a:rPr>
              <a:t>25 %</a:t>
            </a:r>
            <a:r>
              <a:rPr b="0" lang="de-AT" sz="3200" spc="-1" strike="noStrike" u="sng">
                <a:solidFill>
                  <a:srgbClr val="f4d1c8"/>
                </a:solidFill>
                <a:uFillTx/>
                <a:latin typeface="Verdana"/>
                <a:hlinkClick r:id="rId3" action="ppaction://hlinksldjump"/>
              </a:rPr>
              <a:t> </a:t>
            </a: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der Zinsgutschrif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wird direkt von der Bank einbehalten und ans Finanzamt abgefüh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Die Zinserträge werden dadurch verringer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108000" y="5587920"/>
            <a:ext cx="9036000" cy="649440"/>
          </a:xfrm>
          <a:prstGeom prst="rect">
            <a:avLst/>
          </a:prstGeom>
          <a:solidFill>
            <a:srgbClr val="001968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8100 Zinserträge </a:t>
            </a: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aus Bankguthaben </a:t>
            </a: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/ 2800 Ba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ffffff"/>
                </a:solidFill>
                <a:latin typeface="Arial"/>
              </a:rPr>
              <a:t>Abschlussposten: Schuldzins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Überzieht man sein Konto, so muss man Zinsen bezahlen (=Zinsaufwand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Schuldzinsen bezeichnet man auch als „Sollzinsen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Die Zinsaufwände werden auf dem </a:t>
            </a:r>
            <a:r>
              <a:rPr b="0" lang="de-AT" sz="3200" spc="-1" strike="noStrike">
                <a:solidFill>
                  <a:srgbClr val="ff3300"/>
                </a:solidFill>
                <a:latin typeface="Verdana"/>
              </a:rPr>
              <a:t>Konto 8280 Zinsaufwand </a:t>
            </a:r>
            <a:r>
              <a:rPr b="0" lang="de-AT" sz="2200" spc="-1" strike="noStrike">
                <a:solidFill>
                  <a:srgbClr val="ff3300"/>
                </a:solidFill>
                <a:latin typeface="Verdana"/>
              </a:rPr>
              <a:t>für Bankkredite</a:t>
            </a:r>
            <a:r>
              <a:rPr b="0" lang="de-AT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verbuch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108000" y="5373720"/>
            <a:ext cx="9036000" cy="649080"/>
          </a:xfrm>
          <a:prstGeom prst="rect">
            <a:avLst/>
          </a:prstGeom>
          <a:solidFill>
            <a:srgbClr val="001968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8280 Zinsaufwand </a:t>
            </a: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für Bankkredite </a:t>
            </a: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2800 Ban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740720" y="154080"/>
            <a:ext cx="140328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ffffff"/>
                </a:solidFill>
                <a:latin typeface="Arial"/>
              </a:rPr>
              <a:t>Abschlussposten: Spesen, Provisionen,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Die Bank berechnet für seine Arbeiten Provisionen, Gebühren und Spes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Diese werden </a:t>
            </a:r>
            <a:r>
              <a:rPr b="0" lang="de-AT" sz="3200" spc="-1" strike="noStrike" u="sng">
                <a:solidFill>
                  <a:srgbClr val="ffffff"/>
                </a:solidFill>
                <a:uFillTx/>
                <a:latin typeface="Verdana"/>
              </a:rPr>
              <a:t>alle</a:t>
            </a: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 auf dem </a:t>
            </a:r>
            <a:r>
              <a:rPr b="0" lang="de-AT" sz="3200" spc="-1" strike="noStrike">
                <a:solidFill>
                  <a:srgbClr val="ff3300"/>
                </a:solidFill>
                <a:latin typeface="Verdana"/>
              </a:rPr>
              <a:t>Konto 7790 Spesen des Geldverkehrs </a:t>
            </a: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verbuch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36360" y="4797360"/>
            <a:ext cx="9144000" cy="649440"/>
          </a:xfrm>
          <a:prstGeom prst="rect">
            <a:avLst/>
          </a:prstGeom>
          <a:solidFill>
            <a:srgbClr val="001968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7790 Spesen des Geldverkehrs /2800 Ba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308720" y="3141720"/>
            <a:ext cx="1835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5719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42920" y="3068640"/>
            <a:ext cx="7850160" cy="216000"/>
          </a:xfrm>
          <a:prstGeom prst="rect">
            <a:avLst/>
          </a:prstGeom>
          <a:noFill/>
          <a:ln cap="sq"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42920" y="2637000"/>
            <a:ext cx="7850160" cy="431640"/>
          </a:xfrm>
          <a:prstGeom prst="rect">
            <a:avLst/>
          </a:prstGeom>
          <a:noFill/>
          <a:ln cap="sq"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3429000"/>
            <a:ext cx="8496000" cy="398880"/>
          </a:xfrm>
          <a:prstGeom prst="rect">
            <a:avLst/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Verdana"/>
              </a:rPr>
              <a:t>8280 Bankzinsen / 2800 Bank          8.569,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4027320"/>
            <a:ext cx="8496000" cy="398880"/>
          </a:xfrm>
          <a:prstGeom prst="rect">
            <a:avLst/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Verdana"/>
              </a:rPr>
              <a:t>7790 Spesen des Geldverkehrs / 2800 Bank     1.689,5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5219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755640" y="3019320"/>
            <a:ext cx="7920000" cy="398880"/>
          </a:xfrm>
          <a:prstGeom prst="rect">
            <a:avLst/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Verdana"/>
              </a:rPr>
              <a:t>2800 Bank / 8100 Zinserträge          31,6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5640" y="3573360"/>
            <a:ext cx="7920000" cy="398880"/>
          </a:xfrm>
          <a:prstGeom prst="rect">
            <a:avLst/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Verdana"/>
              </a:rPr>
              <a:t>8100 Zinserträge / 2800 Bank    7,9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4202280"/>
            <a:ext cx="8496000" cy="398880"/>
          </a:xfrm>
          <a:prstGeom prst="rect">
            <a:avLst/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Verdana"/>
              </a:rPr>
              <a:t>7790 Spesen des Geldverkehrs / 2800 Bank          162,7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63640" y="2637000"/>
            <a:ext cx="7129440" cy="287280"/>
          </a:xfrm>
          <a:prstGeom prst="rect">
            <a:avLst/>
          </a:prstGeom>
          <a:noFill/>
          <a:ln cap="sq"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2492280"/>
            <a:ext cx="7129440" cy="216000"/>
          </a:xfrm>
          <a:prstGeom prst="rect">
            <a:avLst/>
          </a:prstGeom>
          <a:noFill/>
          <a:ln cap="sq"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2060640"/>
            <a:ext cx="7129440" cy="431640"/>
          </a:xfrm>
          <a:prstGeom prst="rect">
            <a:avLst/>
          </a:prstGeom>
          <a:noFill/>
          <a:ln cap="sq"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6040" y="414972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Buchungen im Zusammenhang mit de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78920" y="5132160"/>
            <a:ext cx="88362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Bankkont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351080" y="0"/>
            <a:ext cx="675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ffffff"/>
                </a:solidFill>
                <a:latin typeface="Arial"/>
              </a:rPr>
              <a:t>Barverkehr mit Bank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Geschäftsfal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Bareinzahlung bei der Bank od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Barabhebung von der Ban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Es entstehen zwei Bele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Kassabeleg (K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Bankbeleg (B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Alle Belege müssen verbucht werden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 u="sng">
                <a:solidFill>
                  <a:srgbClr val="ffffff"/>
                </a:solidFill>
                <a:uFillTx/>
                <a:latin typeface="Arial"/>
              </a:rPr>
              <a:t>Barverkehr:</a:t>
            </a:r>
            <a:r>
              <a:rPr b="0" lang="de-AT" sz="4000" spc="-1" strike="noStrike">
                <a:solidFill>
                  <a:srgbClr val="ffffff"/>
                </a:solidFill>
                <a:latin typeface="Arial"/>
              </a:rPr>
              <a:t> Bareinzahlu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796000" y="2997360"/>
          <a:ext cx="3168720" cy="23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0" y="2997360"/>
                    <a:ext cx="3168720" cy="23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08000" y="3141720"/>
            <a:ext cx="1944720" cy="1920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9280" y="52261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Verdana"/>
              </a:rPr>
              <a:t>KAS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88000" y="530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Verdana"/>
              </a:rPr>
              <a:t>BA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195640" y="3213000"/>
          <a:ext cx="1143000" cy="15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3213000"/>
                    <a:ext cx="114300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124000" y="4869000"/>
            <a:ext cx="3600360" cy="360360"/>
          </a:xfrm>
          <a:prstGeom prst="rightArrow">
            <a:avLst>
              <a:gd name="adj1" fmla="val 50000"/>
              <a:gd name="adj2" fmla="val 249775"/>
            </a:avLst>
          </a:prstGeom>
          <a:solidFill>
            <a:srgbClr val="77804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0" y="2565360"/>
            <a:ext cx="5362560" cy="3409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55640" y="5407200"/>
            <a:ext cx="3240000" cy="459720"/>
          </a:xfrm>
          <a:prstGeom prst="rect">
            <a:avLst/>
          </a:prstGeom>
          <a:solidFill>
            <a:srgbClr val="dddddd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3300"/>
                </a:solidFill>
                <a:latin typeface="Verdana"/>
              </a:rPr>
              <a:t>KASSABELEG 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2560680" y="2205000"/>
            <a:ext cx="6583320" cy="3876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72000" y="4365720"/>
            <a:ext cx="3240000" cy="459720"/>
          </a:xfrm>
          <a:prstGeom prst="rect">
            <a:avLst/>
          </a:prstGeom>
          <a:solidFill>
            <a:srgbClr val="dddddd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3300"/>
                </a:solidFill>
                <a:latin typeface="Verdana"/>
              </a:rPr>
              <a:t>BANKBELEG 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44000" y="3500280"/>
            <a:ext cx="900000" cy="360360"/>
          </a:xfrm>
          <a:prstGeom prst="ellipse">
            <a:avLst/>
          </a:prstGeom>
          <a:noFill/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51962 -1.11111E-006 E">
                                      <p:cBhvr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 u="sng">
                <a:solidFill>
                  <a:srgbClr val="ffffff"/>
                </a:solidFill>
                <a:uFillTx/>
                <a:latin typeface="Arial"/>
              </a:rPr>
              <a:t>Barverkehr:</a:t>
            </a:r>
            <a:r>
              <a:rPr b="0" lang="de-AT" sz="3600" spc="-1" strike="noStrike">
                <a:solidFill>
                  <a:srgbClr val="ffffff"/>
                </a:solidFill>
                <a:latin typeface="Arial"/>
              </a:rPr>
              <a:t> Bareinzahlung - Buchung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258920" y="1413000"/>
            <a:ext cx="1944720" cy="192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932360" y="1628640"/>
          <a:ext cx="3381480" cy="167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628640"/>
                    <a:ext cx="3381480" cy="16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11280" y="3500280"/>
            <a:ext cx="3240000" cy="459720"/>
          </a:xfrm>
          <a:prstGeom prst="rect">
            <a:avLst/>
          </a:prstGeom>
          <a:solidFill>
            <a:srgbClr val="dddddd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3300"/>
                </a:solidFill>
                <a:latin typeface="Verdana"/>
              </a:rPr>
              <a:t>KASSABELEG 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3500280"/>
            <a:ext cx="3240360" cy="459720"/>
          </a:xfrm>
          <a:prstGeom prst="rect">
            <a:avLst/>
          </a:prstGeom>
          <a:solidFill>
            <a:srgbClr val="dddddd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3300"/>
                </a:solidFill>
                <a:latin typeface="Verdana"/>
              </a:rPr>
              <a:t>BANKBELEG 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221000"/>
            <a:ext cx="903600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3300"/>
                </a:solidFill>
                <a:latin typeface="Verdana"/>
              </a:rPr>
              <a:t>NEU:</a:t>
            </a: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 Konto 2870 Barverkehr mit Bank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Auswirku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Kassa wird verminde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Bank wird vermeh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4292640"/>
            <a:ext cx="90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 u="sng">
                <a:solidFill>
                  <a:srgbClr val="ffffff"/>
                </a:solidFill>
                <a:uFillTx/>
                <a:latin typeface="Verdana"/>
              </a:rPr>
              <a:t>Kassa: Bareinzahl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2870 Barverkehr mit Banken / 2700 Kas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080" y="4292640"/>
            <a:ext cx="90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 u="sng">
                <a:solidFill>
                  <a:srgbClr val="ffffff"/>
                </a:solidFill>
                <a:uFillTx/>
                <a:latin typeface="Verdana"/>
              </a:rPr>
              <a:t>Bank: Bareinzahl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2800 Bank / 2870 Barverkehr mit Bank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 u="sng">
                <a:solidFill>
                  <a:srgbClr val="ffffff"/>
                </a:solidFill>
                <a:uFillTx/>
                <a:latin typeface="Arial"/>
              </a:rPr>
              <a:t>Barverkehr:</a:t>
            </a:r>
            <a:r>
              <a:rPr b="0" lang="de-AT" sz="4000" spc="-1" strike="noStrike">
                <a:solidFill>
                  <a:srgbClr val="ffffff"/>
                </a:solidFill>
                <a:latin typeface="Arial"/>
              </a:rPr>
              <a:t> Barabhebu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796000" y="2997360"/>
          <a:ext cx="3168720" cy="23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0" y="2997360"/>
                    <a:ext cx="3168720" cy="23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08000" y="3141720"/>
            <a:ext cx="1944720" cy="1920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9280" y="52261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Verdana"/>
              </a:rPr>
              <a:t>KAS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88000" y="530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Verdana"/>
              </a:rPr>
              <a:t>BA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859280" y="3284640"/>
          <a:ext cx="1143000" cy="15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4640"/>
                    <a:ext cx="114300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rot="10800000">
            <a:off x="2123640" y="4868640"/>
            <a:ext cx="3600360" cy="360360"/>
          </a:xfrm>
          <a:prstGeom prst="rightArrow">
            <a:avLst>
              <a:gd name="adj1" fmla="val 50000"/>
              <a:gd name="adj2" fmla="val 249775"/>
            </a:avLst>
          </a:prstGeom>
          <a:solidFill>
            <a:srgbClr val="77804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0" y="2324160"/>
            <a:ext cx="5362560" cy="3409920"/>
            <a:chOff x="0" y="2324160"/>
            <a:chExt cx="5362560" cy="3409920"/>
          </a:xfrm>
        </p:grpSpPr>
        <p:pic>
          <p:nvPicPr>
            <p:cNvPr id="119" name="" descr=""/>
            <p:cNvPicPr/>
            <p:nvPr/>
          </p:nvPicPr>
          <p:blipFill>
            <a:blip r:embed="rId7"/>
            <a:stretch/>
          </p:blipFill>
          <p:spPr>
            <a:xfrm>
              <a:off x="0" y="2324160"/>
              <a:ext cx="5362560" cy="34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755640" y="5166000"/>
              <a:ext cx="3240000" cy="459720"/>
            </a:xfrm>
            <a:prstGeom prst="rect">
              <a:avLst/>
            </a:prstGeom>
            <a:solidFill>
              <a:srgbClr val="dddddd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400" spc="-1" strike="noStrike">
                  <a:solidFill>
                    <a:srgbClr val="ff3300"/>
                  </a:solidFill>
                  <a:latin typeface="Verdana"/>
                </a:rPr>
                <a:t>KASSABELEG !!!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560680" y="2073240"/>
            <a:ext cx="6583320" cy="3876840"/>
            <a:chOff x="2560680" y="2073240"/>
            <a:chExt cx="6583320" cy="3876840"/>
          </a:xfrm>
        </p:grpSpPr>
        <p:pic>
          <p:nvPicPr>
            <p:cNvPr id="122" name="" descr=""/>
            <p:cNvPicPr/>
            <p:nvPr/>
          </p:nvPicPr>
          <p:blipFill>
            <a:blip r:embed="rId8"/>
            <a:stretch/>
          </p:blipFill>
          <p:spPr>
            <a:xfrm>
              <a:off x="2560680" y="2073240"/>
              <a:ext cx="658332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572000" y="4233960"/>
              <a:ext cx="3240000" cy="459720"/>
            </a:xfrm>
            <a:prstGeom prst="rect">
              <a:avLst/>
            </a:prstGeom>
            <a:solidFill>
              <a:srgbClr val="dddddd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400" spc="-1" strike="noStrike">
                  <a:solidFill>
                    <a:srgbClr val="ff3300"/>
                  </a:solidFill>
                  <a:latin typeface="Verdana"/>
                </a:rPr>
                <a:t>BANKBELEG !!!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44000" y="3368520"/>
              <a:ext cx="900000" cy="360360"/>
            </a:xfrm>
            <a:prstGeom prst="ellipse">
              <a:avLst/>
            </a:prstGeom>
            <a:noFill/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97 0.01065 L -0.40104 0.01065 E">
                                      <p:cBhvr>
                                        <p:cTn id="205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 u="sng">
                <a:solidFill>
                  <a:srgbClr val="ffffff"/>
                </a:solidFill>
                <a:uFillTx/>
                <a:latin typeface="Arial"/>
              </a:rPr>
              <a:t>Barverkehr:</a:t>
            </a:r>
            <a:r>
              <a:rPr b="0" lang="de-AT" sz="3600" spc="-1" strike="noStrike">
                <a:solidFill>
                  <a:srgbClr val="ffffff"/>
                </a:solidFill>
                <a:latin typeface="Arial"/>
              </a:rPr>
              <a:t> Barabhebung - Buchung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58920" y="1413000"/>
            <a:ext cx="1944720" cy="192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4932360" y="1628640"/>
          <a:ext cx="3381480" cy="167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628640"/>
                    <a:ext cx="3381480" cy="16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11280" y="3500280"/>
            <a:ext cx="3240000" cy="459720"/>
          </a:xfrm>
          <a:prstGeom prst="rect">
            <a:avLst/>
          </a:prstGeom>
          <a:solidFill>
            <a:srgbClr val="dddddd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3300"/>
                </a:solidFill>
                <a:latin typeface="Verdana"/>
              </a:rPr>
              <a:t>KASSABELEG 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76720" y="3500280"/>
            <a:ext cx="3240360" cy="459720"/>
          </a:xfrm>
          <a:prstGeom prst="rect">
            <a:avLst/>
          </a:prstGeom>
          <a:solidFill>
            <a:srgbClr val="dddddd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3300"/>
                </a:solidFill>
                <a:latin typeface="Verdana"/>
              </a:rPr>
              <a:t>BANKBELEG 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221000"/>
            <a:ext cx="903600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3300"/>
                </a:solidFill>
                <a:latin typeface="Verdana"/>
              </a:rPr>
              <a:t>NEU:</a:t>
            </a: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 Konto 2870 Barverkehr mit Bank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Auswirku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Kassa wird vermeh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Bank wird verminde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4292640"/>
            <a:ext cx="90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 u="sng">
                <a:solidFill>
                  <a:srgbClr val="ffffff"/>
                </a:solidFill>
                <a:uFillTx/>
                <a:latin typeface="Verdana"/>
              </a:rPr>
              <a:t>Kassa: Bareinzahl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2700 Kassa / 2870 Barverkehr mit Bank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8000" y="4005360"/>
            <a:ext cx="90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 u="sng">
                <a:solidFill>
                  <a:srgbClr val="ffffff"/>
                </a:solidFill>
                <a:uFillTx/>
                <a:latin typeface="Verdana"/>
              </a:rPr>
              <a:t>Bank: Bareinzahl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2870 Barverkehr mit Banken / 2800 Ba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4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4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ffffff"/>
                </a:solidFill>
                <a:latin typeface="Arial"/>
              </a:rPr>
              <a:t>Schwebende Geldbewegu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1700280"/>
            <a:ext cx="835344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Wir haben Bankkonten bei zwei Bank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Überweisung von einer Ban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auf eine andere Ba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Es entstehen zwei Bele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Bankbeleg der Bank A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Bankbeleg der Bank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Alle Belege müssen verbucht werd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ffffff"/>
                </a:solidFill>
                <a:latin typeface="Arial"/>
              </a:rPr>
              <a:t>Schwebende Geldbewegu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700280"/>
            <a:ext cx="903600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3300"/>
                </a:solidFill>
                <a:latin typeface="Verdana"/>
              </a:rPr>
              <a:t>NEU:</a:t>
            </a: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 Konto 2880 Schwebende Geldbeweg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Bank A wird verminde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Bank B wird vermeh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ffffff"/>
                </a:solidFill>
                <a:latin typeface="Arial"/>
              </a:rPr>
              <a:t>Schwebende Geldbewegu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979960" y="3095640"/>
          <a:ext cx="2451240" cy="159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79960" y="3095640"/>
                    <a:ext cx="245124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6670800" y="2911320"/>
            <a:ext cx="1197000" cy="408240"/>
          </a:xfrm>
          <a:prstGeom prst="rect">
            <a:avLst/>
          </a:prstGeom>
          <a:solidFill>
            <a:srgbClr val="cc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38200"/>
                <a:tab algn="l" pos="1076400"/>
                <a:tab algn="l" pos="1614600"/>
                <a:tab algn="l" pos="2152800"/>
                <a:tab algn="l" pos="2690640"/>
                <a:tab algn="l" pos="3228840"/>
                <a:tab algn="l" pos="3767040"/>
                <a:tab algn="l" pos="4305240"/>
                <a:tab algn="l" pos="4843440"/>
                <a:tab algn="l" pos="5381640"/>
                <a:tab algn="l" pos="5919840"/>
                <a:tab algn="l" pos="6458040"/>
                <a:tab algn="l" pos="6996240"/>
                <a:tab algn="l" pos="7534440"/>
                <a:tab algn="l" pos="8072280"/>
                <a:tab algn="l" pos="8610480"/>
                <a:tab algn="l" pos="9148680"/>
                <a:tab algn="l" pos="9686880"/>
                <a:tab algn="l" pos="10225080"/>
                <a:tab algn="l" pos="10763280"/>
              </a:tabLst>
            </a:pPr>
            <a:r>
              <a:rPr b="0" lang="de-DE" sz="2800" spc="-1" strike="noStrike">
                <a:solidFill>
                  <a:srgbClr val="001968"/>
                </a:solidFill>
                <a:latin typeface="Arial"/>
              </a:rPr>
              <a:t>Bank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03440" y="3095640"/>
          <a:ext cx="2450880" cy="1598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3440" y="3095640"/>
                    <a:ext cx="245088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285920" y="2879640"/>
            <a:ext cx="1198440" cy="408240"/>
          </a:xfrm>
          <a:prstGeom prst="rect">
            <a:avLst/>
          </a:prstGeom>
          <a:solidFill>
            <a:srgbClr val="9999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38200"/>
                <a:tab algn="l" pos="1076400"/>
                <a:tab algn="l" pos="1614600"/>
                <a:tab algn="l" pos="2152800"/>
                <a:tab algn="l" pos="2690640"/>
                <a:tab algn="l" pos="3228840"/>
                <a:tab algn="l" pos="3767040"/>
                <a:tab algn="l" pos="4305240"/>
                <a:tab algn="l" pos="4843440"/>
                <a:tab algn="l" pos="5381640"/>
                <a:tab algn="l" pos="5919840"/>
                <a:tab algn="l" pos="6458040"/>
                <a:tab algn="l" pos="6996240"/>
                <a:tab algn="l" pos="7534440"/>
                <a:tab algn="l" pos="8072280"/>
                <a:tab algn="l" pos="8610480"/>
                <a:tab algn="l" pos="9148680"/>
                <a:tab algn="l" pos="9686880"/>
                <a:tab algn="l" pos="10225080"/>
                <a:tab algn="l" pos="10763280"/>
              </a:tabLst>
            </a:pPr>
            <a:r>
              <a:rPr b="0" lang="de-DE" sz="2800" spc="-1" strike="noStrike">
                <a:solidFill>
                  <a:srgbClr val="001968"/>
                </a:solidFill>
                <a:latin typeface="Arial"/>
              </a:rPr>
              <a:t>Bank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16600" y="5987880"/>
            <a:ext cx="4062240" cy="668520"/>
          </a:xfrm>
          <a:prstGeom prst="rect">
            <a:avLst/>
          </a:prstGeom>
          <a:solidFill>
            <a:srgbClr val="001968"/>
          </a:solidFill>
          <a:ln w="12600">
            <a:solidFill>
              <a:srgbClr val="cc66ff"/>
            </a:solidFill>
            <a:miter/>
          </a:ln>
          <a:effectLst>
            <a:outerShdw dist="107932" dir="2700000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880 Schwebende Geldbeweg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n 2800 Bank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00" y="5986440"/>
            <a:ext cx="4838760" cy="641160"/>
          </a:xfrm>
          <a:prstGeom prst="rect">
            <a:avLst/>
          </a:prstGeom>
          <a:solidFill>
            <a:srgbClr val="001968"/>
          </a:solidFill>
          <a:ln w="12600">
            <a:solidFill>
              <a:srgbClr val="999933"/>
            </a:solidFill>
            <a:miter/>
          </a:ln>
          <a:effectLst>
            <a:outerShdw dist="107932" dir="2700000" blurRad="0" rotWithShape="0">
              <a:srgbClr val="99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801 Bank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n 2880 Schwebende Geldbeweg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31080" y="4694400"/>
            <a:ext cx="549360" cy="855360"/>
          </a:xfrm>
          <a:prstGeom prst="downArrow">
            <a:avLst>
              <a:gd name="adj1" fmla="val 50000"/>
              <a:gd name="adj2" fmla="val 77858"/>
            </a:avLst>
          </a:prstGeom>
          <a:gradFill rotWithShape="0">
            <a:gsLst>
              <a:gs pos="0">
                <a:srgbClr val="001968"/>
              </a:gs>
              <a:gs pos="100000">
                <a:srgbClr val="cc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52760" y="4697280"/>
            <a:ext cx="549000" cy="855720"/>
          </a:xfrm>
          <a:prstGeom prst="downArrow">
            <a:avLst>
              <a:gd name="adj1" fmla="val 50000"/>
              <a:gd name="adj2" fmla="val 77941"/>
            </a:avLst>
          </a:prstGeom>
          <a:gradFill rotWithShape="0">
            <a:gsLst>
              <a:gs pos="0">
                <a:srgbClr val="001968"/>
              </a:gs>
              <a:gs pos="100000">
                <a:srgbClr val="99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67600" y="5543640"/>
            <a:ext cx="368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cc66ff"/>
                </a:solidFill>
                <a:latin typeface="Arial"/>
              </a:rPr>
              <a:t>Kontoauszug (Bankbele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" y="5549760"/>
            <a:ext cx="368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999933"/>
                </a:solidFill>
                <a:latin typeface="Arial"/>
              </a:rPr>
              <a:t>Kontoauszug (Bankbele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6227640" y="1628640"/>
            <a:ext cx="1989360" cy="1309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1042920" y="1535040"/>
            <a:ext cx="1584360" cy="1424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724360" y="1557360"/>
            <a:ext cx="1440000" cy="1263600"/>
          </a:xfrm>
          <a:prstGeom prst="leftArrow">
            <a:avLst>
              <a:gd name="adj1" fmla="val 50000"/>
              <a:gd name="adj2" fmla="val 56975"/>
            </a:avLst>
          </a:prstGeom>
          <a:gradFill rotWithShape="0">
            <a:gsLst>
              <a:gs pos="0">
                <a:srgbClr val="001968"/>
              </a:gs>
              <a:gs pos="100000">
                <a:srgbClr val="00cc66"/>
              </a:gs>
            </a:gsLst>
            <a:lin ang="10800000"/>
          </a:gradFill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Gel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437 0.06181 C 0.11892 0.04005 0.14462 0.07477 0.12604 0.0551 C 0.12448 0.05348 0.12413 0.05023 0.12274 0.04838 C 0.11753 0.04144 0.1184 0.04607 0.11267 0.04167 C 0.1092 0.03912 0.1066 0.03449 0.10278 0.03287 C 0.09323 0.02848 0.08351 0.02107 0.07448 0.01505 C 0.06875 0.01111 0.06337 0.00602 0.05781 0.00162 C 0.05243 -0.00254 0.04687 -0.00393 0.04115 -0.00717 C 0.03281 -0.01203 0.02674 -0.01759 0.01771 -0.0206 C 0.00365 -0.03287 -0.01354 -0.03935 -0.02899 -0.04722 C -0.03594 -0.05069 -0.03472 -0.05162 -0.04063 -0.05602 C -0.04861 -0.06203 -0.05816 -0.06643 -0.06719 -0.06944 C -0.10833 -0.08333 -0.15 -0.08958 -0.19219 -0.09375 C -0.23195 -0.10277 -0.28455 -0.0912 -0.32552 -0.08935 C -0.33316 -0.08611 -0.34462 -0.08078 -0.35052 -0.07384 C -0.36163 -0.06065 -0.35903 -0.05926 -0.37222 -0.05393 C -0.37674 -0.04768 -0.3816 -0.04722 -0.38733 -0.04282 C -0.39254 -0.03865 -0.39462 -0.03426 -0.40052 -0.03171 C -0.40677 -0.02338 -0.40938 -0.01713 -0.41719 -0.01389 C -0.42153 -0.00856 -0.42326 -0.00509 -0.42899 -0.00277 C -0.43524 0.00602 -0.44514 0.0132 -0.45399 0.01736 C -0.45729 0.02361 -0.46059 0.02778 -0.46233 0.03496 C -0.46424 0.04236 -0.46215 0.04167 -0.46563 0.04167 E">
                                      <p:cBhvr>
                                        <p:cTn id="375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2:07:03Z</dcterms:created>
  <dc:creator>Alexander Pointecker</dc:creator>
  <dc:description/>
  <cp:keywords/>
  <dc:language>en-US</dc:language>
  <cp:lastModifiedBy>Alexander Pointecker</cp:lastModifiedBy>
  <dcterms:modified xsi:type="dcterms:W3CDTF">2006-04-18T15:12:49Z</dcterms:modified>
  <cp:revision>28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56135159</vt:r8>
  </property>
  <property fmtid="{D5CDD505-2E9C-101B-9397-08002B2CF9AE}" pid="3" name="_AuthorEmail">
    <vt:lpwstr>Alexander.POINTECKER@hbla-ried.at</vt:lpwstr>
  </property>
  <property fmtid="{D5CDD505-2E9C-101B-9397-08002B2CF9AE}" pid="4" name="_AuthorEmailDisplayName">
    <vt:lpwstr>POINTECKER.Alexander</vt:lpwstr>
  </property>
  <property fmtid="{D5CDD505-2E9C-101B-9397-08002B2CF9AE}" pid="5" name="_EmailSubject">
    <vt:lpwstr>Unterrichtsmaterial</vt:lpwstr>
  </property>
  <property fmtid="{D5CDD505-2E9C-101B-9397-08002B2CF9AE}" pid="6" name="_TemplateID">
    <vt:lpwstr>TC011408061031</vt:lpwstr>
  </property>
</Properties>
</file>