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4D9-AFB9-43A2-ADD7-117D96D4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00A-1315-4320-B85D-EE99E6F2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F05-69F8-4762-B21F-ECF76F5B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DC6-0DFA-4C2E-82E8-CC2FD389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B917-A393-4EBC-B987-58D3AE07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BF98-BF67-4FD0-880A-04D85D1B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1054-4367-49E7-8638-B8A08C46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45C-85DF-4C5D-BA8E-8B1195C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260A-ECF9-487A-AB55-A065165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9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011F-2FAD-4607-B718-CF5F3DA0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8A1-1F0B-455C-859F-3CC39DF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4F3-729F-434A-8CFA-AB6D2C5F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4EB1-E205-4725-A685-EAC92DE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4E0-75B4-462C-8C7B-8A71B53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080-1E64-4F12-9148-95B83A7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FC69-5125-472F-B5C1-6CEE862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111A-FD2A-43B7-ACE9-CB13E693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647-1A9A-4B1C-99C7-49E84824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8CB-8614-496B-AB68-33D4A99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D1B-9121-4A33-959C-7DF29E43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380880"/>
            <a:ext cx="779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6D7-2905-4CE5-A1CD-7E3F005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456-0535-4463-9F25-8BCC8AE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60F-0589-47D9-AA03-75A6A92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6AC-46D2-4052-A273-27A7AC1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2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2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B79-ED60-4DD9-B545-6EA9D298073F}" type="slidenum">
              <a:rPr b="0" lang="de-DE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72360" y="111240"/>
            <a:ext cx="828720" cy="66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024360"/>
            <a:ext cx="9009000" cy="1052280"/>
            <a:chOff x="0" y="3024360"/>
            <a:chExt cx="9009000" cy="105228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3132000"/>
              <a:ext cx="711360" cy="474480"/>
              <a:chOff x="290520" y="3132000"/>
              <a:chExt cx="71136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31320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3132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3554280"/>
              <a:ext cx="737640" cy="474480"/>
              <a:chOff x="414360" y="3554280"/>
              <a:chExt cx="737640" cy="47448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35542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355428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348120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30243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84552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35F-7E06-4A5F-A0BC-2439437A0B41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3732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25016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99"/>
                </a:solidFill>
                <a:latin typeface="Comic Sans MS"/>
              </a:rPr>
              <a:t>Verknüpfung von Tabellen in MS-Access</a:t>
            </a:r>
            <a:br>
              <a:rPr sz="1800"/>
            </a:br>
            <a:br>
              <a:rPr sz="1800"/>
            </a:b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4509720"/>
            <a:ext cx="381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HAK/BHAS 1 Salzbu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uljahr 2004/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2641680" cy="213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Beziehungen se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9480" t="0" r="65159" b="89667"/>
          <a:stretch/>
        </p:blipFill>
        <p:spPr>
          <a:xfrm>
            <a:off x="1114560" y="1628640"/>
            <a:ext cx="1873080" cy="100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59280" y="184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3660" t="3695" r="58076" b="89667"/>
          <a:stretch/>
        </p:blipFill>
        <p:spPr>
          <a:xfrm>
            <a:off x="3922560" y="1844640"/>
            <a:ext cx="1008360" cy="647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2276640"/>
            <a:ext cx="129672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38560" y="1844640"/>
            <a:ext cx="289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62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85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19285" t="4230" r="72448" b="89132"/>
          <a:stretch/>
        </p:blipFill>
        <p:spPr>
          <a:xfrm>
            <a:off x="3924360" y="2852640"/>
            <a:ext cx="100800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95640" y="2781360"/>
            <a:ext cx="289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2852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13971" t="0" r="74220" b="90612"/>
          <a:stretch/>
        </p:blipFill>
        <p:spPr>
          <a:xfrm>
            <a:off x="1258920" y="2852640"/>
            <a:ext cx="1440000" cy="916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58920" y="3284640"/>
            <a:ext cx="129708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4076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abellen hinzufü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rcRect l="3345" t="9391" r="50001" b="51482"/>
          <a:stretch/>
        </p:blipFill>
        <p:spPr>
          <a:xfrm>
            <a:off x="1116000" y="4508640"/>
            <a:ext cx="3097080" cy="207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11640" y="447192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abelle markieren + Hinzufü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703760"/>
            <a:ext cx="50328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8BD-F002-4C8E-A65D-9BD61D3987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Tabellen auswä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628640"/>
            <a:ext cx="76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ziehungen werden zwischen jeweil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wei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abellen ges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verknüpften Felder müssen de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lben Datenty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erknüpfung über Primär- und Sekundärschlü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41342" t="13297" r="32671" b="70479"/>
          <a:stretch/>
        </p:blipFill>
        <p:spPr>
          <a:xfrm>
            <a:off x="971640" y="3068640"/>
            <a:ext cx="3168720" cy="1582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3141720"/>
            <a:ext cx="338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rimärschlüssel mark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it gedrückter Maustas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zu Sekundärschlüssel zi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ustaste losla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3429000"/>
            <a:ext cx="194472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070600"/>
            <a:ext cx="7632720" cy="147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1:1-Beziehung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Reihenfolge des Ziehens ist irrele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1:n-Beziehung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sgangspunkt ist immer das Schlüsselfel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                        der 1-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498-1A5D-4C4B-A872-5507C37448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34050" t="30813" r="32878" b="44092"/>
          <a:stretch/>
        </p:blipFill>
        <p:spPr>
          <a:xfrm>
            <a:off x="539640" y="1844640"/>
            <a:ext cx="4032360" cy="244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Beziehungstyp festl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475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ferentielle Integrität immer anh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3933720"/>
            <a:ext cx="289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9080" y="45878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 einem Raum sitzen n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22100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693800">
            <a:off x="3346920" y="2276640"/>
            <a:ext cx="144360" cy="2447640"/>
          </a:xfrm>
          <a:prstGeom prst="downArrow">
            <a:avLst>
              <a:gd name="adj1" fmla="val 50000"/>
              <a:gd name="adj2" fmla="val 4238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040" y="3179880"/>
            <a:ext cx="1727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781360"/>
            <a:ext cx="1366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643280" y="2708280"/>
            <a:ext cx="144720" cy="503280"/>
          </a:xfrm>
          <a:prstGeom prst="downArrow">
            <a:avLst>
              <a:gd name="adj1" fmla="val 50000"/>
              <a:gd name="adj2" fmla="val 869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270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finition des Verknüpfungsty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9A7-A362-4526-AD08-DF5CADE064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Referentielle Integritä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438200"/>
            <a:ext cx="820872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önnen keine Datensätze in der Primärtabelle gelöscht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werden, wenn es dazu passende Datensätze in der Detailtabel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gib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Bsp: Es können keine Räume gelöscht werden, wenn es in der </a:t>
            </a:r>
            <a:br>
              <a:rPr sz="2000"/>
            </a:b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   Tabelle Mitarbeiter gibt, die in diesen Räumen si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önnen keine Datensätze in der Detailtabelle eingetra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werden, wenn es keinen passenden Datensatz in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Primärtabelle gib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Bsp: Einem Mitarbeiter kann kein Raum zugeordnet werden, </a:t>
            </a:r>
            <a:br>
              <a:rPr sz="2000"/>
            </a:b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   den es in der Tabelle Räume nicht gibt.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önnen keine Änderungen im Schlüsselfeld der Primärtabel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vorgenommen werden, wenn dies zu „verwaisten Datensätzen“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in der Detailtabelle füh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Bsp: Der Primärschlüssel in der Tabelle Räume kann nicht geändert   </a:t>
            </a:r>
            <a:br>
              <a:rPr sz="2000"/>
            </a:b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   werden, da der Sekundärschlüssel in der Tabelle Personal-</a:t>
            </a:r>
            <a:br>
              <a:rPr sz="2000"/>
            </a:b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   Stammdaten nicht mehr dazupa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B5E-E053-4D2B-B8A5-2D0BFAF390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76160" y="457200"/>
            <a:ext cx="77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mic Sans MS"/>
              </a:rPr>
              <a:t>Verknüpfungst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628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Tahoma"/>
              </a:rPr>
              <a:t>Equi Join – Gleichheitsverknüpfung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s werden nur jene Objekte angezeigt, für die in beiden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Tabellen Datensätze vorhanden sind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35821" t="25634" r="36421" b="55177"/>
          <a:stretch/>
        </p:blipFill>
        <p:spPr>
          <a:xfrm>
            <a:off x="5435640" y="3213000"/>
            <a:ext cx="3311640" cy="1832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1280" y="5049720"/>
            <a:ext cx="7632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Tahoma"/>
              </a:rPr>
              <a:t>Outer Join – Inklusionsverknüpfung</a:t>
            </a: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s werden alle gespeicherten Datensätze einer Tabel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angezeigt, auch wenn keine dazupassenden Datensätze in der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Detailtabelle vorhand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7406600">
            <a:off x="4355640" y="1989360"/>
            <a:ext cx="144360" cy="2448000"/>
          </a:xfrm>
          <a:prstGeom prst="downArrow">
            <a:avLst>
              <a:gd name="adj1" fmla="val 50000"/>
              <a:gd name="adj2" fmla="val 4239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773200">
            <a:off x="4354920" y="3284640"/>
            <a:ext cx="144360" cy="2448000"/>
          </a:xfrm>
          <a:prstGeom prst="downArrow">
            <a:avLst>
              <a:gd name="adj1" fmla="val 50000"/>
              <a:gd name="adj2" fmla="val 4239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773200">
            <a:off x="4592880" y="3762720"/>
            <a:ext cx="144360" cy="2016000"/>
          </a:xfrm>
          <a:prstGeom prst="downArrow">
            <a:avLst>
              <a:gd name="adj1" fmla="val 50000"/>
              <a:gd name="adj2" fmla="val 3491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18B-8BC0-4161-A96A-0E014661B182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er Wallner</cp:lastModifiedBy>
  <dcterms:modified xsi:type="dcterms:W3CDTF">2005-03-14T17:49:25Z</dcterms:modified>
  <cp:revision>306</cp:revision>
  <dc:subject/>
  <dc:title>PowerPoint Presentation</dc:title>
</cp:coreProperties>
</file>