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757988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D5785-4353-466C-830D-19E92B6CE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4120" y="40536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3192F-93F2-4D4F-99E7-9021CD0DC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4120" y="40536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87828-99F5-4466-A6ED-CD6D5359D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834120" y="40536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DE541-1FB1-4123-81DD-7AB683B95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298E0-8204-44C0-8855-8A248B8F8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4120" y="40536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DD4A4-4D13-4AF7-B65B-DD58BD25D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4120" y="40536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81487-EB70-477A-933A-DE3BBB0CA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4120" y="40536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468BF-404B-483B-B903-FB307BEFE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4120" y="40536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F28F1-EB2C-4335-9258-07E59EAE3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834120" y="40536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C2FC8-D96F-441A-9A1E-659DE16CC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4120" y="40536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D0901-CFEE-40CA-ACD9-A97D1EB87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4120" y="40536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9917F-57A7-42FD-9AA9-5DC09D081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4120" y="40536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80F58-5B01-4901-9414-FC72381FD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4120" y="40536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2E7C0-6575-4B52-BE71-D23E11D2C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4120" y="40536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D7BE7-AD9F-4305-AB21-4D340FB04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4120" y="40536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DA157-9583-4CC4-8A1E-104C7B910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4120" y="40536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AAC67-FBF3-4F1D-9960-793943A5C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4120" y="40536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C10C3-B4CB-4D95-B35B-6A0153221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4120" y="40536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25090-B9E0-4166-B670-432DD2965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4120" y="40536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F9A6A-B3CF-43D7-932C-CB0B49DF8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834120" y="40536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95BD7-35B7-4C86-A07B-F9FDD327E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4120" y="40536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F52DE-4CA1-415E-AC21-5E906DD1F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4120" y="40536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DA1BD-A3AB-4A5D-A5DF-FFEC9B08A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4120" y="40536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F4FBD-469B-470B-9BAC-3D667155A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3200400" cy="6884640"/>
            <a:chOff x="0" y="0"/>
            <a:chExt cx="3200400" cy="688464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2120" cy="6884640"/>
            </a:xfrm>
            <a:prstGeom prst="rect">
              <a:avLst/>
            </a:pr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457200" y="0"/>
              <a:ext cx="2743200" cy="1171080"/>
            </a:xfrm>
            <a:custGeom>
              <a:avLst/>
              <a:gdLst/>
              <a:ahLst/>
              <a:rect l="l" t="t" r="r" b="b"/>
              <a:pathLst>
                <a:path w="1728" h="735">
                  <a:moveTo>
                    <a:pt x="1728" y="0"/>
                  </a:moveTo>
                  <a:lnTo>
                    <a:pt x="1728" y="480"/>
                  </a:lnTo>
                  <a:lnTo>
                    <a:pt x="380" y="482"/>
                  </a:lnTo>
                  <a:lnTo>
                    <a:pt x="354" y="480"/>
                  </a:lnTo>
                  <a:lnTo>
                    <a:pt x="308" y="489"/>
                  </a:lnTo>
                  <a:cubicBezTo>
                    <a:pt x="290" y="498"/>
                    <a:pt x="263" y="513"/>
                    <a:pt x="246" y="531"/>
                  </a:cubicBezTo>
                  <a:cubicBezTo>
                    <a:pt x="229" y="549"/>
                    <a:pt x="215" y="574"/>
                    <a:pt x="206" y="597"/>
                  </a:cubicBezTo>
                  <a:cubicBezTo>
                    <a:pt x="197" y="620"/>
                    <a:pt x="194" y="643"/>
                    <a:pt x="192" y="666"/>
                  </a:cubicBezTo>
                  <a:lnTo>
                    <a:pt x="192" y="735"/>
                  </a:lnTo>
                  <a:lnTo>
                    <a:pt x="0" y="735"/>
                  </a:lnTo>
                  <a:lnTo>
                    <a:pt x="0" y="480"/>
                  </a:lnTo>
                  <a:lnTo>
                    <a:pt x="0" y="0"/>
                  </a:lnTo>
                  <a:lnTo>
                    <a:pt x="1728" y="0"/>
                  </a:ln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" name=""/>
          <p:cNvGrpSpPr/>
          <p:nvPr/>
        </p:nvGrpSpPr>
        <p:grpSpPr>
          <a:xfrm>
            <a:off x="228600" y="1446120"/>
            <a:ext cx="7391520" cy="319320"/>
            <a:chOff x="228600" y="1446120"/>
            <a:chExt cx="7391520" cy="319320"/>
          </a:xfrm>
        </p:grpSpPr>
        <p:sp>
          <p:nvSpPr>
            <p:cNvPr id="4" name=""/>
            <p:cNvSpPr/>
            <p:nvPr/>
          </p:nvSpPr>
          <p:spPr>
            <a:xfrm>
              <a:off x="609480" y="1446120"/>
              <a:ext cx="701064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28600" y="1446120"/>
              <a:ext cx="393840" cy="31932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4120" y="40536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17C2E-1D7D-4A60-9296-F7F2A2FAE68F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1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BDB95-E999-4EDD-AEF7-E14CAAE302B2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5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349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34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3366"/>
                </a:solidFill>
                <a:latin typeface="Arial"/>
              </a:rPr>
              <a:t>Datenbankabfragen</a:t>
            </a:r>
            <a:endParaRPr b="1" lang="en-US" sz="5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KIDM 2AS_B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2004/05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834120" y="40536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Auswahlabfragen - Arten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66866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9000"/>
          </a:bodyPr>
          <a:p>
            <a:pPr marL="167760" indent="-16776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66"/>
                </a:solidFill>
                <a:latin typeface="Arial"/>
              </a:rPr>
              <a:t>Projektion </a:t>
            </a:r>
            <a:r>
              <a:rPr b="0" lang="de-DE" sz="2800" spc="-1" strike="noStrike">
                <a:solidFill>
                  <a:srgbClr val="003366"/>
                </a:solidFill>
                <a:latin typeface="Wingdings"/>
                <a:ea typeface="Wingdings"/>
              </a:rPr>
              <a:t></a:t>
            </a:r>
            <a:r>
              <a:rPr b="0" lang="de-DE" sz="2800" spc="-1" strike="noStrike">
                <a:solidFill>
                  <a:srgbClr val="003366"/>
                </a:solidFill>
                <a:latin typeface="Arial"/>
              </a:rPr>
              <a:t> Auswahl von Spalten</a:t>
            </a:r>
            <a:br>
              <a:rPr sz="2800"/>
            </a:br>
            <a:r>
              <a:rPr b="0" lang="de-DE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167760" indent="-16776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66"/>
                </a:solidFill>
                <a:latin typeface="Arial"/>
              </a:rPr>
              <a:t>Selektion </a:t>
            </a:r>
            <a:r>
              <a:rPr b="0" lang="de-DE" sz="2800" spc="-1" strike="noStrike">
                <a:solidFill>
                  <a:srgbClr val="003366"/>
                </a:solidFill>
                <a:latin typeface="Wingdings"/>
                <a:ea typeface="Wingdings"/>
              </a:rPr>
              <a:t></a:t>
            </a:r>
            <a:r>
              <a:rPr b="0" lang="de-DE" sz="2800" spc="-1" strike="noStrike">
                <a:solidFill>
                  <a:srgbClr val="003366"/>
                </a:solidFill>
                <a:latin typeface="Arial"/>
              </a:rPr>
              <a:t> Auswahl von Datensätzen mit Kriterien</a:t>
            </a:r>
            <a:br>
              <a:rPr sz="2800"/>
            </a:br>
            <a:r>
              <a:rPr b="0" lang="de-DE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167760" indent="-16776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66"/>
                </a:solidFill>
                <a:latin typeface="Arial"/>
              </a:rPr>
              <a:t>Relationierung </a:t>
            </a:r>
            <a:r>
              <a:rPr b="0" lang="de-DE" sz="2800" spc="-1" strike="noStrike">
                <a:solidFill>
                  <a:srgbClr val="003366"/>
                </a:solidFill>
                <a:latin typeface="Wingdings"/>
                <a:ea typeface="Wingdings"/>
              </a:rPr>
              <a:t></a:t>
            </a:r>
            <a:r>
              <a:rPr b="0" lang="de-DE" sz="2800" spc="-1" strike="noStrike">
                <a:solidFill>
                  <a:srgbClr val="003366"/>
                </a:solidFill>
                <a:latin typeface="Arial"/>
              </a:rPr>
              <a:t> Auswahl von Informationen aus mehreren Tabell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1677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1677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CD3A0-4C72-4A6F-8F31-92AE254427A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834120" y="40536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Selektionsoperatoren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826920" y="4133880"/>
            <a:ext cx="7848720" cy="21600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826920" y="1773360"/>
            <a:ext cx="3457800" cy="5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366"/>
                </a:solidFill>
                <a:latin typeface="Arial"/>
              </a:rPr>
              <a:t>Selektionsoperator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4572000" y="1917720"/>
          <a:ext cx="3456000" cy="2184120"/>
        </p:xfrm>
        <a:graphic>
          <a:graphicData uri="http://schemas.openxmlformats.org/drawingml/2006/table">
            <a:tbl>
              <a:tblPr/>
              <a:tblGrid>
                <a:gridCol w="1728720"/>
                <a:gridCol w="17272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Operator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Bedeutung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&lt;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Kleiner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&gt;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Größer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=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Gleich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&lt;&gt;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Ungleich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&lt;=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Kleiner gleich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&gt;=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Größer gleich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2" name=""/>
          <p:cNvSpPr/>
          <p:nvPr/>
        </p:nvSpPr>
        <p:spPr>
          <a:xfrm>
            <a:off x="826920" y="4317840"/>
            <a:ext cx="345780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366"/>
                </a:solidFill>
                <a:latin typeface="Arial"/>
              </a:rPr>
              <a:t>Schlüsselwörte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971640" y="4714920"/>
          <a:ext cx="7777080" cy="1790640"/>
        </p:xfrm>
        <a:graphic>
          <a:graphicData uri="http://schemas.openxmlformats.org/drawingml/2006/table">
            <a:tbl>
              <a:tblPr/>
              <a:tblGrid>
                <a:gridCol w="2160720"/>
                <a:gridCol w="56163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Schlüsselwort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Bedeutung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Zwischen … Und …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Überprüft Grenzwerte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Wie …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Prüft auf Teilgleichheiten. Wird verwendet, wenn der genaue Feldinhalt nicht bekannt ist.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Ist null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Selektiert Felder ohne Inhalt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Ist nicht null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Selektiert Felder mit Inhalt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25D5E-7D9A-4B9E-8F80-A672B695CF5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40536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Funktionen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971640" y="1989000"/>
          <a:ext cx="7272360" cy="1791000"/>
        </p:xfrm>
        <a:graphic>
          <a:graphicData uri="http://schemas.openxmlformats.org/drawingml/2006/table">
            <a:tbl>
              <a:tblPr/>
              <a:tblGrid>
                <a:gridCol w="1152360"/>
                <a:gridCol w="3695760"/>
                <a:gridCol w="24242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Funktion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Wirkung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Beispiel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ag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Ermittelt den Tag aus einem Datumsfeld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ag ([Datum von]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Monat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Ermittelt das Monat aus einem Datumsfeld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Monat ([Datum von]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Jahr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Ermittelt das Jahr aus einem Datumsfeld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Jahr ([Datum von]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Wochentag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Ermittelt den Wochentag in Ziffern (1 = Sonntag, 7 = Samstag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Wochentag ([Datum von]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" name=""/>
          <p:cNvSpPr/>
          <p:nvPr/>
        </p:nvSpPr>
        <p:spPr>
          <a:xfrm>
            <a:off x="971640" y="4076640"/>
            <a:ext cx="676908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366"/>
                </a:solidFill>
                <a:latin typeface="Arial"/>
              </a:rPr>
              <a:t>Der Inhalt von Funktionen steht in runder Klamme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212400" indent="-2124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366"/>
                </a:solidFill>
                <a:latin typeface="Arial"/>
              </a:rPr>
              <a:t>Spaltennamen stehen in eckiger Klamme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212400" indent="-2124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99535-B149-4731-BD74-4551C7B67DE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40536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Berechnete Felder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971640" y="1989000"/>
          <a:ext cx="7272360" cy="2184480"/>
        </p:xfrm>
        <a:graphic>
          <a:graphicData uri="http://schemas.openxmlformats.org/drawingml/2006/table">
            <a:tbl>
              <a:tblPr/>
              <a:tblGrid>
                <a:gridCol w="1152360"/>
                <a:gridCol w="3600360"/>
                <a:gridCol w="25196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Operator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Rechengang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Beispiel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+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Addition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Neuer Preis: [Preis] + 1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Subtraktion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Neuer Preis: [Preis] – 1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*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Multiplikation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Neuer Preis: [Preis] *1,0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/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Division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Neuer Preis: [Preis] / 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^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Potenzierung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&amp;“ “&amp;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Verbindung von Spalten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[Vorname]&amp;“ “&amp;[Zuname]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C85D5-7AD8-4CA0-8F73-674209DCE3D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40536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Berechnungen in Abfragen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934920" y="3060720"/>
          <a:ext cx="7309080" cy="2184480"/>
        </p:xfrm>
        <a:graphic>
          <a:graphicData uri="http://schemas.openxmlformats.org/drawingml/2006/table">
            <a:tbl>
              <a:tblPr/>
              <a:tblGrid>
                <a:gridCol w="1260720"/>
                <a:gridCol w="60483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Funktion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Wirkung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Anzahl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Gibt die Anzahl der Werte aus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Summe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Summiert alle Werte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Zeigt den kleinsten Wert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Max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Zeigt den größten Wert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Mittelwert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Berechnet den Mittelwert in einem Feld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Gruppierung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Daten mit gleichem Inhalt werden als Gesamtheit betrachtet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1" name=""/>
          <p:cNvSpPr/>
          <p:nvPr/>
        </p:nvSpPr>
        <p:spPr>
          <a:xfrm>
            <a:off x="826920" y="1844640"/>
            <a:ext cx="676944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366"/>
                </a:solidFill>
                <a:latin typeface="Arial"/>
              </a:rPr>
              <a:t>Menü: Ansich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212400" indent="-2124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366"/>
                </a:solidFill>
                <a:latin typeface="Arial"/>
              </a:rPr>
              <a:t>Befehl: Funktion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48492-9271-41EB-AE5C-98012EB7DDB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40536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Kreuztabellenabfragen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26920" y="1844640"/>
            <a:ext cx="676944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366"/>
                </a:solidFill>
                <a:latin typeface="Arial"/>
              </a:rPr>
              <a:t>Menü: Abfrag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212400" indent="-2124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366"/>
                </a:solidFill>
                <a:latin typeface="Arial"/>
              </a:rPr>
              <a:t>Befehl: Kreuztabellenabfrag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rcRect l="0" t="7390" r="61604" b="76370"/>
          <a:stretch/>
        </p:blipFill>
        <p:spPr>
          <a:xfrm>
            <a:off x="2340000" y="3933720"/>
            <a:ext cx="4681440" cy="15843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rcRect l="0" t="21404" r="70459" b="66034"/>
          <a:stretch/>
        </p:blipFill>
        <p:spPr>
          <a:xfrm>
            <a:off x="2484360" y="2637000"/>
            <a:ext cx="3602160" cy="122544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3116160" y="3213000"/>
            <a:ext cx="2881440" cy="2890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826920" y="5684760"/>
            <a:ext cx="676944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236520" indent="-236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366"/>
                </a:solidFill>
                <a:latin typeface="Wingdings"/>
                <a:ea typeface="Wingdings"/>
              </a:rPr>
              <a:t></a:t>
            </a:r>
            <a:r>
              <a:rPr b="1" lang="de-DE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003366"/>
                </a:solidFill>
                <a:latin typeface="Arial"/>
              </a:rPr>
              <a:t>Information wird in Form einer Matrix dargestellt (vgl. Pivot-Tabelle in Excel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A78B5-2600-4057-B214-CE818D6B899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40536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Parameterabfragen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826920" y="1844640"/>
            <a:ext cx="720108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2000"/>
          </a:bodyPr>
          <a:p>
            <a:pPr marL="144000" indent="-14400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3366"/>
                </a:solidFill>
                <a:latin typeface="Arial"/>
              </a:rPr>
              <a:t>Dynamische Auswertungen bei denen der Vergleichswert erst zum Zeitpunkt der Auswertung festgelegt wird.</a:t>
            </a:r>
            <a:br>
              <a:rPr sz="1800"/>
            </a:br>
            <a:r>
              <a:rPr b="1" lang="de-DE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144000" indent="-14400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3366"/>
                </a:solidFill>
                <a:latin typeface="Arial"/>
              </a:rPr>
              <a:t>Access interpretiert alle Eingaben im QBE-Bereich, die keine Feldnamen sind, als Parameter und fragt bei der Ausführung der Abfrage nach dem Wert.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rcRect l="0" t="8121" r="39169" b="63819"/>
          <a:stretch/>
        </p:blipFill>
        <p:spPr>
          <a:xfrm>
            <a:off x="1042920" y="3645000"/>
            <a:ext cx="7416720" cy="273672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6068880" y="4221000"/>
            <a:ext cx="2751120" cy="1872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C3BD0-9A55-4185-8D23-E692E5227F8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7T06:59:11Z</dcterms:created>
  <dc:creator>Administrator</dc:creator>
  <dc:description/>
  <dc:language>en-US</dc:language>
  <cp:lastModifiedBy>Alexander Wallner</cp:lastModifiedBy>
  <dcterms:modified xsi:type="dcterms:W3CDTF">2005-03-14T17:34:37Z</dcterms:modified>
  <cp:revision>19</cp:revision>
  <dc:subject/>
  <dc:title>Mediendatenbank</dc:title>
</cp:coreProperties>
</file>