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6E12-1D5A-480E-A9D9-C013C738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0469-D3CC-4F9A-AC10-ECC7E8BD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62D-58E6-4A6A-B810-20A86546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2AC0-EB6E-47FB-8B77-8833EF2A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FC25-5768-4412-96BB-BD5B7310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82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BF7B-52EE-4E4C-BD92-5F81F3AD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D211-2F46-4A37-B948-E5075EB3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0619-18B0-43A9-9823-F744CCD0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8477-DEEE-458D-B423-B3901852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93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E344-5048-4870-AC20-D685C94F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4729-18E1-43E3-A004-3562E61E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1BE4-923E-49FC-9874-14953DA8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652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DE76-F195-4A07-A610-15115275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85A1-8215-4E79-8551-9D166F58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826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DCD0-1713-44A6-A154-209D6EF0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26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652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ED77-E4C7-4840-8678-3F7BB4F8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106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382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826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8106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4382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B2A0-B7E0-4AFA-9FA6-0725BA32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DD4A-E3BE-4B03-AF0F-42604B7F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1AE5-8638-4E08-8448-5B2C0FFE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CDB1-3889-4B56-A78E-1CA75B62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93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B7B4-3F44-438F-9EDE-0E88E971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F57-B5BF-40AA-8DA0-517E7D56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EA7-60DA-4288-AAE2-29C38092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C08E-64F2-4BB9-A568-A68F4E05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17600" y="63324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41440" y="10555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1160" y="10555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7080" y="9828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0" y="642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427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238880" y="642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D2AF-7D95-49F1-88CB-B739CAD19CFD}" type="slidenum">
              <a:rPr b="0" lang="de-DE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8172360" y="111240"/>
            <a:ext cx="828720" cy="668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3024360"/>
            <a:ext cx="9009000" cy="1052280"/>
            <a:chOff x="0" y="3024360"/>
            <a:chExt cx="9009000" cy="1052280"/>
          </a:xfrm>
        </p:grpSpPr>
        <p:grpSp>
          <p:nvGrpSpPr>
            <p:cNvPr id="51" name=""/>
            <p:cNvGrpSpPr/>
            <p:nvPr/>
          </p:nvGrpSpPr>
          <p:grpSpPr>
            <a:xfrm>
              <a:off x="290520" y="3132000"/>
              <a:ext cx="711360" cy="474480"/>
              <a:chOff x="290520" y="3132000"/>
              <a:chExt cx="711360" cy="474480"/>
            </a:xfrm>
          </p:grpSpPr>
          <p:sp>
            <p:nvSpPr>
              <p:cNvPr id="52" name=""/>
              <p:cNvSpPr/>
              <p:nvPr/>
            </p:nvSpPr>
            <p:spPr>
              <a:xfrm>
                <a:off x="290520" y="313200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3560" y="31320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14360" y="3554280"/>
              <a:ext cx="737640" cy="474480"/>
              <a:chOff x="414360" y="3554280"/>
              <a:chExt cx="737640" cy="474480"/>
            </a:xfrm>
          </p:grpSpPr>
          <p:sp>
            <p:nvSpPr>
              <p:cNvPr id="55" name=""/>
              <p:cNvSpPr/>
              <p:nvPr/>
            </p:nvSpPr>
            <p:spPr>
              <a:xfrm>
                <a:off x="414360" y="355428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3000" y="355428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0" y="348120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5040" y="302436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16080" y="384552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2A7F-90BA-4621-967E-180E556B73A4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637320"/>
            <a:ext cx="914400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560" y="250164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333399"/>
                </a:solidFill>
                <a:latin typeface="Comic Sans MS"/>
              </a:rPr>
              <a:t>Datenbank-Modellierung</a:t>
            </a:r>
            <a:br>
              <a:rPr sz="1800"/>
            </a:br>
            <a:br>
              <a:rPr sz="1800"/>
            </a:br>
            <a:r>
              <a:rPr b="0" lang="de-DE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de-DE" sz="1600" spc="-1" strike="noStrike">
                <a:solidFill>
                  <a:srgbClr val="333399"/>
                </a:solidFill>
                <a:latin typeface="Comic Sans MS"/>
              </a:rPr>
              <a:t> Darstellung einer realen Situation in einem Entity-Relationship-Modell?</a:t>
            </a:r>
            <a:br>
              <a:rPr sz="1600"/>
            </a:br>
            <a:r>
              <a:rPr b="0" lang="de-DE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de-DE" sz="1600" spc="-1" strike="noStrike">
                <a:solidFill>
                  <a:srgbClr val="333399"/>
                </a:solidFill>
                <a:latin typeface="Comic Sans MS"/>
              </a:rPr>
              <a:t> Umwandlung des ER-Modells in das relationale Datenbankmodell? </a:t>
            </a:r>
            <a:endParaRPr b="1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99640" y="4509720"/>
            <a:ext cx="3816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HAK/BHAS 1 Salzbur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ID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chuljahr 2004/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580000" y="4005360"/>
            <a:ext cx="2641680" cy="2131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51400" y="668160"/>
            <a:ext cx="34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Comic Sans MS"/>
              </a:rPr>
              <a:t>Grad einer Bezie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2847960"/>
            <a:ext cx="28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Unäre Bezieh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413160" y="3475080"/>
            <a:ext cx="1557360" cy="620640"/>
            <a:chOff x="3413160" y="3475080"/>
            <a:chExt cx="1557360" cy="620640"/>
          </a:xfrm>
        </p:grpSpPr>
        <p:sp>
          <p:nvSpPr>
            <p:cNvPr id="215" name=""/>
            <p:cNvSpPr/>
            <p:nvPr/>
          </p:nvSpPr>
          <p:spPr>
            <a:xfrm>
              <a:off x="3413160" y="3475080"/>
              <a:ext cx="1557360" cy="6206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42920" y="361008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ahoma"/>
                </a:rPr>
                <a:t>leit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68360" y="3387600"/>
            <a:ext cx="180000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tarbeite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84360" y="37288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82920" y="31352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268000" y="3495600"/>
            <a:ext cx="191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68360" y="4071960"/>
            <a:ext cx="18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21120" y="4930920"/>
            <a:ext cx="1919160" cy="6937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55040" y="5083200"/>
            <a:ext cx="16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unterrich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4280" y="5003640"/>
            <a:ext cx="17431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eh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34280" y="5003640"/>
            <a:ext cx="16714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chü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9000" y="4906800"/>
            <a:ext cx="4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081160" y="5253120"/>
            <a:ext cx="89712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78440" y="5292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02280" y="48927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080" y="1697040"/>
            <a:ext cx="8170560" cy="1008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Der Grad einer Beziehung gibt an, wie viele Entitäten durch eine Beziehung verbunden werden (n&gt;=1, meist binäre Beziehung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4508640"/>
            <a:ext cx="28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Binäre Bezieh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6200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Mehrwertige Beziehungen (n-är) sind möglich jedoch se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A33-1A56-45DB-994A-97F2A046F3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91640" y="668160"/>
            <a:ext cx="38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Comic Sans MS"/>
              </a:rPr>
              <a:t>Teilmengen und K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080" y="155736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ine Entity kann aus mehreren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Teilmenge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oder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Klasse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beste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3120" y="4336920"/>
            <a:ext cx="8445600" cy="703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eilmengen und Klassen erhalten automatisch alle Attribute der übergeordneten Entitä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8440" y="5084640"/>
            <a:ext cx="8450280" cy="1008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Teilmengen: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Einzelne Objekte die sich überlappen können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ein Lekto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                  kann auch Assistent se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95280" y="1814400"/>
            <a:ext cx="7954920" cy="2778120"/>
            <a:chOff x="395280" y="1814400"/>
            <a:chExt cx="7954920" cy="2778120"/>
          </a:xfrm>
        </p:grpSpPr>
        <p:sp>
          <p:nvSpPr>
            <p:cNvPr id="238" name=""/>
            <p:cNvSpPr/>
            <p:nvPr/>
          </p:nvSpPr>
          <p:spPr>
            <a:xfrm>
              <a:off x="2759040" y="1814400"/>
              <a:ext cx="3435120" cy="825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ahoma"/>
                </a:rPr>
                <a:t>Universitätsmitarbei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836640" y="2912760"/>
              <a:ext cx="817560" cy="693720"/>
              <a:chOff x="836640" y="2912760"/>
              <a:chExt cx="817560" cy="693720"/>
            </a:xfrm>
          </p:grpSpPr>
          <p:sp>
            <p:nvSpPr>
              <p:cNvPr id="240" name=""/>
              <p:cNvSpPr/>
              <p:nvPr/>
            </p:nvSpPr>
            <p:spPr>
              <a:xfrm>
                <a:off x="836640" y="2912760"/>
                <a:ext cx="817560" cy="693720"/>
              </a:xfrm>
              <a:prstGeom prst="flowChartDecision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984240" y="30574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ahoma"/>
                  </a:rPr>
                  <a:t>is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395280" y="3767040"/>
              <a:ext cx="1512720" cy="825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ahoma"/>
                </a:rPr>
                <a:t>Profes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84280" y="3767040"/>
              <a:ext cx="1455840" cy="825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ahoma"/>
                </a:rPr>
                <a:t>Assis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25960" y="3763800"/>
              <a:ext cx="1239840" cy="45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ahoma"/>
                </a:rPr>
                <a:t>Lek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83280" y="3763800"/>
              <a:ext cx="1366920" cy="45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ahoma"/>
                </a:rPr>
                <a:t>Stud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2781360" y="2912760"/>
              <a:ext cx="817560" cy="693720"/>
              <a:chOff x="2781360" y="2912760"/>
              <a:chExt cx="817560" cy="693720"/>
            </a:xfrm>
          </p:grpSpPr>
          <p:sp>
            <p:nvSpPr>
              <p:cNvPr id="247" name=""/>
              <p:cNvSpPr/>
              <p:nvPr/>
            </p:nvSpPr>
            <p:spPr>
              <a:xfrm>
                <a:off x="2781360" y="2912760"/>
                <a:ext cx="817560" cy="693720"/>
              </a:xfrm>
              <a:prstGeom prst="flowChartDecision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928960" y="30574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ahoma"/>
                  </a:rPr>
                  <a:t>is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5300640" y="2912760"/>
              <a:ext cx="817560" cy="693720"/>
              <a:chOff x="5300640" y="2912760"/>
              <a:chExt cx="817560" cy="693720"/>
            </a:xfrm>
          </p:grpSpPr>
          <p:sp>
            <p:nvSpPr>
              <p:cNvPr id="250" name=""/>
              <p:cNvSpPr/>
              <p:nvPr/>
            </p:nvSpPr>
            <p:spPr>
              <a:xfrm>
                <a:off x="5300640" y="2912760"/>
                <a:ext cx="817560" cy="693720"/>
              </a:xfrm>
              <a:prstGeom prst="flowChartDecision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448240" y="30574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ahoma"/>
                  </a:rPr>
                  <a:t>is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7245360" y="2912760"/>
              <a:ext cx="817560" cy="693720"/>
              <a:chOff x="7245360" y="2912760"/>
              <a:chExt cx="817560" cy="693720"/>
            </a:xfrm>
          </p:grpSpPr>
          <p:sp>
            <p:nvSpPr>
              <p:cNvPr id="253" name=""/>
              <p:cNvSpPr/>
              <p:nvPr/>
            </p:nvSpPr>
            <p:spPr>
              <a:xfrm>
                <a:off x="7245360" y="2912760"/>
                <a:ext cx="817560" cy="693720"/>
              </a:xfrm>
              <a:prstGeom prst="flowChartDecision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392960" y="30574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ahoma"/>
                  </a:rPr>
                  <a:t>is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1234800" y="35953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79520" y="35953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11760" y="35953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56480" y="35953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85920" y="2709720"/>
              <a:ext cx="640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87760" y="2492280"/>
              <a:ext cx="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60360" y="269712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92480" y="269712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11760" y="269712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1680" y="269712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301680" y="5857920"/>
            <a:ext cx="8450280" cy="1008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Klassen: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Objekte die sich nicht überlappen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Ein Professor kann kei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            Student se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D06-D4EE-4684-965D-8E813AD8D8E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68360" y="1700280"/>
            <a:ext cx="883908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ahoma"/>
              </a:rPr>
              <a:t>Beschreibung der Realitä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Kurt hat sehr viele CDs von vielen Interpreten. Einen Teil dieser C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borgt er immer wieder an Freunde. Damit keine CDs verloren ge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und er seine Freunde auch erinnern kann, wenn eine CD überfällig is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möchte er seine Sammlung in einer Datenbank speichern. Darin sind alle CD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die Interpreten sowie die Freunde gespeichert. Wenn sich jemand eine CD ausleih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soll das Verleihdatum gespeichert 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arstellung der realen Situation im Entity-Relationship-Mod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Überführung des ER-Modells in ein relationales Datenmod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00000" y="66816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Comic Sans MS"/>
              </a:rPr>
              <a:t>Übung 1: DB-Modellierung CD-Daten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6951-8CD1-4CB2-9A69-E00F588952A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14400" y="6174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Comic Sans MS"/>
              </a:rPr>
              <a:t>Relationales Datenmod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1720800"/>
            <a:ext cx="88390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ie Entitäten und Beziehungen aus dem ER-Modell werden mit Hilfe des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Relationalen Datenmodell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1" lang="de-DE" sz="2000" spc="-1" strike="noStrike">
                <a:solidFill>
                  <a:srgbClr val="ff0000"/>
                </a:solidFill>
                <a:latin typeface="Tahoma"/>
              </a:rPr>
              <a:t>Relatione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umgewandel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iese Relationen stellen bereits die Tabellen der Datenbank dar </a:t>
            </a:r>
            <a:br>
              <a:rPr sz="2000"/>
            </a:br>
            <a:br>
              <a:rPr sz="2000"/>
            </a:br>
            <a:r>
              <a:rPr b="1" lang="de-DE" sz="2000" spc="-1" strike="noStrike" u="sng">
                <a:solidFill>
                  <a:srgbClr val="000000"/>
                </a:solidFill>
                <a:uFillTx/>
                <a:latin typeface="Tahoma"/>
              </a:rPr>
              <a:t>No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TABELLENNAME (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ahoma"/>
              </a:rPr>
              <a:t>Primärschlüssel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, Feld 1, Feld2, Feld3, …,   </a:t>
            </a:r>
            <a:br>
              <a:rPr sz="2000"/>
            </a:b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                         Sekundärschlüss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Tabellennam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… Entity oder m:n-Beziehung aus ER-Modell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Feld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… Attribut aus ER-Mod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11280" y="422100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202C-20A6-48DE-AD1B-2123BDCEFFF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71640" y="62064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Comic Sans MS"/>
              </a:rPr>
              <a:t>Auflösung von 1:n-Bezieh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6480" y="1668600"/>
            <a:ext cx="1919160" cy="6937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86960" y="181944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arbeitet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1739880"/>
            <a:ext cx="174312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tarb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58120" y="1739880"/>
            <a:ext cx="16714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btei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14720" y="1643040"/>
            <a:ext cx="49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306520" y="1989000"/>
            <a:ext cx="89712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02280" y="20289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2612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9280" y="249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Tahoma"/>
              </a:rPr>
              <a:t>SV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16000" y="31417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Vor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35280" y="270828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Nach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2760" y="2421000"/>
            <a:ext cx="8301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32040" y="2682720"/>
            <a:ext cx="129528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42920" y="3141720"/>
            <a:ext cx="12956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11280" y="220500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19280" y="2205000"/>
            <a:ext cx="730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77080" y="2708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Bezei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35640" y="2421000"/>
            <a:ext cx="1008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154200" y="220500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24760" y="2214720"/>
            <a:ext cx="28872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3800" y="244944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Tahoma"/>
              </a:rPr>
              <a:t>Abteilungs-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37400" y="2714760"/>
            <a:ext cx="1650960" cy="43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8360" y="3773520"/>
            <a:ext cx="8064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ITARBEITER (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Tahoma"/>
              </a:rPr>
              <a:t>SV#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 Vorname, Nachname, 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Abteilung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bteilung (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Tahoma"/>
              </a:rPr>
              <a:t>Abteilungs#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 Bezeichnu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35280" y="220500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25720" y="58053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780000" y="58053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2680" y="5300640"/>
            <a:ext cx="8064360" cy="1008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i einer 1:n-Beziehung wird der Primärschlüssel der 1-Tabelle als  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Fremd- oder Sekundärschlüssel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 der n-Tabelle gespeich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11880" y="414972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00360" y="4149360"/>
            <a:ext cx="2663640" cy="647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EF0-6459-4D96-8760-8076810A497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71640" y="62064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Comic Sans MS"/>
              </a:rPr>
              <a:t>Auflösung von m:n-Bezieh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46480" y="1668600"/>
            <a:ext cx="1919160" cy="6937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80400" y="1819440"/>
            <a:ext cx="16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unterrich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9640" y="1739880"/>
            <a:ext cx="17431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eh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558120" y="1739880"/>
            <a:ext cx="16714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chü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14720" y="1643040"/>
            <a:ext cx="49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306520" y="1989000"/>
            <a:ext cx="89712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2280" y="20289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2612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2492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Tahoma"/>
              </a:rPr>
              <a:t>SV#-Leh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16000" y="31417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Vor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35280" y="270828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Nach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2760" y="2421000"/>
            <a:ext cx="97452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832040" y="2682720"/>
            <a:ext cx="129528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42920" y="3141720"/>
            <a:ext cx="12956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11280" y="220500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27640" y="2276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19280" y="2205000"/>
            <a:ext cx="730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00720" y="299736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Vor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378560" y="2708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Nach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35640" y="2421000"/>
            <a:ext cx="1008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154200" y="220500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07280" y="220500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6730920" y="2205000"/>
            <a:ext cx="43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508720" y="242100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Tahoma"/>
              </a:rPr>
              <a:t>SV#-Schü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08720" y="2708280"/>
            <a:ext cx="12956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61040" y="3022560"/>
            <a:ext cx="129528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24360" y="2637000"/>
            <a:ext cx="1295280" cy="43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3360" y="26748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Gegens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8360" y="3773520"/>
            <a:ext cx="8064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LEHRER (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Tahoma"/>
              </a:rPr>
              <a:t>SV#-Lehrer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 Vorname, Nach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CHÜLER (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Tahoma"/>
              </a:rPr>
              <a:t>SV#-Schüler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 Vorname, Nach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4139"/>
                </a:solidFill>
                <a:latin typeface="Tahoma"/>
              </a:rPr>
              <a:t>UNTERRICHT (</a:t>
            </a:r>
            <a:r>
              <a:rPr b="1" lang="de-DE" sz="2000" spc="-1" strike="noStrike" u="sng">
                <a:solidFill>
                  <a:srgbClr val="ff4139"/>
                </a:solidFill>
                <a:uFillTx/>
                <a:latin typeface="Tahoma"/>
              </a:rPr>
              <a:t>SV#-Lehrer</a:t>
            </a:r>
            <a:r>
              <a:rPr b="1" lang="de-DE" sz="2000" spc="-1" strike="noStrike">
                <a:solidFill>
                  <a:srgbClr val="ff4139"/>
                </a:solidFill>
                <a:latin typeface="Tahoma"/>
              </a:rPr>
              <a:t>, </a:t>
            </a:r>
            <a:r>
              <a:rPr b="1" lang="de-DE" sz="2000" spc="-1" strike="noStrike" u="sng">
                <a:solidFill>
                  <a:srgbClr val="ff4139"/>
                </a:solidFill>
                <a:uFillTx/>
                <a:latin typeface="Tahoma"/>
              </a:rPr>
              <a:t>SV#-Schüler</a:t>
            </a:r>
            <a:r>
              <a:rPr b="1" lang="de-DE" sz="2000" spc="-1" strike="noStrike">
                <a:solidFill>
                  <a:srgbClr val="ff4139"/>
                </a:solidFill>
                <a:latin typeface="Tahoma"/>
              </a:rPr>
              <a:t>, Gegenst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35280" y="220500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25720" y="58053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80000" y="58053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2680" y="5300640"/>
            <a:ext cx="8064360" cy="1618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i einer m:n-Beziehung wird die Beziehung als eigene Relatio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 dargestellt, welche die Primärschlüssel der verbundenen Entität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 als Primärschlüssel enthäl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B592-1893-4E37-9C4C-642A91931BE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71640" y="26028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Comic Sans MS"/>
              </a:rPr>
              <a:t>Darstellung von Teilmengen im relationalen Datenmod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95280" y="1959120"/>
            <a:ext cx="7954920" cy="2777760"/>
            <a:chOff x="395280" y="1959120"/>
            <a:chExt cx="7954920" cy="2777760"/>
          </a:xfrm>
        </p:grpSpPr>
        <p:sp>
          <p:nvSpPr>
            <p:cNvPr id="337" name=""/>
            <p:cNvSpPr/>
            <p:nvPr/>
          </p:nvSpPr>
          <p:spPr>
            <a:xfrm>
              <a:off x="2759040" y="1959120"/>
              <a:ext cx="3435120" cy="825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ahoma"/>
                </a:rPr>
                <a:t>Universitätsmitarbei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836640" y="3057120"/>
              <a:ext cx="817560" cy="693360"/>
              <a:chOff x="836640" y="3057120"/>
              <a:chExt cx="817560" cy="693360"/>
            </a:xfrm>
          </p:grpSpPr>
          <p:sp>
            <p:nvSpPr>
              <p:cNvPr id="339" name=""/>
              <p:cNvSpPr/>
              <p:nvPr/>
            </p:nvSpPr>
            <p:spPr>
              <a:xfrm>
                <a:off x="836640" y="3057120"/>
                <a:ext cx="817560" cy="693360"/>
              </a:xfrm>
              <a:prstGeom prst="flowChartDecision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984240" y="32014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ahoma"/>
                  </a:rPr>
                  <a:t>is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395280" y="3911400"/>
              <a:ext cx="1512720" cy="825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ahoma"/>
                </a:rPr>
                <a:t>Profes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84280" y="3911400"/>
              <a:ext cx="1455840" cy="825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ahoma"/>
                </a:rPr>
                <a:t>Assis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25960" y="3908160"/>
              <a:ext cx="1239840" cy="45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ahoma"/>
                </a:rPr>
                <a:t>Lek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83280" y="3908160"/>
              <a:ext cx="1366920" cy="45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ahoma"/>
                </a:rPr>
                <a:t>Stud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2781360" y="3057120"/>
              <a:ext cx="817560" cy="693360"/>
              <a:chOff x="2781360" y="3057120"/>
              <a:chExt cx="817560" cy="693360"/>
            </a:xfrm>
          </p:grpSpPr>
          <p:sp>
            <p:nvSpPr>
              <p:cNvPr id="346" name=""/>
              <p:cNvSpPr/>
              <p:nvPr/>
            </p:nvSpPr>
            <p:spPr>
              <a:xfrm>
                <a:off x="2781360" y="3057120"/>
                <a:ext cx="817560" cy="693360"/>
              </a:xfrm>
              <a:prstGeom prst="flowChartDecision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28960" y="32014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ahoma"/>
                  </a:rPr>
                  <a:t>is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5300640" y="3057120"/>
              <a:ext cx="817560" cy="693360"/>
              <a:chOff x="5300640" y="3057120"/>
              <a:chExt cx="817560" cy="693360"/>
            </a:xfrm>
          </p:grpSpPr>
          <p:sp>
            <p:nvSpPr>
              <p:cNvPr id="349" name=""/>
              <p:cNvSpPr/>
              <p:nvPr/>
            </p:nvSpPr>
            <p:spPr>
              <a:xfrm>
                <a:off x="5300640" y="3057120"/>
                <a:ext cx="817560" cy="693360"/>
              </a:xfrm>
              <a:prstGeom prst="flowChartDecision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448240" y="32014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ahoma"/>
                  </a:rPr>
                  <a:t>is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7245360" y="3057120"/>
              <a:ext cx="817560" cy="693360"/>
              <a:chOff x="7245360" y="3057120"/>
              <a:chExt cx="817560" cy="693360"/>
            </a:xfrm>
          </p:grpSpPr>
          <p:sp>
            <p:nvSpPr>
              <p:cNvPr id="352" name=""/>
              <p:cNvSpPr/>
              <p:nvPr/>
            </p:nvSpPr>
            <p:spPr>
              <a:xfrm>
                <a:off x="7245360" y="3057120"/>
                <a:ext cx="817560" cy="693360"/>
              </a:xfrm>
              <a:prstGeom prst="flowChartDecision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392960" y="32014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ahoma"/>
                  </a:rPr>
                  <a:t>is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1234800" y="373968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79520" y="373968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11760" y="373968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656480" y="373968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85920" y="2854080"/>
              <a:ext cx="640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87760" y="263664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60360" y="284148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92480" y="284148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11760" y="284148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81680" y="284148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95280" y="1628640"/>
            <a:ext cx="8064360" cy="398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Teilmengen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Überlappung ist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5280" y="4638600"/>
            <a:ext cx="8064360" cy="1326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UNIVERSITÄTSMITARBEITER (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Tahoma"/>
              </a:rPr>
              <a:t>SV#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 Vorname, Nachname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UNKTION (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Tahoma"/>
              </a:rPr>
              <a:t>Funktions#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 Bezeichnu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4139"/>
                </a:solidFill>
                <a:latin typeface="Tahoma"/>
              </a:rPr>
              <a:t>TÄTIGKEIT (</a:t>
            </a:r>
            <a:r>
              <a:rPr b="1" lang="de-DE" sz="2000" spc="-1" strike="noStrike" u="sng">
                <a:solidFill>
                  <a:srgbClr val="ff4139"/>
                </a:solidFill>
                <a:uFillTx/>
                <a:latin typeface="Tahoma"/>
              </a:rPr>
              <a:t>SV#</a:t>
            </a:r>
            <a:r>
              <a:rPr b="1" lang="de-DE" sz="2000" spc="-1" strike="noStrike">
                <a:solidFill>
                  <a:srgbClr val="ff4139"/>
                </a:solidFill>
                <a:latin typeface="Tahoma"/>
              </a:rPr>
              <a:t>, Funktions#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5280" y="6093000"/>
            <a:ext cx="8064360" cy="398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ntspricht m:n-Bezieh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A89-737B-4D74-82B8-38651D34BDC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933480" y="2221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Comic Sans MS"/>
              </a:rPr>
              <a:t>Darstellung von Klassen im relationalen Datenmod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95280" y="1959120"/>
            <a:ext cx="7954920" cy="2777760"/>
            <a:chOff x="395280" y="1959120"/>
            <a:chExt cx="7954920" cy="2777760"/>
          </a:xfrm>
        </p:grpSpPr>
        <p:sp>
          <p:nvSpPr>
            <p:cNvPr id="369" name=""/>
            <p:cNvSpPr/>
            <p:nvPr/>
          </p:nvSpPr>
          <p:spPr>
            <a:xfrm>
              <a:off x="2759040" y="1959120"/>
              <a:ext cx="3435120" cy="825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ahoma"/>
                </a:rPr>
                <a:t>Universitätsmitarbei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836640" y="3057120"/>
              <a:ext cx="817560" cy="693360"/>
              <a:chOff x="836640" y="3057120"/>
              <a:chExt cx="817560" cy="693360"/>
            </a:xfrm>
          </p:grpSpPr>
          <p:sp>
            <p:nvSpPr>
              <p:cNvPr id="371" name=""/>
              <p:cNvSpPr/>
              <p:nvPr/>
            </p:nvSpPr>
            <p:spPr>
              <a:xfrm>
                <a:off x="836640" y="3057120"/>
                <a:ext cx="817560" cy="693360"/>
              </a:xfrm>
              <a:prstGeom prst="flowChartDecision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984240" y="32014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ahoma"/>
                  </a:rPr>
                  <a:t>is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395280" y="3911400"/>
              <a:ext cx="1512720" cy="825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ahoma"/>
                </a:rPr>
                <a:t>Profes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84280" y="3911400"/>
              <a:ext cx="1455840" cy="825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ahoma"/>
                </a:rPr>
                <a:t>Assis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25960" y="3908160"/>
              <a:ext cx="1239840" cy="45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ahoma"/>
                </a:rPr>
                <a:t>Lek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3280" y="3908160"/>
              <a:ext cx="1366920" cy="45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ahoma"/>
                </a:rPr>
                <a:t>Stud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2781360" y="3057120"/>
              <a:ext cx="817560" cy="693360"/>
              <a:chOff x="2781360" y="3057120"/>
              <a:chExt cx="817560" cy="693360"/>
            </a:xfrm>
          </p:grpSpPr>
          <p:sp>
            <p:nvSpPr>
              <p:cNvPr id="378" name=""/>
              <p:cNvSpPr/>
              <p:nvPr/>
            </p:nvSpPr>
            <p:spPr>
              <a:xfrm>
                <a:off x="2781360" y="3057120"/>
                <a:ext cx="817560" cy="693360"/>
              </a:xfrm>
              <a:prstGeom prst="flowChartDecision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28960" y="32014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ahoma"/>
                  </a:rPr>
                  <a:t>is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5300640" y="3057120"/>
              <a:ext cx="817560" cy="693360"/>
              <a:chOff x="5300640" y="3057120"/>
              <a:chExt cx="817560" cy="693360"/>
            </a:xfrm>
          </p:grpSpPr>
          <p:sp>
            <p:nvSpPr>
              <p:cNvPr id="381" name=""/>
              <p:cNvSpPr/>
              <p:nvPr/>
            </p:nvSpPr>
            <p:spPr>
              <a:xfrm>
                <a:off x="5300640" y="3057120"/>
                <a:ext cx="817560" cy="693360"/>
              </a:xfrm>
              <a:prstGeom prst="flowChartDecision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448240" y="32014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ahoma"/>
                  </a:rPr>
                  <a:t>is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7245360" y="3057120"/>
              <a:ext cx="817560" cy="693360"/>
              <a:chOff x="7245360" y="3057120"/>
              <a:chExt cx="817560" cy="693360"/>
            </a:xfrm>
          </p:grpSpPr>
          <p:sp>
            <p:nvSpPr>
              <p:cNvPr id="384" name=""/>
              <p:cNvSpPr/>
              <p:nvPr/>
            </p:nvSpPr>
            <p:spPr>
              <a:xfrm>
                <a:off x="7245360" y="3057120"/>
                <a:ext cx="817560" cy="693360"/>
              </a:xfrm>
              <a:prstGeom prst="flowChartDecision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392960" y="32014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ahoma"/>
                  </a:rPr>
                  <a:t>is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1234800" y="373968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79520" y="373968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711760" y="373968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656480" y="373968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85920" y="2854080"/>
              <a:ext cx="640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87760" y="263664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60360" y="284148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192480" y="284148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11760" y="284148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81680" y="284148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395280" y="1628640"/>
            <a:ext cx="8064360" cy="398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Klassen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Überlappung ist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nich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5280" y="4653000"/>
            <a:ext cx="806436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UNIVERSITÄTSMITARBEITER (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Tahoma"/>
              </a:rPr>
              <a:t>SV#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 Vorname, Nachname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Funktion,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5280" y="6093000"/>
            <a:ext cx="8064360" cy="398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ntspricht 1:1-Bezieh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A62-7E22-4E25-ADC1-F768DE5F959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71640" y="62064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Comic Sans MS"/>
              </a:rPr>
              <a:t>Datennormalisierung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5280" y="1874880"/>
            <a:ext cx="8064360" cy="825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m Mehrfachspeicherung (Redundanzen) zu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 verme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6720" y="3100320"/>
            <a:ext cx="8062920" cy="1557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m Schwierigkeiten im Zusammenhang mi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Änderungen der Datenbank (Einfügen, Lösch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von Datensätzen, Spalten und Tabellen) zu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verme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5280" y="5054760"/>
            <a:ext cx="8062920" cy="825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m einen logischen Aufbau der Datenbank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Datenunabhängigkeit zu gewährle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CA5-31FA-48B4-8CA9-0DA2F3CDBFB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900000" y="6066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Comic Sans MS"/>
              </a:rPr>
              <a:t>Datennormalisierung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5280" y="1830240"/>
            <a:ext cx="8064360" cy="1472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Die unnormalisierte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 der unnormalisierten Relation sind am Kreuzungspunkt von Zeile (Datensatz) und Spalte (Attribut) mehrere Elemente enthal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5920" y="3782880"/>
            <a:ext cx="8073720" cy="1167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Die 1. Normal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ine Relation befindet sich in 1NF, wenn am Kreuzungspunkt von Zeile und Spalte genau ein Wert ste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B6B2-91C1-4FC2-BA41-768E014C58A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76160" y="457200"/>
            <a:ext cx="775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Comic Sans MS"/>
              </a:rPr>
              <a:t>Vom Konzept zur Daten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752480"/>
            <a:ext cx="83059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ine Datenbank ist ein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Ausschnit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der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Realitä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ie enthält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reale Informatione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(zB. CD, Interpret, Mitarbeiter, …) in strukturierter F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838080" y="2285640"/>
            <a:ext cx="6518520" cy="1981440"/>
            <a:chOff x="838080" y="2285640"/>
            <a:chExt cx="6518520" cy="1981440"/>
          </a:xfrm>
        </p:grpSpPr>
        <p:sp>
          <p:nvSpPr>
            <p:cNvPr id="108" name=""/>
            <p:cNvSpPr/>
            <p:nvPr/>
          </p:nvSpPr>
          <p:spPr>
            <a:xfrm>
              <a:off x="838080" y="2666880"/>
              <a:ext cx="1752840" cy="160020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ff"/>
                  </a:solidFill>
                  <a:latin typeface="Tahoma"/>
                </a:rPr>
                <a:t>D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2971800" y="2285640"/>
              <a:ext cx="4384800" cy="1981440"/>
              <a:chOff x="2971800" y="2285640"/>
              <a:chExt cx="4384800" cy="1981440"/>
            </a:xfrm>
          </p:grpSpPr>
          <p:pic>
            <p:nvPicPr>
              <p:cNvPr id="11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2438280"/>
                <a:ext cx="1793880" cy="15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flipV="1">
                <a:off x="2971800" y="2285640"/>
                <a:ext cx="274320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48120" y="3733920"/>
                <a:ext cx="289548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866760" y="3359160"/>
                <a:ext cx="1665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ff"/>
                    </a:solidFill>
                    <a:latin typeface="Tahoma"/>
                  </a:rPr>
                  <a:t>INFORMATION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C5E2-6AB6-4302-B962-ECE845C2E75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12960" y="6192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Comic Sans MS"/>
              </a:rPr>
              <a:t>Datennormalisierung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95280" y="3782880"/>
            <a:ext cx="8064360" cy="1472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Die 3. Normal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ine Relation befindet sich in  3NF, wenn sie in 2NF ist und es keine funktionale Abhängigkeiten zwischen Nicht-Schlüsselattributen gib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95280" y="1825560"/>
            <a:ext cx="8064360" cy="1472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Die 2. Normal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ine Relation befindet sich in 2NF, wenn sie in 1NF ist und jedes nicht dem Schlüssel angehörende Attribut voll funktional vom Schlüssel abhängig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4DF2-7FE6-4544-A88B-FBD710BB51B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919080" y="24120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Comic Sans MS"/>
              </a:rPr>
              <a:t>Zusammenfassende Regeln des Relationalen Datenmod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4920" y="1752480"/>
            <a:ext cx="883908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m Kreuzungspunkt einer Zeile und Spalte steht 1 We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Die in einem Feld gespeicherten Informationen dürfen nicht weiter zerleg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  werden können. Ein Feld erhält die kleinstmögliche Infor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In einer Tabelle sollten alle Felder vom Primärschlüssel abhängig sei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  und nicht von einem versteckten Schlüssel.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Bei einer 1:N Beziehung wird der Primärschlüssel der 1-Tabelle als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 Sekundärschlüssel in der N-Tabelle gespeichert.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Bei einer M:N-Beziehung erfolgt die Verknüpfung der beiden Tabellen durch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  eine dritte Tabelle, in welcher die Primärschlüssel der beiden verbunden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  Tabellen gespeichert si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D8BE-A5CC-459E-A8CC-CDD3BB1D193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971640" y="62064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Comic Sans MS"/>
              </a:rPr>
              <a:t>Übung 2: Datennormalis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4920" y="1752480"/>
            <a:ext cx="81547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Die folgende Kundentabelle ist unnormalisiert und soll in die 3. NF gebracht werden.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Beachten Sie dabei die Regeln des Relationalen Datenmodel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Führen Sie die Datennormalisierung in einem Excel-File durch. Speichern Sie die Date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im Laufwerk Z:\KIDM\Datenbanken mit dem Namen 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atennormalisierung.x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539640" y="3352680"/>
          <a:ext cx="6438960" cy="2381400"/>
        </p:xfrm>
        <a:graphic>
          <a:graphicData uri="http://schemas.openxmlformats.org/drawingml/2006/table">
            <a:tbl>
              <a:tblPr/>
              <a:tblGrid>
                <a:gridCol w="888840"/>
                <a:gridCol w="952560"/>
                <a:gridCol w="1473480"/>
                <a:gridCol w="1244520"/>
                <a:gridCol w="977760"/>
                <a:gridCol w="901800"/>
              </a:tblGrid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normalisierte 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nden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res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kaufte Produk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kaufsdat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is pro Stück in 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ristopher V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inburger Straße 3/10, 1030 W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  <a:ea typeface="Arial"/>
                        </a:rPr>
                        <a:t>3 Levis Je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.12.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nhard Zut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ünnerstraße 124, 1220 W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Diesel Jeans, 2 Austria Salzburg T-Shi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01.2005, 17.02.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,--, 2,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lix Wi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zartstraße 13, 5020 Salzbu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Hilfiger-Hemden, 2 Levis Je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.2005., 14.2.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,--, 100,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900-ED26-4455-AAA4-51BFBBB40D22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5200" y="549360"/>
            <a:ext cx="76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Comic Sans MS"/>
              </a:rPr>
              <a:t>Schritte der DB-Entwick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1600200"/>
            <a:ext cx="6788160" cy="8380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8920" y="1828800"/>
            <a:ext cx="28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Tahoma"/>
              </a:rPr>
              <a:t>1. Informationsanaly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743200"/>
            <a:ext cx="6788160" cy="8380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5760" y="2971800"/>
            <a:ext cx="62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Tahoma"/>
              </a:rPr>
              <a:t>2. Beschreibung mit Entity-Relationship-Modell (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3962520"/>
            <a:ext cx="6859440" cy="8380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87120" y="4038480"/>
            <a:ext cx="53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Tahoma"/>
              </a:rPr>
              <a:t>3. Beschreibung mit Hilfe eines Datenmod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Tahoma"/>
              </a:rPr>
              <a:t>(zB. dem relationalen Datenmode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181480"/>
            <a:ext cx="6859440" cy="83844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66360" y="542448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Tahoma"/>
              </a:rPr>
              <a:t>4. Implementierung der Daten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1384200"/>
            <a:ext cx="1219320" cy="3276720"/>
          </a:xfrm>
          <a:prstGeom prst="downArrow">
            <a:avLst>
              <a:gd name="adj1" fmla="val 50000"/>
              <a:gd name="adj2" fmla="val 67183"/>
            </a:avLst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7456320" y="282636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Tahoma"/>
              </a:rPr>
              <a:t>Entwurfs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4689360"/>
            <a:ext cx="1066680" cy="16002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4600">
            <a:off x="7485480" y="546228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Tahoma"/>
              </a:rPr>
              <a:t>Umsetzungs-</a:t>
            </a:r>
            <a:br>
              <a:rPr sz="1800"/>
            </a:br>
            <a:r>
              <a:rPr b="1" lang="de-DE" sz="1800" spc="-1" strike="noStrike">
                <a:solidFill>
                  <a:srgbClr val="0000ff"/>
                </a:solidFill>
                <a:latin typeface="Tahoma"/>
              </a:rPr>
              <a:t>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04920" y="630396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Tahoma"/>
              </a:rPr>
              <a:t>zB. Access. 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5932-BF1C-4BB1-AFD3-EC0CB97D537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23920" y="380880"/>
            <a:ext cx="69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Comic Sans MS"/>
              </a:rPr>
              <a:t>Notation des Entity-Relationship-Modells – </a:t>
            </a:r>
            <a:r>
              <a:rPr b="1" lang="de-DE" sz="2400" spc="-1" strike="noStrike" u="sng">
                <a:solidFill>
                  <a:srgbClr val="3333cc"/>
                </a:solidFill>
                <a:uFillTx/>
                <a:latin typeface="Comic Sans MS"/>
              </a:rPr>
              <a:t>Objekte (Enti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1660680"/>
            <a:ext cx="8839080" cy="51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Tahoma"/>
              </a:rPr>
              <a:t>Objekte: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Dinge der realen Welt – zB: Personen, CDs, Schüler, Lehrer, Mitarbeiter,…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Objekte der gleichen Art werden zu Objekttypen (Entity) zusammengefasst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Die CDs Liebesbrief, Lektionen in Demut, … gehören zur Entity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Tahoma"/>
              </a:rPr>
              <a:t>„CD“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Die Schüler Huber, Meier und Müller gehören zur Entity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Tahoma"/>
              </a:rPr>
              <a:t>„Schüler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Tahoma"/>
              </a:rPr>
              <a:t>Darstellung im ERM:</a:t>
            </a:r>
            <a:br>
              <a:rPr sz="1800"/>
            </a:br>
            <a:r>
              <a:rPr b="0" lang="de-DE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 als Rechteck </a:t>
            </a:r>
            <a:br>
              <a:rPr sz="1800"/>
            </a:br>
            <a:r>
              <a:rPr b="0" lang="de-DE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 Mit Hauptwort beschrie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In der Datenbank werden Entitäten als </a:t>
            </a:r>
            <a:r>
              <a:rPr b="1" lang="de-DE" sz="2000" spc="-1" strike="noStrike">
                <a:solidFill>
                  <a:srgbClr val="ff0000"/>
                </a:solidFill>
                <a:latin typeface="Tahoma"/>
              </a:rPr>
              <a:t>Tabellen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dargeste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56000" y="4021200"/>
            <a:ext cx="1368360" cy="398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56000" y="4741920"/>
            <a:ext cx="1368360" cy="398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chü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A258-7A1E-4621-861A-E6D95D6AABA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23920" y="380880"/>
            <a:ext cx="668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Comic Sans MS"/>
              </a:rPr>
              <a:t>Notation des Entity-Relationship-Modells – </a:t>
            </a:r>
            <a:r>
              <a:rPr b="1" lang="de-DE" sz="2400" spc="-1" strike="noStrike" u="sng">
                <a:solidFill>
                  <a:srgbClr val="3333cc"/>
                </a:solidFill>
                <a:uFillTx/>
                <a:latin typeface="Comic Sans MS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660680"/>
            <a:ext cx="883908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Tahoma"/>
              </a:rPr>
              <a:t>Attribut: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Objekte (Entities) werden durch Eigenschaften (Attribute) beschrie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ttribut des Objekts CD: zB Interpret, Preis, CD-Nummer, …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Attribut des Objekts Schüler: Vorname, Familienname, SV-Nummer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de-DE" sz="1800" spc="-1" strike="noStrike" u="sng">
                <a:solidFill>
                  <a:srgbClr val="000000"/>
                </a:solidFill>
                <a:uFillTx/>
                <a:latin typeface="Tahoma"/>
              </a:rPr>
              <a:t>Darstellung im ERM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als Ellip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In der Datenbank werden Attribute als </a:t>
            </a:r>
            <a:r>
              <a:rPr b="1" lang="de-DE" sz="1800" spc="-1" strike="noStrike">
                <a:solidFill>
                  <a:srgbClr val="ff0000"/>
                </a:solidFill>
                <a:latin typeface="Tahoma"/>
              </a:rPr>
              <a:t>Spalten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dargestel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08360" y="3213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terpr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08360" y="3141720"/>
            <a:ext cx="1800360" cy="57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29440" y="3213000"/>
            <a:ext cx="194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Tahoma"/>
              </a:rPr>
              <a:t>Primärschlüs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27640" y="3141720"/>
            <a:ext cx="1943280" cy="57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4724280"/>
            <a:ext cx="136836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4724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Interp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3640" y="4681440"/>
            <a:ext cx="1512720" cy="432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20720" y="3932280"/>
            <a:ext cx="19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Tahoma"/>
              </a:rPr>
              <a:t>Primär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47720" y="3879720"/>
            <a:ext cx="1873440" cy="432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195280" y="4292640"/>
            <a:ext cx="215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484360" y="4941360"/>
            <a:ext cx="719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F0C7-CB08-49F2-A207-4C76B727582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23920" y="380880"/>
            <a:ext cx="66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Comic Sans MS"/>
              </a:rPr>
              <a:t>Eigenschaften des Primärschlüs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73440" y="1484280"/>
            <a:ext cx="194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Tahoma"/>
              </a:rPr>
              <a:t>Primärschlüs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1413000"/>
            <a:ext cx="1943280" cy="57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3120" y="2460600"/>
            <a:ext cx="883944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EINDEUT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Der Primärschlüssel dient dazu, einen Datensatz eindeutig zu identifizieren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 Je zwei Datensätze einer Tabelle unterscheiden sich zumindest durch d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 Primärschlüss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MIN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Der Primärschlüssel besteht aus einem oder mehreren Attribu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Besteht der Primärschlüssel aus mehreren Attributen so muss diese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 Attributemenge minimal sein. D.h. durch Weglassen eines Attributes dieser 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 Menge verliert der Primärschlüssel seine Identifikationseigenscha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9BCA-1129-4781-8383-9E9D0A2464C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23920" y="380880"/>
            <a:ext cx="69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Comic Sans MS"/>
              </a:rPr>
              <a:t>Notation des Entity-Relationship-Modells – </a:t>
            </a:r>
            <a:r>
              <a:rPr b="1" lang="de-DE" sz="2400" spc="-1" strike="noStrike" u="sng">
                <a:solidFill>
                  <a:srgbClr val="3333cc"/>
                </a:solidFill>
                <a:uFillTx/>
                <a:latin typeface="Comic Sans MS"/>
              </a:rPr>
              <a:t>Beziehungen (Relationsh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682640"/>
            <a:ext cx="8839080" cy="48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Tahoma"/>
              </a:rPr>
              <a:t>Relationship: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Verbindung zwischen zwei oder mehreren Entities.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Beziehung zwischen CD und Interpret: erstell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Beziehung zwischen Lehrer und Schüler: unterrich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Tahoma"/>
              </a:rPr>
              <a:t>Darstellung im ERM:</a:t>
            </a:r>
            <a:br>
              <a:rPr sz="1800"/>
            </a:br>
            <a:r>
              <a:rPr b="0" lang="de-DE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 als Raute</a:t>
            </a:r>
            <a:br>
              <a:rPr sz="1800"/>
            </a:br>
            <a:r>
              <a:rPr b="0" lang="de-DE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 Mit Zeitwort beschrie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as im Zuge einer DB-Modellierung als Entity, als Attribut und was als Relationship dargestellt wird, kann nicht generell festgelegt werden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ondern ist von der jeweiligen Aufgabenstellung abhängi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91000" y="3583080"/>
            <a:ext cx="1917720" cy="693720"/>
          </a:xfrm>
          <a:prstGeom prst="flowChartDecision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6120" y="375768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erstel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72360" y="3933720"/>
            <a:ext cx="574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140000" y="393372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56080" y="4508640"/>
            <a:ext cx="1917720" cy="693720"/>
          </a:xfrm>
          <a:prstGeom prst="flowChartDecision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63880" y="468324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unterri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068360" y="485928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73800" y="4859280"/>
            <a:ext cx="574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A874-AFC2-4D99-8A81-735C24B00D3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29720" y="334800"/>
            <a:ext cx="727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Comic Sans MS"/>
              </a:rPr>
              <a:t>Mengenmäßige Beziehung zwischen Entities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Comic Sans MS"/>
              </a:rPr>
              <a:t>Kardinalität oder Konnektiv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3235320"/>
            <a:ext cx="102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N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987640" y="3513240"/>
            <a:ext cx="1917720" cy="693720"/>
            <a:chOff x="2987640" y="3513240"/>
            <a:chExt cx="1917720" cy="693720"/>
          </a:xfrm>
        </p:grpSpPr>
        <p:sp>
          <p:nvSpPr>
            <p:cNvPr id="162" name=""/>
            <p:cNvSpPr/>
            <p:nvPr/>
          </p:nvSpPr>
          <p:spPr>
            <a:xfrm>
              <a:off x="2987640" y="3513240"/>
              <a:ext cx="1917720" cy="69372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21440" y="366408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ahoma"/>
                </a:rPr>
                <a:t>erstel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68360" y="3586320"/>
            <a:ext cx="143964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terp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57960" y="3584520"/>
            <a:ext cx="13683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81760" y="34416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8000" y="34416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907640" y="38736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02120" y="38736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080" y="2006640"/>
            <a:ext cx="8170560" cy="703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Die Kardinalität/Konnektivität legt fest, zwischen wie vielen Ausprägungen von Entitäten die Beziehung beste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971800" y="4535640"/>
            <a:ext cx="1917720" cy="693720"/>
            <a:chOff x="2971800" y="4535640"/>
            <a:chExt cx="1917720" cy="693720"/>
          </a:xfrm>
        </p:grpSpPr>
        <p:sp>
          <p:nvSpPr>
            <p:cNvPr id="172" name=""/>
            <p:cNvSpPr/>
            <p:nvPr/>
          </p:nvSpPr>
          <p:spPr>
            <a:xfrm>
              <a:off x="2971800" y="4535640"/>
              <a:ext cx="1917720" cy="69372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53680" y="468648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ahoma"/>
                </a:rPr>
                <a:t>erhalt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24000" y="4606920"/>
            <a:ext cx="174276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tarb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42120" y="4606920"/>
            <a:ext cx="16714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98720" y="4510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090520" y="4856040"/>
            <a:ext cx="8967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86280" y="4896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10120" y="44956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9360" y="5208480"/>
            <a:ext cx="883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M: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21120" y="5472000"/>
            <a:ext cx="1919160" cy="6937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55040" y="5622840"/>
            <a:ext cx="16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unterrich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4280" y="5543640"/>
            <a:ext cx="17431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eh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32400" y="5543640"/>
            <a:ext cx="16718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chü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89000" y="5446800"/>
            <a:ext cx="4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081160" y="5792760"/>
            <a:ext cx="89712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5832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00760" y="54324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4272120"/>
            <a:ext cx="102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1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AE9A-D31E-4F0F-8B78-82F271A6C0F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9040" y="66816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Comic Sans MS"/>
              </a:rPr>
              <a:t>Zwingende und optionale Bezieh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987640" y="3130560"/>
            <a:ext cx="1917720" cy="693720"/>
            <a:chOff x="2987640" y="3130560"/>
            <a:chExt cx="1917720" cy="693720"/>
          </a:xfrm>
        </p:grpSpPr>
        <p:sp>
          <p:nvSpPr>
            <p:cNvPr id="192" name=""/>
            <p:cNvSpPr/>
            <p:nvPr/>
          </p:nvSpPr>
          <p:spPr>
            <a:xfrm>
              <a:off x="2987640" y="3130560"/>
              <a:ext cx="1917720" cy="69372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21440" y="328140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ahoma"/>
                </a:rPr>
                <a:t>erstel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68360" y="3203640"/>
            <a:ext cx="143964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terp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57960" y="3201840"/>
            <a:ext cx="13683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81760" y="2970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2970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907640" y="34909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02120" y="3490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4280" y="1773360"/>
            <a:ext cx="8136000" cy="1008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usätzlich zur Kardinalität einer Beziehung kann festgelegt werden, ob eine Beziehung in der Realität bestehen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MUS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oder lediglich bestehen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KAN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21120" y="4916520"/>
            <a:ext cx="1919160" cy="6937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55040" y="5067360"/>
            <a:ext cx="16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unterrich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4280" y="4987800"/>
            <a:ext cx="17431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eh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32400" y="4987800"/>
            <a:ext cx="16718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chü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89000" y="4890960"/>
            <a:ext cx="4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081160" y="5237280"/>
            <a:ext cx="89712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52768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00760" y="48769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338148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3819600"/>
            <a:ext cx="83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in Interpret kann eine CD erstellen, muss aber nicht (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optional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). Eine CD stammt aber immer von einem Interpreten (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zwingend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589720"/>
            <a:ext cx="838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in Lehrer der an einer Schule arbeitet, unterrichtet immer Schüler. Ein Schüler wird in einer Schule immer von mind. einem Lehrer unterrichtet. (beides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zwingend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C866-D829-44FE-853D-6B68063903B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ander Wallner</cp:lastModifiedBy>
  <dcterms:modified xsi:type="dcterms:W3CDTF">2005-03-14T17:31:19Z</dcterms:modified>
  <cp:revision>334</cp:revision>
  <dc:subject/>
  <dc:title>PowerPoint Presentation</dc:title>
</cp:coreProperties>
</file>