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0124-2E6F-4AE5-AECB-695BCA08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412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FE4-C5B6-4D38-A964-90919C3A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412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1C5D-DB7D-4F2E-8661-A845A749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412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06FF-EF4E-4A11-A5AC-9CD9BE1D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58AC-4185-42C9-876B-1009420C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7B2E-9FDC-44E5-80DD-4DC160EC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1FB2-A08B-4380-B500-C751DDE8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6669-F95C-499E-A86E-C011E7E3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D774-EFE2-4A08-B4F1-EB811E79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54828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D907-47C9-46C7-BCFF-0AB95EC5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117C-44B5-47EE-924B-CAE83B4E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412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6B79-3FB7-4CC8-A6C6-013A281B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A4D6-E96D-47C4-AF5C-D445663C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2D53-6F4D-4138-95A3-0710F361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004C-29AD-4C19-B8EB-4D4C8D88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90DD-B819-4BFA-B37D-DE3AAC73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B436-6E92-4A8E-83BF-A5E8A090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336C-BEAC-4A4F-9CCD-D8F95608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1681-AD03-44C8-9848-4B8470B4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DCAF-B78F-410C-9C79-84BAD40F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4120" y="54828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6A60-50F9-48CB-9FA5-E4AD57A2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7795-C4BA-45D8-AF82-D898F6A6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412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432B-1BBB-4E7E-A7D8-9523C944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412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F541-B8B6-4DA1-A2CC-E0E660E7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84640"/>
            <a:chOff x="0" y="0"/>
            <a:chExt cx="3200400" cy="6884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8464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7200" y="0"/>
              <a:ext cx="2743200" cy="117108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228600" y="1628640"/>
            <a:ext cx="7391520" cy="319320"/>
            <a:chOff x="228600" y="1628640"/>
            <a:chExt cx="7391520" cy="319320"/>
          </a:xfrm>
        </p:grpSpPr>
        <p:sp>
          <p:nvSpPr>
            <p:cNvPr id="4" name=""/>
            <p:cNvSpPr/>
            <p:nvPr/>
          </p:nvSpPr>
          <p:spPr>
            <a:xfrm>
              <a:off x="609480" y="162864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28600" y="162864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412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09EF-C37D-4316-A864-EF81E351725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6082-ED2D-400E-8BCA-D8BBA3327C5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Mediendatenbank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IDM 2AS_B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004/0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140360" y="6380280"/>
            <a:ext cx="863280" cy="288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76160" y="3444840"/>
            <a:ext cx="576360" cy="297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156360" y="5724360"/>
            <a:ext cx="576360" cy="360360"/>
            <a:chOff x="6156360" y="5724360"/>
            <a:chExt cx="576360" cy="360360"/>
          </a:xfrm>
        </p:grpSpPr>
        <p:sp>
          <p:nvSpPr>
            <p:cNvPr id="99" name=""/>
            <p:cNvSpPr/>
            <p:nvPr/>
          </p:nvSpPr>
          <p:spPr>
            <a:xfrm>
              <a:off x="6168960" y="5791680"/>
              <a:ext cx="534960" cy="2930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56360" y="5724360"/>
              <a:ext cx="5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i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124000" y="4390920"/>
            <a:ext cx="576360" cy="381240"/>
            <a:chOff x="2124000" y="4390920"/>
            <a:chExt cx="576360" cy="381240"/>
          </a:xfrm>
        </p:grpSpPr>
        <p:sp>
          <p:nvSpPr>
            <p:cNvPr id="102" name=""/>
            <p:cNvSpPr/>
            <p:nvPr/>
          </p:nvSpPr>
          <p:spPr>
            <a:xfrm>
              <a:off x="2149560" y="4419720"/>
              <a:ext cx="534960" cy="3524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24000" y="4390920"/>
              <a:ext cx="5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vo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616800" y="2306520"/>
            <a:ext cx="619200" cy="287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64600" y="2257560"/>
            <a:ext cx="563400" cy="307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96240" y="2544840"/>
            <a:ext cx="563400" cy="307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04000" y="3191040"/>
            <a:ext cx="744480" cy="287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778880" y="3141720"/>
            <a:ext cx="563400" cy="307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59920" y="3214800"/>
            <a:ext cx="563400" cy="307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8360" y="5656320"/>
            <a:ext cx="576360" cy="287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04000" y="5373720"/>
            <a:ext cx="744480" cy="287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88080" y="5375160"/>
            <a:ext cx="744840" cy="287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400960" y="6216480"/>
            <a:ext cx="563760" cy="308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6227640"/>
            <a:ext cx="619200" cy="287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67280" y="5651640"/>
            <a:ext cx="433440" cy="298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5587920"/>
            <a:ext cx="504720" cy="289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74800" y="5407200"/>
            <a:ext cx="720720" cy="307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98920" y="5056200"/>
            <a:ext cx="720720" cy="307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88080" y="6130800"/>
            <a:ext cx="779400" cy="298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06760" y="6226200"/>
            <a:ext cx="563760" cy="307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5591160"/>
            <a:ext cx="576360" cy="358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33600" y="5499000"/>
            <a:ext cx="576360" cy="358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57160" y="2378160"/>
            <a:ext cx="619200" cy="287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04960" y="2328840"/>
            <a:ext cx="563400" cy="308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3160" y="2319480"/>
            <a:ext cx="106524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80000" y="2421000"/>
            <a:ext cx="576000" cy="36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5080" y="2436840"/>
            <a:ext cx="649080" cy="287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8240" y="2787480"/>
            <a:ext cx="563760" cy="308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44720" y="4076640"/>
            <a:ext cx="863640" cy="432000"/>
          </a:xfrm>
          <a:prstGeom prst="diamond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50960" y="3502080"/>
            <a:ext cx="863640" cy="431640"/>
          </a:xfrm>
          <a:prstGeom prst="diamond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90600" y="5834160"/>
            <a:ext cx="863640" cy="431640"/>
          </a:xfrm>
          <a:prstGeom prst="diamond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5080" y="3860640"/>
            <a:ext cx="863640" cy="432000"/>
          </a:xfrm>
          <a:prstGeom prst="diamond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53080" y="4221000"/>
            <a:ext cx="863640" cy="432000"/>
          </a:xfrm>
          <a:prstGeom prst="diamond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24360" y="5300640"/>
            <a:ext cx="863640" cy="432000"/>
          </a:xfrm>
          <a:prstGeom prst="diamond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3412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R-Modell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32000" y="3000240"/>
            <a:ext cx="811080" cy="368280"/>
          </a:xfrm>
          <a:prstGeom prst="rect">
            <a:avLst/>
          </a:prstGeom>
          <a:solidFill>
            <a:srgbClr val="66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2771640"/>
            <a:ext cx="863640" cy="368280"/>
          </a:xfrm>
          <a:prstGeom prst="rect">
            <a:avLst/>
          </a:prstGeom>
          <a:solidFill>
            <a:srgbClr val="66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V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3673440"/>
            <a:ext cx="1224000" cy="368280"/>
          </a:xfrm>
          <a:prstGeom prst="rect">
            <a:avLst/>
          </a:prstGeom>
          <a:solidFill>
            <a:srgbClr val="66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ÜCH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36000" y="5859360"/>
            <a:ext cx="1008000" cy="368280"/>
          </a:xfrm>
          <a:prstGeom prst="rect">
            <a:avLst/>
          </a:prstGeom>
          <a:solidFill>
            <a:srgbClr val="66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PIE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35280" y="5084640"/>
            <a:ext cx="1368360" cy="368280"/>
          </a:xfrm>
          <a:prstGeom prst="rect">
            <a:avLst/>
          </a:prstGeom>
          <a:solidFill>
            <a:srgbClr val="66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REUND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9720" y="2349360"/>
            <a:ext cx="10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CD#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33680" y="2320920"/>
            <a:ext cx="70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Tit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46280" y="2354400"/>
            <a:ext cx="10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usikrichtu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60920" y="2981160"/>
            <a:ext cx="1531800" cy="368280"/>
          </a:xfrm>
          <a:prstGeom prst="rect">
            <a:avLst/>
          </a:prstGeom>
          <a:solidFill>
            <a:srgbClr val="66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TERPR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43480" y="2421000"/>
            <a:ext cx="102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Int#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24368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2637000"/>
            <a:ext cx="217440" cy="360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692000" y="2637000"/>
            <a:ext cx="214200" cy="360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124000" y="2708280"/>
            <a:ext cx="432000" cy="289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95640" y="2781360"/>
            <a:ext cx="14472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572000" y="2708280"/>
            <a:ext cx="287280" cy="289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5280" y="354492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erstelle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24000" y="3284640"/>
            <a:ext cx="432000" cy="431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419640" y="3284280"/>
            <a:ext cx="360360" cy="431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87880" y="3433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13080" y="3429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99360" y="2278080"/>
            <a:ext cx="102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DVD#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92960" y="2249640"/>
            <a:ext cx="70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Tit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18200" y="2565360"/>
            <a:ext cx="7488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7524360" y="2565360"/>
            <a:ext cx="14148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7740720" y="2852640"/>
            <a:ext cx="357120" cy="144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812000" y="256536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Prei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87280" y="3065400"/>
            <a:ext cx="144720" cy="71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96960" y="2781360"/>
            <a:ext cx="70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Prei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11840" y="3170160"/>
            <a:ext cx="10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Buch#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07240" y="314172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Tit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31040" y="3457440"/>
            <a:ext cx="7452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7838640" y="3457440"/>
            <a:ext cx="14148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8218440" y="3519360"/>
            <a:ext cx="357120" cy="144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90080" y="3205080"/>
            <a:ext cx="70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Prei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89880" y="5356080"/>
            <a:ext cx="102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Spiel#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08720" y="5643720"/>
            <a:ext cx="74880" cy="215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6720" y="53560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Ar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85080" y="5643720"/>
            <a:ext cx="0" cy="215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8243640" y="5877000"/>
            <a:ext cx="215640" cy="199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88360" y="5661000"/>
            <a:ext cx="59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Tit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8243640" y="6219360"/>
            <a:ext cx="215640" cy="88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79000" y="6213600"/>
            <a:ext cx="6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Prei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16360" y="6237360"/>
            <a:ext cx="4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F#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36960" y="5653080"/>
            <a:ext cx="70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V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5445000"/>
            <a:ext cx="504720" cy="144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57680" y="5589720"/>
            <a:ext cx="70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F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03520" y="540864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Hand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27280" y="505764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E-Mai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11640" y="5445000"/>
            <a:ext cx="14616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48000" y="5444640"/>
            <a:ext cx="647640" cy="863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348000" y="5444640"/>
            <a:ext cx="287280" cy="71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19640" y="522936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34080" y="612792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traß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16560" y="5445000"/>
            <a:ext cx="649080" cy="720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780000" y="5445000"/>
            <a:ext cx="287280" cy="792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35480" y="6227640"/>
            <a:ext cx="70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PLZ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71640" y="6076800"/>
            <a:ext cx="792000" cy="368280"/>
          </a:xfrm>
          <a:prstGeom prst="rect">
            <a:avLst/>
          </a:prstGeom>
          <a:solidFill>
            <a:srgbClr val="66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OR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96000" y="58770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ohne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763640" y="6048000"/>
            <a:ext cx="432000" cy="189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8000" y="580536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17800" y="573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059280" y="5444640"/>
            <a:ext cx="649080" cy="576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4360" y="561960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Ort#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60520" y="55087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5950080"/>
            <a:ext cx="215640" cy="142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403280" y="5805360"/>
            <a:ext cx="216000" cy="287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78640" y="4119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leihe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3708000" y="4292640"/>
            <a:ext cx="358920" cy="792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1844640" y="3357360"/>
            <a:ext cx="998640" cy="93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78640" y="390384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leihe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786640" y="426420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leihe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858280" y="5343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leihe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508720" y="3141360"/>
            <a:ext cx="1368360" cy="93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403880" y="4292640"/>
            <a:ext cx="672840" cy="792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003640" y="4436640"/>
            <a:ext cx="648000" cy="647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516720" y="3789000"/>
            <a:ext cx="647640" cy="647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5300640"/>
            <a:ext cx="72072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41920" y="5491080"/>
            <a:ext cx="719280" cy="505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78240" y="4076640"/>
            <a:ext cx="3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37080" y="3716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45080" y="40766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505560" y="53229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08360" y="4221000"/>
            <a:ext cx="3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4211640"/>
            <a:ext cx="33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26200" y="4299120"/>
            <a:ext cx="3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5229360"/>
            <a:ext cx="3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843280" y="4483080"/>
            <a:ext cx="576360" cy="433440"/>
            <a:chOff x="2843280" y="4483080"/>
            <a:chExt cx="576360" cy="433440"/>
          </a:xfrm>
        </p:grpSpPr>
        <p:sp>
          <p:nvSpPr>
            <p:cNvPr id="224" name=""/>
            <p:cNvSpPr/>
            <p:nvPr/>
          </p:nvSpPr>
          <p:spPr>
            <a:xfrm>
              <a:off x="2855880" y="4564080"/>
              <a:ext cx="534960" cy="3524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43280" y="4483080"/>
              <a:ext cx="5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i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V="1">
            <a:off x="2556000" y="4365720"/>
            <a:ext cx="503280" cy="71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132000" y="4436640"/>
            <a:ext cx="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460840" y="5648400"/>
            <a:ext cx="576360" cy="309240"/>
            <a:chOff x="5460840" y="5648400"/>
            <a:chExt cx="576360" cy="309240"/>
          </a:xfrm>
        </p:grpSpPr>
        <p:sp>
          <p:nvSpPr>
            <p:cNvPr id="229" name=""/>
            <p:cNvSpPr/>
            <p:nvPr/>
          </p:nvSpPr>
          <p:spPr>
            <a:xfrm>
              <a:off x="5486400" y="5671440"/>
              <a:ext cx="534960" cy="286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60840" y="5648400"/>
              <a:ext cx="5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vo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 flipH="1" flipV="1">
            <a:off x="6300360" y="5660640"/>
            <a:ext cx="7164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012000" y="5734080"/>
            <a:ext cx="144360" cy="71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508720" y="4632480"/>
            <a:ext cx="576000" cy="380520"/>
            <a:chOff x="5508720" y="4632480"/>
            <a:chExt cx="576000" cy="380520"/>
          </a:xfrm>
        </p:grpSpPr>
        <p:sp>
          <p:nvSpPr>
            <p:cNvPr id="234" name=""/>
            <p:cNvSpPr/>
            <p:nvPr/>
          </p:nvSpPr>
          <p:spPr>
            <a:xfrm>
              <a:off x="5533920" y="4660920"/>
              <a:ext cx="534600" cy="352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08720" y="4632480"/>
              <a:ext cx="57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vo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384960" y="4662360"/>
            <a:ext cx="534960" cy="352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72360" y="46530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bi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6227640" y="4581000"/>
            <a:ext cx="432000" cy="71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765760" y="4508280"/>
            <a:ext cx="9360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068720" y="3556080"/>
            <a:ext cx="576360" cy="380520"/>
            <a:chOff x="4068720" y="3556080"/>
            <a:chExt cx="576360" cy="380520"/>
          </a:xfrm>
        </p:grpSpPr>
        <p:sp>
          <p:nvSpPr>
            <p:cNvPr id="241" name=""/>
            <p:cNvSpPr/>
            <p:nvPr/>
          </p:nvSpPr>
          <p:spPr>
            <a:xfrm>
              <a:off x="4094280" y="3584520"/>
              <a:ext cx="534960" cy="352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68720" y="3556080"/>
              <a:ext cx="5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vo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944960" y="3446640"/>
            <a:ext cx="534960" cy="352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932360" y="3468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bi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97560" y="3870360"/>
            <a:ext cx="190440" cy="135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19640" y="3789360"/>
            <a:ext cx="7308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4869000"/>
            <a:ext cx="1224000" cy="368280"/>
          </a:xfrm>
          <a:prstGeom prst="rect">
            <a:avLst/>
          </a:prstGeom>
          <a:solidFill>
            <a:srgbClr val="66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UT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4720" y="4221000"/>
            <a:ext cx="863640" cy="432000"/>
          </a:xfrm>
          <a:prstGeom prst="diamond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485480" y="426420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chreibe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85080" y="4005360"/>
            <a:ext cx="74520" cy="215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956720" y="4653000"/>
            <a:ext cx="7452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029800" y="4581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78800" y="40053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77080" y="4340160"/>
            <a:ext cx="576360" cy="36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447040" y="4294080"/>
            <a:ext cx="557280" cy="287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07320" y="4365720"/>
            <a:ext cx="54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Int#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459640" y="4292640"/>
            <a:ext cx="5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V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308720" y="4653000"/>
            <a:ext cx="28764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8459640" y="4581360"/>
            <a:ext cx="216000" cy="287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972480" y="4943520"/>
            <a:ext cx="360360" cy="287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494172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F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08720" y="5084640"/>
            <a:ext cx="142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040" y="3429000"/>
            <a:ext cx="70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o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116000" y="3220920"/>
            <a:ext cx="216000" cy="208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353960" y="3557520"/>
            <a:ext cx="648000" cy="297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32000" y="3541680"/>
            <a:ext cx="70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Bil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547640" y="3357720"/>
            <a:ext cx="216000" cy="215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40360" y="634356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Geb_Da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27640" y="5445000"/>
            <a:ext cx="288720" cy="936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88000" y="404640"/>
            <a:ext cx="1296720" cy="368280"/>
          </a:xfrm>
          <a:prstGeom prst="rect">
            <a:avLst/>
          </a:prstGeom>
          <a:solidFill>
            <a:srgbClr val="66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ntitä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56360" y="333360"/>
            <a:ext cx="1065240" cy="533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56360" y="460440"/>
            <a:ext cx="102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Attribu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284960" y="260280"/>
            <a:ext cx="1295640" cy="647640"/>
          </a:xfrm>
          <a:prstGeom prst="diamond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413120" y="40464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Beziehu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83412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Relationales Datenmodell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366"/>
                </a:solidFill>
                <a:latin typeface="Arial"/>
              </a:rPr>
              <a:t>FREUNDE (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Arial"/>
              </a:rPr>
              <a:t>F#</a:t>
            </a:r>
            <a:r>
              <a:rPr b="0" lang="de-AT" sz="1800" spc="-1" strike="noStrike">
                <a:solidFill>
                  <a:srgbClr val="003366"/>
                </a:solidFill>
                <a:latin typeface="Arial"/>
              </a:rPr>
              <a:t>, VN, FN, PLZ, Straße, Handy, e-Mail, Geb_Dat, Ort#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366"/>
                </a:solidFill>
                <a:latin typeface="Arial"/>
              </a:rPr>
              <a:t>ORT (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Arial"/>
              </a:rPr>
              <a:t>Ort#</a:t>
            </a:r>
            <a:r>
              <a:rPr b="0" lang="de-AT" sz="1800" spc="-1" strike="noStrike">
                <a:solidFill>
                  <a:srgbClr val="003366"/>
                </a:solidFill>
                <a:latin typeface="Arial"/>
              </a:rPr>
              <a:t>, Nam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366"/>
                </a:solidFill>
                <a:latin typeface="Arial"/>
              </a:rPr>
              <a:t>CD (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Arial"/>
              </a:rPr>
              <a:t>CD#</a:t>
            </a:r>
            <a:r>
              <a:rPr b="0" lang="de-AT" sz="1800" spc="-1" strike="noStrike">
                <a:solidFill>
                  <a:srgbClr val="003366"/>
                </a:solidFill>
                <a:latin typeface="Arial"/>
              </a:rPr>
              <a:t>, Titel, Musikrichtung, Preis, Song, Bild, Int#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366"/>
                </a:solidFill>
                <a:latin typeface="Arial"/>
              </a:rPr>
              <a:t>CD-VERLEIH (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Arial"/>
              </a:rPr>
              <a:t>CD#</a:t>
            </a:r>
            <a:r>
              <a:rPr b="0" lang="de-AT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Arial"/>
              </a:rPr>
              <a:t>F#,</a:t>
            </a:r>
            <a:r>
              <a:rPr b="0" lang="de-A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Arial"/>
              </a:rPr>
              <a:t>Datum von</a:t>
            </a:r>
            <a:r>
              <a:rPr b="0" lang="de-AT" sz="1800" spc="-1" strike="noStrike">
                <a:solidFill>
                  <a:srgbClr val="003366"/>
                </a:solidFill>
                <a:latin typeface="Arial"/>
              </a:rPr>
              <a:t>, Datum bi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366"/>
                </a:solidFill>
                <a:latin typeface="Arial"/>
              </a:rPr>
              <a:t>INTERPRET (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Arial"/>
              </a:rPr>
              <a:t>Int#</a:t>
            </a:r>
            <a:r>
              <a:rPr b="0" lang="de-AT" sz="1800" spc="-1" strike="noStrike">
                <a:solidFill>
                  <a:srgbClr val="003366"/>
                </a:solidFill>
                <a:latin typeface="Arial"/>
              </a:rPr>
              <a:t>, Nam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366"/>
                </a:solidFill>
                <a:latin typeface="Arial"/>
              </a:rPr>
              <a:t>DVD (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Arial"/>
              </a:rPr>
              <a:t>DVD#</a:t>
            </a:r>
            <a:r>
              <a:rPr b="0" lang="de-AT" sz="1800" spc="-1" strike="noStrike">
                <a:solidFill>
                  <a:srgbClr val="003366"/>
                </a:solidFill>
                <a:latin typeface="Arial"/>
              </a:rPr>
              <a:t>, Titel, Prei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366"/>
                </a:solidFill>
                <a:latin typeface="Arial"/>
              </a:rPr>
              <a:t>DVD-VERLEIH (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Arial"/>
              </a:rPr>
              <a:t>DVD#</a:t>
            </a:r>
            <a:r>
              <a:rPr b="0" lang="de-AT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Arial"/>
              </a:rPr>
              <a:t>F#,</a:t>
            </a:r>
            <a:r>
              <a:rPr b="0" lang="de-A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Arial"/>
              </a:rPr>
              <a:t>Datum von</a:t>
            </a:r>
            <a:r>
              <a:rPr b="0" lang="de-AT" sz="1800" spc="-1" strike="noStrike">
                <a:solidFill>
                  <a:srgbClr val="003366"/>
                </a:solidFill>
                <a:latin typeface="Arial"/>
              </a:rPr>
              <a:t>, Datum bi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366"/>
                </a:solidFill>
                <a:latin typeface="Arial"/>
              </a:rPr>
              <a:t>BÜCHER (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Arial"/>
              </a:rPr>
              <a:t>Buch#, </a:t>
            </a:r>
            <a:r>
              <a:rPr b="0" lang="de-AT" sz="1800" spc="-1" strike="noStrike">
                <a:solidFill>
                  <a:srgbClr val="003366"/>
                </a:solidFill>
                <a:latin typeface="Arial"/>
              </a:rPr>
              <a:t>Titel, Preis, Auto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366"/>
                </a:solidFill>
                <a:latin typeface="Arial"/>
              </a:rPr>
              <a:t>AUTOR (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Arial"/>
              </a:rPr>
              <a:t>Autor#,</a:t>
            </a:r>
            <a:r>
              <a:rPr b="0" lang="de-AT" sz="1800" spc="-1" strike="noStrike">
                <a:solidFill>
                  <a:srgbClr val="003366"/>
                </a:solidFill>
                <a:latin typeface="Arial"/>
              </a:rPr>
              <a:t> VN, FN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366"/>
                </a:solidFill>
                <a:latin typeface="Arial"/>
              </a:rPr>
              <a:t>BUCH-VERLEIH (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Arial"/>
              </a:rPr>
              <a:t>Buch#</a:t>
            </a:r>
            <a:r>
              <a:rPr b="0" lang="de-AT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Arial"/>
              </a:rPr>
              <a:t>F#,</a:t>
            </a:r>
            <a:r>
              <a:rPr b="0" lang="de-A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Arial"/>
              </a:rPr>
              <a:t>Datum von</a:t>
            </a:r>
            <a:r>
              <a:rPr b="0" lang="de-AT" sz="1800" spc="-1" strike="noStrike">
                <a:solidFill>
                  <a:srgbClr val="003366"/>
                </a:solidFill>
                <a:latin typeface="Arial"/>
              </a:rPr>
              <a:t>, Datum bi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366"/>
                </a:solidFill>
                <a:latin typeface="Arial"/>
              </a:rPr>
              <a:t>SPIELE (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Arial"/>
              </a:rPr>
              <a:t>Spiele#,</a:t>
            </a:r>
            <a:r>
              <a:rPr b="0" lang="de-AT" sz="1800" spc="-1" strike="noStrike">
                <a:solidFill>
                  <a:srgbClr val="003366"/>
                </a:solidFill>
                <a:latin typeface="Arial"/>
              </a:rPr>
              <a:t> Titel, Art, Prei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366"/>
                </a:solidFill>
                <a:latin typeface="Arial"/>
              </a:rPr>
              <a:t>SPIELE-VERLEIH (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Arial"/>
              </a:rPr>
              <a:t>Spiele#</a:t>
            </a:r>
            <a:r>
              <a:rPr b="0" lang="de-AT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Arial"/>
              </a:rPr>
              <a:t>F#,</a:t>
            </a:r>
            <a:r>
              <a:rPr b="0" lang="de-A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Arial"/>
              </a:rPr>
              <a:t>Datum von</a:t>
            </a:r>
            <a:r>
              <a:rPr b="0" lang="de-AT" sz="1800" spc="-1" strike="noStrike">
                <a:solidFill>
                  <a:srgbClr val="003366"/>
                </a:solidFill>
                <a:latin typeface="Arial"/>
              </a:rPr>
              <a:t>, Datum bi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2637000"/>
            <a:ext cx="5032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67280" y="3200400"/>
            <a:ext cx="43200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40200" y="4532400"/>
            <a:ext cx="68436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06:59:11Z</dcterms:created>
  <dc:creator>Administrator</dc:creator>
  <dc:description/>
  <dc:language>en-US</dc:language>
  <cp:lastModifiedBy>Alexander Wallner</cp:lastModifiedBy>
  <dcterms:modified xsi:type="dcterms:W3CDTF">2005-03-14T17:28:40Z</dcterms:modified>
  <cp:revision>19</cp:revision>
  <dc:subject/>
  <dc:title>Mediendatenbank</dc:title>
</cp:coreProperties>
</file>