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55.png" ContentType="image/png"/>
  <Override PartName="/ppt/media/image52.png" ContentType="image/png"/>
  <Override PartName="/ppt/media/image50.wmf" ContentType="image/x-wmf"/>
  <Override PartName="/ppt/media/image2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56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6.png" ContentType="image/png"/>
  <Override PartName="/ppt/media/image31.png" ContentType="image/png"/>
  <Override PartName="/ppt/media/image29.wmf" ContentType="image/x-wmf"/>
  <Override PartName="/ppt/media/image63.png" ContentType="image/png"/>
  <Override PartName="/ppt/media/image62.wmf" ContentType="image/x-wmf"/>
  <Override PartName="/ppt/media/image59.png" ContentType="image/png"/>
  <Override PartName="/ppt/media/image22.png" ContentType="image/png"/>
  <Override PartName="/ppt/media/image26.wmf" ContentType="image/x-wmf"/>
  <Override PartName="/ppt/media/image24.png" ContentType="image/png"/>
  <Override PartName="/ppt/media/image61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25.png" ContentType="image/png"/>
  <Override PartName="/ppt/media/image32.png" ContentType="image/png"/>
  <Override PartName="/ppt/media/image10.wmf" ContentType="image/x-wmf"/>
  <Override PartName="/ppt/media/image47.wmf" ContentType="image/x-wmf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9.wmf" ContentType="image/x-wmf"/>
  <Override PartName="/ppt/media/image41.png" ContentType="image/png"/>
  <Override PartName="/ppt/media/image8.wmf" ContentType="image/x-wmf"/>
  <Override PartName="/ppt/media/image40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30.png" ContentType="image/png"/>
  <Override PartName="/ppt/media/image37.wmf" ContentType="image/x-wmf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116F-A095-4CBE-B61F-32F65C7929B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3097-E76D-43F6-AEDF-D4470D1A712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C438-DAD9-46E0-87B6-6902F2FCC87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1939-B799-492B-92CB-1626447446A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7E1F-ADB3-4328-8A85-0DD9C941299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8402-BF37-45DD-9891-B0F233726A0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C55D-3081-46F2-B171-EEDA7FD5E5E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125E-3DCC-49F2-8F73-806C8D630BE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5577-2FC7-4549-865C-81FFDC34CBC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4A65-7782-43B7-8992-5F38FFBDDC8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50C1-624B-4ABD-846F-A3F66D0791E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E746-8F0E-47FF-AA01-155E917C5C1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0083-8828-4C37-BADA-E79112AFF3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F74F-D458-41B5-8E15-6B42862AF6A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CA8E-BCFB-4AEB-BB10-510E437E323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2F02-C7B5-43AC-94B2-18AFE2F2C36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497D-76EF-4912-AD0B-FBF8C95E01D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04A8-3BC3-4865-A497-948A0824280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5F32-A8DD-488E-8560-629BF6F415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32F1-17D4-4854-95BA-AD3FD3013E1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64C4-DC1C-4FE7-A361-C11FFAE207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27AB-0835-4F71-87D0-B6012E57995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709B-D6DF-447C-8CE5-E904D0F6B5A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CA2-31F5-479A-AF87-98EAF058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20EF-8864-4468-93BC-E95FAA51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83E-8018-4202-9295-F31DFF1A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115-430A-45B4-9234-2B4FDAC5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9B1D-5FE9-4B97-BAE7-7304FD65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AD3D-E268-42EC-8CB9-4F5BB136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11FE-687E-4591-A191-6336567C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EC20-807E-458D-BCAA-3B431C05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3EE0-12D7-4262-B1B2-4A1A4B9B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9555-63B9-45E3-903D-ADE6871B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0811-5E57-49F1-9A15-4944A1F3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890-2619-4D0C-ACA9-BE0C8A0C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612D-EC39-4CE5-AE64-CD444D78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09DA-9AA6-45A2-8F58-0FD9036D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517D-420A-486E-9C39-F53B9D3D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20C3-C7C1-4EDA-B74B-802DB8D1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97BB-6FC5-4196-9BF0-E19EC8DD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A81-C6B7-4E43-BD00-E5DF31C9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B6C-1F13-4438-B80A-455C8937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E01-0F3A-4991-A850-32DC5549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143-AF20-4152-85E5-7E09F90F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8E1-6BCE-4786-937D-AC7554FE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17D-0D54-4B2B-8E8B-19C68CFA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FCF-34B4-4E3B-B45B-26B6EDCA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2B81-7518-471A-A3DD-76A93D03E7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9" descr="bauerpoint.gif"/>
          <p:cNvPicPr/>
          <p:nvPr/>
        </p:nvPicPr>
        <p:blipFill>
          <a:blip r:embed="rId2"/>
          <a:stretch/>
        </p:blipFill>
        <p:spPr>
          <a:xfrm>
            <a:off x="95400" y="6143760"/>
            <a:ext cx="1643040" cy="59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rafik 9" descr="bauerpoint.gif"/>
          <p:cNvPicPr/>
          <p:nvPr/>
        </p:nvPicPr>
        <p:blipFill>
          <a:blip r:embed="rId2"/>
          <a:stretch/>
        </p:blipFill>
        <p:spPr>
          <a:xfrm>
            <a:off x="95400" y="6143760"/>
            <a:ext cx="1643040" cy="591840"/>
          </a:xfrm>
          <a:prstGeom prst="rect">
            <a:avLst/>
          </a:prstGeom>
          <a:ln w="0">
            <a:noFill/>
          </a:ln>
        </p:spPr>
      </p:pic>
      <p:sp>
        <p:nvSpPr>
          <p:cNvPr id="43" name="Abgerundetes Rechteck 7"/>
          <p:cNvSpPr/>
          <p:nvPr/>
        </p:nvSpPr>
        <p:spPr>
          <a:xfrm>
            <a:off x="142920" y="142920"/>
            <a:ext cx="7596000" cy="5000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Verdana"/>
                <a:ea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Grafik 8" descr="favicon.png"/>
          <p:cNvPicPr/>
          <p:nvPr/>
        </p:nvPicPr>
        <p:blipFill>
          <a:blip r:embed="rId3"/>
          <a:stretch/>
        </p:blipFill>
        <p:spPr>
          <a:xfrm>
            <a:off x="166680" y="0"/>
            <a:ext cx="379440" cy="55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39A3-27A4-401A-93B2-62A8C6C012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8.wmf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46.png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8.wmf"/><Relationship Id="rId3" Type="http://schemas.openxmlformats.org/officeDocument/2006/relationships/image" Target="../media/image50.wmf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49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4.wmf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453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752280" y="371484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MS-Excel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Grafik 7" descr="bauerpoint.gif"/>
          <p:cNvPicPr/>
          <p:nvPr/>
        </p:nvPicPr>
        <p:blipFill>
          <a:blip r:embed="rId1"/>
          <a:stretch/>
        </p:blipFill>
        <p:spPr>
          <a:xfrm>
            <a:off x="3095640" y="2000160"/>
            <a:ext cx="357192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0" y="5867280"/>
            <a:ext cx="9453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66720" y="214200"/>
            <a:ext cx="6553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MS-Excel - Spaltenbreite &amp; -hö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rcRect l="0" t="13333" r="53753" b="60002"/>
          <a:stretch/>
        </p:blipFill>
        <p:spPr>
          <a:xfrm>
            <a:off x="2895480" y="914400"/>
            <a:ext cx="4114800" cy="17794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/>
          <p:cNvSpPr/>
          <p:nvPr/>
        </p:nvSpPr>
        <p:spPr>
          <a:xfrm>
            <a:off x="598680" y="100008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Spalte ist 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schmal“ eingestell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2"/>
          <a:srcRect l="9999" t="20003" r="55006" b="59411"/>
          <a:stretch/>
        </p:blipFill>
        <p:spPr>
          <a:xfrm>
            <a:off x="5715000" y="3429000"/>
            <a:ext cx="3048120" cy="134316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9"/>
          <p:cNvSpPr/>
          <p:nvPr/>
        </p:nvSpPr>
        <p:spPr>
          <a:xfrm rot="14058600">
            <a:off x="7354080" y="3847320"/>
            <a:ext cx="379440" cy="304560"/>
          </a:xfrm>
          <a:prstGeom prst="rightArrow">
            <a:avLst>
              <a:gd name="adj1" fmla="val 50000"/>
              <a:gd name="adj2" fmla="val 31147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6705720" y="4952880"/>
            <a:ext cx="1012680" cy="846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1"/>
          <p:cNvSpPr/>
          <p:nvPr/>
        </p:nvSpPr>
        <p:spPr>
          <a:xfrm>
            <a:off x="5615640" y="5715000"/>
            <a:ext cx="33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- Spaltenbreite und -hö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muß immer angepaß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9210600" y="0"/>
            <a:ext cx="695520" cy="609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3"/>
          <p:cNvSpPr/>
          <p:nvPr/>
        </p:nvSpPr>
        <p:spPr>
          <a:xfrm>
            <a:off x="312480" y="2428920"/>
            <a:ext cx="22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Arial"/>
              </a:rPr>
              <a:t>1. Start – Zellen - Form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6015240" y="312408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Arial"/>
              </a:rPr>
              <a:t>2. Mit Hilfe der Ma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4" descr=""/>
          <p:cNvPicPr/>
          <p:nvPr/>
        </p:nvPicPr>
        <p:blipFill>
          <a:blip r:embed="rId5"/>
          <a:srcRect l="70901" t="0" r="0" b="52394"/>
          <a:stretch/>
        </p:blipFill>
        <p:spPr>
          <a:xfrm>
            <a:off x="380880" y="2786040"/>
            <a:ext cx="2183040" cy="2857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1" name="Picture 15" descr=""/>
          <p:cNvPicPr/>
          <p:nvPr/>
        </p:nvPicPr>
        <p:blipFill>
          <a:blip r:embed="rId6"/>
          <a:stretch/>
        </p:blipFill>
        <p:spPr>
          <a:xfrm>
            <a:off x="2666880" y="4714920"/>
            <a:ext cx="1685880" cy="952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523800" y="214200"/>
            <a:ext cx="60199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MS-Excel - Der Funktionsassi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rcRect l="26720" t="0" r="50003" b="35006"/>
          <a:stretch/>
        </p:blipFill>
        <p:spPr>
          <a:xfrm>
            <a:off x="184320" y="1192320"/>
            <a:ext cx="1419120" cy="2971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2"/>
          <a:srcRect l="13543" t="22122" r="21664" b="16948"/>
          <a:stretch/>
        </p:blipFill>
        <p:spPr>
          <a:xfrm>
            <a:off x="1847880" y="1206360"/>
            <a:ext cx="3949560" cy="2786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3"/>
          <a:srcRect l="13543" t="39242" r="11458" b="16948"/>
          <a:stretch/>
        </p:blipFill>
        <p:spPr>
          <a:xfrm>
            <a:off x="152280" y="4191120"/>
            <a:ext cx="4572000" cy="2003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4"/>
          <a:srcRect l="18333" t="18609" r="5416" b="32226"/>
          <a:stretch/>
        </p:blipFill>
        <p:spPr>
          <a:xfrm>
            <a:off x="4952880" y="4191120"/>
            <a:ext cx="4648320" cy="22492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6934320" y="342900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0066"/>
                </a:solidFill>
                <a:latin typeface="Arial"/>
              </a:rPr>
              <a:t>Beispiel: Berechnung des Mittelwertes (Durchschnitts) zweier Zah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81000" y="81288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0066"/>
                </a:solidFill>
                <a:latin typeface="Arial"/>
              </a:rPr>
              <a:t>Starten des Funktionsassisten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529640" y="6216480"/>
            <a:ext cx="51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66"/>
                </a:solidFill>
                <a:latin typeface="Arial"/>
              </a:rPr>
              <a:t>- Berechnen von Mittelw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66"/>
                </a:solidFill>
                <a:latin typeface="Arial"/>
              </a:rPr>
              <a:t>- Berechnen von Maximum- und Minimumw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0" descr=""/>
          <p:cNvPicPr/>
          <p:nvPr/>
        </p:nvPicPr>
        <p:blipFill>
          <a:blip r:embed="rId5"/>
          <a:stretch/>
        </p:blipFill>
        <p:spPr>
          <a:xfrm>
            <a:off x="54000" y="5867280"/>
            <a:ext cx="1012680" cy="844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"/>
          <p:cNvPicPr/>
          <p:nvPr/>
        </p:nvPicPr>
        <p:blipFill>
          <a:blip r:embed="rId6"/>
          <a:stretch/>
        </p:blipFill>
        <p:spPr>
          <a:xfrm>
            <a:off x="9258480" y="0"/>
            <a:ext cx="6476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523800" y="258840"/>
            <a:ext cx="6019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Der Funktionsassis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237960" y="442908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0066"/>
                </a:solidFill>
                <a:latin typeface="Arial"/>
              </a:rPr>
              <a:t>Beispiel: Berechnung des Mittelwertes (Durchschnitts) zweier Zah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81000" y="81288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0066"/>
                </a:solidFill>
                <a:latin typeface="Arial"/>
              </a:rPr>
              <a:t>Starten des Funktionsassisten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1" descr=""/>
          <p:cNvPicPr/>
          <p:nvPr/>
        </p:nvPicPr>
        <p:blipFill>
          <a:blip r:embed="rId1"/>
          <a:stretch/>
        </p:blipFill>
        <p:spPr>
          <a:xfrm>
            <a:off x="9258480" y="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237960" y="1214280"/>
            <a:ext cx="3314880" cy="1333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4167360" y="785880"/>
            <a:ext cx="4124160" cy="3552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4"/>
          <a:stretch/>
        </p:blipFill>
        <p:spPr>
          <a:xfrm>
            <a:off x="3024360" y="3500280"/>
            <a:ext cx="53784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4"/>
          <p:cNvSpPr/>
          <p:nvPr/>
        </p:nvSpPr>
        <p:spPr>
          <a:xfrm>
            <a:off x="6934320" y="152280"/>
            <a:ext cx="28191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486360" y="252360"/>
            <a:ext cx="499320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Formatierungen und Berechn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52640" y="1071720"/>
            <a:ext cx="417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ben Sie folgende Daten in eine Excel-Arbeitsmappe e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4456800" y="3429000"/>
            <a:ext cx="5356080" cy="242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rechnen Sie de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esamtum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rößten Umsatz (Maximumwe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kleinsten Umsatz (Minimumwe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urchschnittswert (Mittelwert)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ormatieren Sie die Tabelle entsprechend der Vorl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Beachten Sie den Zellenumbruch in den Überschrift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tretch/>
        </p:blipFill>
        <p:spPr>
          <a:xfrm>
            <a:off x="9258480" y="622620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"/>
          <p:cNvPicPr/>
          <p:nvPr/>
        </p:nvPicPr>
        <p:blipFill>
          <a:blip r:embed="rId2"/>
          <a:srcRect l="0" t="18667" r="58005" b="24671"/>
          <a:stretch/>
        </p:blipFill>
        <p:spPr>
          <a:xfrm>
            <a:off x="152280" y="1371600"/>
            <a:ext cx="4216680" cy="4267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http://www.volkswagen.de/home/pics/logo.gif"/>
          <p:cNvPicPr/>
          <p:nvPr/>
        </p:nvPicPr>
        <p:blipFill>
          <a:blip r:embed="rId3"/>
          <a:srcRect l="46674" t="18179" r="0" b="27285"/>
          <a:stretch/>
        </p:blipFill>
        <p:spPr>
          <a:xfrm>
            <a:off x="8458200" y="152280"/>
            <a:ext cx="1084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5"/>
          <p:cNvSpPr/>
          <p:nvPr/>
        </p:nvSpPr>
        <p:spPr>
          <a:xfrm>
            <a:off x="6992280" y="1036800"/>
            <a:ext cx="27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satzübersicht PK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533520" y="252360"/>
            <a:ext cx="78483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MS-Excel - Absolute und relative Bezü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0" y="89856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0066"/>
                </a:solidFill>
                <a:latin typeface="Arial"/>
              </a:rPr>
              <a:t>Relative Zellbezü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rcRect l="0" t="19444" r="54380" b="27776"/>
          <a:stretch/>
        </p:blipFill>
        <p:spPr>
          <a:xfrm>
            <a:off x="0" y="1257480"/>
            <a:ext cx="2781360" cy="2414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rcRect l="0" t="19444" r="52921" b="27776"/>
          <a:stretch/>
        </p:blipFill>
        <p:spPr>
          <a:xfrm>
            <a:off x="2882880" y="1257480"/>
            <a:ext cx="2870280" cy="241452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>
            <a:off x="5486400" y="2021040"/>
            <a:ext cx="6732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6106320" y="185256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0066"/>
                </a:solidFill>
                <a:latin typeface="Arial"/>
              </a:rPr>
              <a:t>=A3*B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6106320" y="203040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0066"/>
                </a:solidFill>
                <a:latin typeface="Arial"/>
              </a:rPr>
              <a:t>=A4*B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5486400" y="2185920"/>
            <a:ext cx="6732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0"/>
          <p:cNvSpPr/>
          <p:nvPr/>
        </p:nvSpPr>
        <p:spPr>
          <a:xfrm rot="14058600">
            <a:off x="2501640" y="1968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 rot="5418600">
            <a:off x="1745280" y="2657880"/>
            <a:ext cx="912600" cy="165240"/>
          </a:xfrm>
          <a:prstGeom prst="rightArrow">
            <a:avLst>
              <a:gd name="adj1" fmla="val 50000"/>
              <a:gd name="adj2" fmla="val 138072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2839680" y="3645000"/>
            <a:ext cx="266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0066"/>
                </a:solidFill>
                <a:latin typeface="Arial"/>
              </a:rPr>
              <a:t>MS-Excel „zählt“ mi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0066"/>
                </a:solidFill>
                <a:latin typeface="Arial"/>
              </a:rPr>
              <a:t>Aus „A1“ wird „A2“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3" descr=""/>
          <p:cNvPicPr/>
          <p:nvPr/>
        </p:nvPicPr>
        <p:blipFill>
          <a:blip r:embed="rId3"/>
          <a:srcRect l="0" t="19444" r="50836" b="18058"/>
          <a:stretch/>
        </p:blipFill>
        <p:spPr>
          <a:xfrm>
            <a:off x="6908760" y="2666880"/>
            <a:ext cx="2997360" cy="28576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4"/>
          <p:cNvSpPr/>
          <p:nvPr/>
        </p:nvSpPr>
        <p:spPr>
          <a:xfrm>
            <a:off x="6814800" y="235728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0066"/>
                </a:solidFill>
                <a:latin typeface="Arial"/>
              </a:rPr>
              <a:t>Absolute Zellbezü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6432480" y="5546880"/>
            <a:ext cx="347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0066"/>
                </a:solidFill>
                <a:latin typeface="Arial"/>
              </a:rPr>
              <a:t>Zelle „B15“ muß konstant g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0066"/>
                </a:solidFill>
                <a:latin typeface="Arial"/>
              </a:rPr>
              <a:t>halten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0066"/>
                </a:solidFill>
                <a:latin typeface="Arial"/>
              </a:rPr>
              <a:t>Lösung: =B2*$B$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232920" y="4714920"/>
            <a:ext cx="4370040" cy="1159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cc0066"/>
                </a:solidFill>
                <a:latin typeface="Arial"/>
              </a:rPr>
              <a:t>Gemischte Zellbezü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0066"/>
                </a:solidFill>
                <a:latin typeface="Arial"/>
              </a:rPr>
              <a:t>C1</a:t>
            </a:r>
            <a:r>
              <a:rPr b="0" lang="de-DE" sz="14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cc0066"/>
                </a:solidFill>
                <a:latin typeface="Arial"/>
              </a:rPr>
              <a:t>Relativer Bez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0066"/>
                </a:solidFill>
                <a:latin typeface="Arial"/>
              </a:rPr>
              <a:t>$C$1</a:t>
            </a:r>
            <a:r>
              <a:rPr b="0" lang="de-DE" sz="14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cc0066"/>
                </a:solidFill>
                <a:latin typeface="Arial"/>
              </a:rPr>
              <a:t>Absoluter Bez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0066"/>
                </a:solidFill>
                <a:latin typeface="Arial"/>
              </a:rPr>
              <a:t>C$1</a:t>
            </a:r>
            <a:r>
              <a:rPr b="0" lang="de-DE" sz="14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cc0066"/>
                </a:solidFill>
                <a:latin typeface="Arial"/>
              </a:rPr>
              <a:t>Relativer Spalten-/ absoluter Zeilenbez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0066"/>
                </a:solidFill>
                <a:latin typeface="Arial"/>
              </a:rPr>
              <a:t>$C1</a:t>
            </a:r>
            <a:r>
              <a:rPr b="0" lang="de-DE" sz="14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cc0066"/>
                </a:solidFill>
                <a:latin typeface="Arial"/>
              </a:rPr>
              <a:t>Relativer Zeilen-/ absoluter Spaltenbez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"/>
          <p:cNvPicPr/>
          <p:nvPr/>
        </p:nvPicPr>
        <p:blipFill>
          <a:blip r:embed="rId4"/>
          <a:stretch/>
        </p:blipFill>
        <p:spPr>
          <a:xfrm>
            <a:off x="6435720" y="5927760"/>
            <a:ext cx="1012680" cy="846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8" descr=""/>
          <p:cNvPicPr/>
          <p:nvPr/>
        </p:nvPicPr>
        <p:blipFill>
          <a:blip r:embed="rId5"/>
          <a:stretch/>
        </p:blipFill>
        <p:spPr>
          <a:xfrm>
            <a:off x="1770120" y="3514680"/>
            <a:ext cx="1012680" cy="846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9" descr=""/>
          <p:cNvPicPr/>
          <p:nvPr/>
        </p:nvPicPr>
        <p:blipFill>
          <a:blip r:embed="rId6"/>
          <a:stretch/>
        </p:blipFill>
        <p:spPr>
          <a:xfrm>
            <a:off x="9258480" y="0"/>
            <a:ext cx="6476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4"/>
          <p:cNvSpPr/>
          <p:nvPr/>
        </p:nvSpPr>
        <p:spPr>
          <a:xfrm>
            <a:off x="6667560" y="1000080"/>
            <a:ext cx="28954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681480" y="285840"/>
            <a:ext cx="460152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Absolute und relative Zellbezü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207720" y="852480"/>
            <a:ext cx="61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ben Sie folgende Daten in eine Excel-Arbeitsmappe e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1"/>
          <a:stretch/>
        </p:blipFill>
        <p:spPr>
          <a:xfrm>
            <a:off x="9258480" y="622620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"/>
          <p:cNvPicPr/>
          <p:nvPr/>
        </p:nvPicPr>
        <p:blipFill>
          <a:blip r:embed="rId2"/>
          <a:srcRect l="0" t="19335" r="17001" b="12335"/>
          <a:stretch/>
        </p:blipFill>
        <p:spPr>
          <a:xfrm>
            <a:off x="200160" y="1214280"/>
            <a:ext cx="6324480" cy="39052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4232880" y="4572000"/>
            <a:ext cx="4451760" cy="199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Berechnen Sie den Umsatz inkl UST in der  Spalte 3.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Beispiel: B4 x C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Kopieren Sie die Formel in die nachfolgenden Zeilen der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palte C. (Achtung: absoluter Bezu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Berechnen Sie den Umsatz pro Mitarbeiter in der Spalte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Kopieren Sie die Formel in die nachfolgenden Zeilen der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palte E. (relativer Bezu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ormatieren Sie die Tabelle entsprechend der Vor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3" descr=""/>
          <p:cNvPicPr/>
          <p:nvPr/>
        </p:nvPicPr>
        <p:blipFill>
          <a:blip r:embed="rId3"/>
          <a:stretch/>
        </p:blipFill>
        <p:spPr>
          <a:xfrm>
            <a:off x="6743880" y="1063800"/>
            <a:ext cx="1238040" cy="16128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5"/>
          <p:cNvSpPr/>
          <p:nvPr/>
        </p:nvSpPr>
        <p:spPr>
          <a:xfrm>
            <a:off x="7756200" y="1838160"/>
            <a:ext cx="18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satzübers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5"/>
          <p:cNvSpPr/>
          <p:nvPr/>
        </p:nvSpPr>
        <p:spPr>
          <a:xfrm>
            <a:off x="6915240" y="857160"/>
            <a:ext cx="289548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533520" y="252360"/>
            <a:ext cx="60195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Die Prozentrech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rcRect l="0" t="23059" r="0" b="37226"/>
          <a:stretch/>
        </p:blipFill>
        <p:spPr>
          <a:xfrm>
            <a:off x="666720" y="1857240"/>
            <a:ext cx="6095880" cy="18162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627120" y="13874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09480" y="3903840"/>
            <a:ext cx="606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Vorgangswei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0066"/>
                </a:solidFill>
                <a:latin typeface="Arial"/>
              </a:rPr>
              <a:t>1. </a:t>
            </a:r>
            <a:r>
              <a:rPr b="0" lang="de-DE" sz="20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cc0066"/>
                </a:solidFill>
                <a:latin typeface="Arial"/>
              </a:rPr>
              <a:t>Division A2 : A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0066"/>
                </a:solidFill>
                <a:latin typeface="Arial"/>
              </a:rPr>
              <a:t>2.</a:t>
            </a:r>
            <a:r>
              <a:rPr b="0" lang="de-DE" sz="20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cc0066"/>
                </a:solidFill>
                <a:latin typeface="Arial"/>
              </a:rPr>
              <a:t>Festlegen Format „Prozen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0066"/>
                </a:solidFill>
                <a:latin typeface="Arial"/>
              </a:rPr>
              <a:t>3.</a:t>
            </a:r>
            <a:r>
              <a:rPr b="0" lang="de-DE" sz="20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cc0066"/>
                </a:solidFill>
                <a:latin typeface="Arial"/>
              </a:rPr>
              <a:t>Kopieren der Formel (Achtung B5 bleibt kons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3" descr=""/>
          <p:cNvPicPr/>
          <p:nvPr/>
        </p:nvPicPr>
        <p:blipFill>
          <a:blip r:embed="rId2"/>
          <a:stretch/>
        </p:blipFill>
        <p:spPr>
          <a:xfrm>
            <a:off x="9207360" y="6227640"/>
            <a:ext cx="698760" cy="63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4" descr=""/>
          <p:cNvPicPr/>
          <p:nvPr/>
        </p:nvPicPr>
        <p:blipFill>
          <a:blip r:embed="rId3"/>
          <a:stretch/>
        </p:blipFill>
        <p:spPr>
          <a:xfrm flipH="1">
            <a:off x="6667560" y="928800"/>
            <a:ext cx="1046160" cy="14191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6"/>
          <p:cNvSpPr/>
          <p:nvPr/>
        </p:nvSpPr>
        <p:spPr>
          <a:xfrm>
            <a:off x="7833240" y="1481040"/>
            <a:ext cx="1916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zentre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"/>
          <p:cNvPicPr/>
          <p:nvPr/>
        </p:nvPicPr>
        <p:blipFill>
          <a:blip r:embed="rId1"/>
          <a:stretch/>
        </p:blipFill>
        <p:spPr>
          <a:xfrm>
            <a:off x="9207360" y="6227640"/>
            <a:ext cx="698760" cy="6303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9"/>
          <p:cNvSpPr/>
          <p:nvPr/>
        </p:nvSpPr>
        <p:spPr>
          <a:xfrm>
            <a:off x="533520" y="252360"/>
            <a:ext cx="60195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Tageberech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619200" y="129240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1367640" y="4449600"/>
            <a:ext cx="528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0066"/>
                </a:solidFill>
                <a:latin typeface="Arial"/>
              </a:rPr>
              <a:t>- Prozentrechnung = einfache Division (Prozent Form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0066"/>
                </a:solidFill>
                <a:latin typeface="Arial"/>
              </a:rPr>
              <a:t>- Tageberechnung = Subtraktion zweier Datumsan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cc0066"/>
                </a:solidFill>
                <a:latin typeface="Arial"/>
              </a:rPr>
              <a:t>(Format „Zahl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3" descr=""/>
          <p:cNvPicPr/>
          <p:nvPr/>
        </p:nvPicPr>
        <p:blipFill>
          <a:blip r:embed="rId2"/>
          <a:stretch/>
        </p:blipFill>
        <p:spPr>
          <a:xfrm>
            <a:off x="415800" y="4535640"/>
            <a:ext cx="1013040" cy="846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4"/>
          <p:cNvSpPr/>
          <p:nvPr/>
        </p:nvSpPr>
        <p:spPr>
          <a:xfrm>
            <a:off x="6858000" y="2214720"/>
            <a:ext cx="28954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5" descr=""/>
          <p:cNvPicPr/>
          <p:nvPr/>
        </p:nvPicPr>
        <p:blipFill>
          <a:blip r:embed="rId3"/>
          <a:stretch/>
        </p:blipFill>
        <p:spPr>
          <a:xfrm flipH="1">
            <a:off x="6667560" y="2290680"/>
            <a:ext cx="1046160" cy="14194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6"/>
          <p:cNvSpPr/>
          <p:nvPr/>
        </p:nvSpPr>
        <p:spPr>
          <a:xfrm>
            <a:off x="7776360" y="2838600"/>
            <a:ext cx="1902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gebere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4"/>
          <a:srcRect l="0" t="13184" r="71291" b="61916"/>
          <a:stretch/>
        </p:blipFill>
        <p:spPr>
          <a:xfrm>
            <a:off x="738360" y="1643040"/>
            <a:ext cx="3500280" cy="2428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9" descr=""/>
          <p:cNvPicPr/>
          <p:nvPr/>
        </p:nvPicPr>
        <p:blipFill>
          <a:blip r:embed="rId1"/>
          <a:srcRect l="0" t="16115" r="10742" b="27490"/>
          <a:stretch/>
        </p:blipFill>
        <p:spPr>
          <a:xfrm>
            <a:off x="237960" y="857160"/>
            <a:ext cx="9239400" cy="4670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1" name="Rectangle 2"/>
          <p:cNvSpPr/>
          <p:nvPr/>
        </p:nvSpPr>
        <p:spPr>
          <a:xfrm>
            <a:off x="523080" y="252360"/>
            <a:ext cx="3530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Die Prozentrech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1" descr=""/>
          <p:cNvPicPr/>
          <p:nvPr/>
        </p:nvPicPr>
        <p:blipFill>
          <a:blip r:embed="rId2"/>
          <a:stretch/>
        </p:blipFill>
        <p:spPr>
          <a:xfrm>
            <a:off x="9207360" y="6227640"/>
            <a:ext cx="698760" cy="6303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7"/>
          <p:cNvSpPr/>
          <p:nvPr/>
        </p:nvSpPr>
        <p:spPr>
          <a:xfrm>
            <a:off x="3368880" y="5261040"/>
            <a:ext cx="5482800" cy="12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Berechnen Sie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Das Gesamte monatliche Taschengeld der Familie (B 1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den prozentuellen Anteil des Taschengeldes eines jeden Familienmitgliedes (Spalte 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Die gesamten Ausgaben (Summe Spalte D bis F) in Spalte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Den Anteil der Ausgaben (Spalte H) vom Taschengeld (Spalte 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Den Sparanteil (Spalte G zu Spalte B) – Spalte I + J = 100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7010280" y="1143000"/>
            <a:ext cx="2586240" cy="95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5" descr=""/>
          <p:cNvPicPr/>
          <p:nvPr/>
        </p:nvPicPr>
        <p:blipFill>
          <a:blip r:embed="rId3"/>
          <a:stretch/>
        </p:blipFill>
        <p:spPr>
          <a:xfrm>
            <a:off x="7095960" y="1214280"/>
            <a:ext cx="784440" cy="7905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7"/>
          <p:cNvSpPr/>
          <p:nvPr/>
        </p:nvSpPr>
        <p:spPr>
          <a:xfrm>
            <a:off x="8026920" y="1000080"/>
            <a:ext cx="153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m. Lam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517680" y="252360"/>
            <a:ext cx="52905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Die Prozent- &amp; Tageberech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311040" y="1285920"/>
            <a:ext cx="554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ben Sie  folgende Daten in eine Excel-Arbeitsmappe 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023920" y="5337000"/>
            <a:ext cx="561816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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Berechnen Sie den prozentuellen Anteil jedes Vertreters vom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Gesamtumsatz (B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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Berechnen Sie die Anzahl der Tage und den Umsatz pro Tag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jedes einzelnen Vertreters – Beachten Sie die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atumsformatier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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ormatieren Sie die Tabelle entsprechend der Vorga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0" descr=""/>
          <p:cNvPicPr/>
          <p:nvPr/>
        </p:nvPicPr>
        <p:blipFill>
          <a:blip r:embed="rId1"/>
          <a:stretch/>
        </p:blipFill>
        <p:spPr>
          <a:xfrm>
            <a:off x="9207360" y="6227640"/>
            <a:ext cx="698760" cy="6303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5"/>
          <p:cNvSpPr/>
          <p:nvPr/>
        </p:nvSpPr>
        <p:spPr>
          <a:xfrm>
            <a:off x="6934320" y="152280"/>
            <a:ext cx="289548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"/>
          <p:cNvPicPr/>
          <p:nvPr/>
        </p:nvPicPr>
        <p:blipFill>
          <a:blip r:embed="rId2"/>
          <a:stretch/>
        </p:blipFill>
        <p:spPr>
          <a:xfrm>
            <a:off x="7620120" y="457200"/>
            <a:ext cx="1447560" cy="11080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4"/>
          <p:cNvSpPr/>
          <p:nvPr/>
        </p:nvSpPr>
        <p:spPr>
          <a:xfrm>
            <a:off x="7249320" y="228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 Umsatz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rcRect l="0" t="16115" r="28517" b="50197"/>
          <a:stretch/>
        </p:blipFill>
        <p:spPr>
          <a:xfrm>
            <a:off x="380880" y="1785960"/>
            <a:ext cx="8715600" cy="3286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rcRect l="13750" t="23334" r="67503" b="54670"/>
          <a:stretch/>
        </p:blipFill>
        <p:spPr>
          <a:xfrm>
            <a:off x="4648320" y="4572000"/>
            <a:ext cx="1904760" cy="167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rcRect l="13750" t="23334" r="67503" b="55001"/>
          <a:stretch/>
        </p:blipFill>
        <p:spPr>
          <a:xfrm>
            <a:off x="2514600" y="4572000"/>
            <a:ext cx="1905120" cy="1650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rcRect l="12504" t="23334" r="66257" b="53339"/>
          <a:stretch/>
        </p:blipFill>
        <p:spPr>
          <a:xfrm>
            <a:off x="380880" y="4572000"/>
            <a:ext cx="1905120" cy="156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rcRect l="0" t="23011" r="67031" b="51575"/>
          <a:stretch/>
        </p:blipFill>
        <p:spPr>
          <a:xfrm>
            <a:off x="1752480" y="2357280"/>
            <a:ext cx="2989440" cy="1509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675720" y="285840"/>
            <a:ext cx="2999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MS-Excel - erste Schri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 rot="14058600">
            <a:off x="1333440" y="529524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3200400" y="5029200"/>
            <a:ext cx="457200" cy="458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6171840" y="5334120"/>
            <a:ext cx="304920" cy="304560"/>
            <a:chOff x="6171840" y="5334120"/>
            <a:chExt cx="304920" cy="304560"/>
          </a:xfrm>
        </p:grpSpPr>
        <p:sp>
          <p:nvSpPr>
            <p:cNvPr id="105" name="Line 12"/>
            <p:cNvSpPr/>
            <p:nvPr/>
          </p:nvSpPr>
          <p:spPr>
            <a:xfrm>
              <a:off x="6324480" y="533412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3"/>
            <p:cNvSpPr/>
            <p:nvPr/>
          </p:nvSpPr>
          <p:spPr>
            <a:xfrm flipH="1">
              <a:off x="6171840" y="548640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14"/>
          <p:cNvSpPr/>
          <p:nvPr/>
        </p:nvSpPr>
        <p:spPr>
          <a:xfrm>
            <a:off x="613800" y="410832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Verschi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2822400" y="41083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Mark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5109120" y="41083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Zi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4680" y="2514600"/>
            <a:ext cx="154152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Linksbün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=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4804560" y="2590920"/>
            <a:ext cx="173988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Rechtsbün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= Zah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9"/>
          <p:cNvSpPr/>
          <p:nvPr/>
        </p:nvSpPr>
        <p:spPr>
          <a:xfrm>
            <a:off x="0" y="990720"/>
            <a:ext cx="685800" cy="455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0"/>
          <p:cNvSpPr/>
          <p:nvPr/>
        </p:nvSpPr>
        <p:spPr>
          <a:xfrm>
            <a:off x="0" y="3811680"/>
            <a:ext cx="685800" cy="455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1"/>
          <p:cNvSpPr/>
          <p:nvPr/>
        </p:nvSpPr>
        <p:spPr>
          <a:xfrm>
            <a:off x="7010280" y="3962520"/>
            <a:ext cx="685800" cy="455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2" descr=""/>
          <p:cNvPicPr/>
          <p:nvPr/>
        </p:nvPicPr>
        <p:blipFill>
          <a:blip r:embed="rId5"/>
          <a:srcRect l="7607" t="18845" r="58697" b="53630"/>
          <a:stretch/>
        </p:blipFill>
        <p:spPr>
          <a:xfrm>
            <a:off x="7162920" y="4572000"/>
            <a:ext cx="2361960" cy="1447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3"/>
          <p:cNvSpPr/>
          <p:nvPr/>
        </p:nvSpPr>
        <p:spPr>
          <a:xfrm>
            <a:off x="7780320" y="3657600"/>
            <a:ext cx="1980720" cy="824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Jede Form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beginnt mit e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=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7696080" y="5943600"/>
            <a:ext cx="2057400" cy="833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Beispie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=B2 *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=B3 / 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1732680" y="1000080"/>
            <a:ext cx="469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- Grundrechnungs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- Markieren und Verschieben von Z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- „Ziehen“ einer Z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6" descr=""/>
          <p:cNvPicPr/>
          <p:nvPr/>
        </p:nvPicPr>
        <p:blipFill>
          <a:blip r:embed="rId6"/>
          <a:stretch/>
        </p:blipFill>
        <p:spPr>
          <a:xfrm>
            <a:off x="7848720" y="1828800"/>
            <a:ext cx="1012680" cy="84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7" descr=""/>
          <p:cNvPicPr/>
          <p:nvPr/>
        </p:nvPicPr>
        <p:blipFill>
          <a:blip r:embed="rId7"/>
          <a:stretch/>
        </p:blipFill>
        <p:spPr>
          <a:xfrm>
            <a:off x="9210600" y="0"/>
            <a:ext cx="695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495360" y="285840"/>
            <a:ext cx="601992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Bildlaufle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2" descr=""/>
          <p:cNvPicPr/>
          <p:nvPr/>
        </p:nvPicPr>
        <p:blipFill>
          <a:blip r:embed="rId1"/>
          <a:stretch/>
        </p:blipFill>
        <p:spPr>
          <a:xfrm>
            <a:off x="9207360" y="0"/>
            <a:ext cx="698760" cy="666720"/>
          </a:xfrm>
          <a:prstGeom prst="rect">
            <a:avLst/>
          </a:prstGeom>
          <a:ln w="0">
            <a:noFill/>
          </a:ln>
        </p:spPr>
      </p:pic>
      <p:sp>
        <p:nvSpPr>
          <p:cNvPr id="287" name="Textfeld 6"/>
          <p:cNvSpPr/>
          <p:nvPr/>
        </p:nvSpPr>
        <p:spPr>
          <a:xfrm>
            <a:off x="195120" y="714240"/>
            <a:ext cx="486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Wohin sind die Bildlaufleisten verschwund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Windows Butt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2"/>
          <a:stretch/>
        </p:blipFill>
        <p:spPr>
          <a:xfrm>
            <a:off x="3952800" y="1571760"/>
            <a:ext cx="5489640" cy="4476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9" name="Picture 12" descr=""/>
          <p:cNvPicPr/>
          <p:nvPr/>
        </p:nvPicPr>
        <p:blipFill>
          <a:blip r:embed="rId3"/>
          <a:srcRect l="0" t="0" r="54690" b="53663"/>
          <a:stretch/>
        </p:blipFill>
        <p:spPr>
          <a:xfrm>
            <a:off x="237960" y="1714680"/>
            <a:ext cx="3381480" cy="2766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90" name="Pfeil nach oben 11"/>
          <p:cNvSpPr/>
          <p:nvPr/>
        </p:nvSpPr>
        <p:spPr>
          <a:xfrm>
            <a:off x="2452680" y="4500720"/>
            <a:ext cx="500040" cy="500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feil nach oben 12"/>
          <p:cNvSpPr/>
          <p:nvPr/>
        </p:nvSpPr>
        <p:spPr>
          <a:xfrm>
            <a:off x="5095800" y="2714760"/>
            <a:ext cx="500040" cy="350028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13"/>
          <p:cNvSpPr/>
          <p:nvPr/>
        </p:nvSpPr>
        <p:spPr>
          <a:xfrm>
            <a:off x="4693680" y="62150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ktivier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495360" y="285840"/>
            <a:ext cx="601992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Bildlaufle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2" descr=""/>
          <p:cNvPicPr/>
          <p:nvPr/>
        </p:nvPicPr>
        <p:blipFill>
          <a:blip r:embed="rId1"/>
          <a:stretch/>
        </p:blipFill>
        <p:spPr>
          <a:xfrm>
            <a:off x="9207360" y="0"/>
            <a:ext cx="698760" cy="666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"/>
          <p:cNvPicPr/>
          <p:nvPr/>
        </p:nvPicPr>
        <p:blipFill>
          <a:blip r:embed="rId2"/>
          <a:srcRect l="0" t="0" r="69534" b="75831"/>
          <a:stretch/>
        </p:blipFill>
        <p:spPr>
          <a:xfrm>
            <a:off x="237960" y="1285920"/>
            <a:ext cx="3714840" cy="2357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96" name="Picture 14" descr=""/>
          <p:cNvPicPr/>
          <p:nvPr/>
        </p:nvPicPr>
        <p:blipFill>
          <a:blip r:embed="rId3"/>
          <a:stretch/>
        </p:blipFill>
        <p:spPr>
          <a:xfrm>
            <a:off x="5095800" y="2143080"/>
            <a:ext cx="4152960" cy="3971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97" name="Picture 15" descr=""/>
          <p:cNvPicPr/>
          <p:nvPr/>
        </p:nvPicPr>
        <p:blipFill>
          <a:blip r:embed="rId4"/>
          <a:srcRect l="47657" t="36818" r="34181" b="47071"/>
          <a:stretch/>
        </p:blipFill>
        <p:spPr>
          <a:xfrm>
            <a:off x="809640" y="4357800"/>
            <a:ext cx="2214720" cy="1571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98" name="Textfeld 6"/>
          <p:cNvSpPr/>
          <p:nvPr/>
        </p:nvSpPr>
        <p:spPr>
          <a:xfrm>
            <a:off x="686160" y="3929040"/>
            <a:ext cx="29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rechte Maustaste - format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feld 7"/>
          <p:cNvSpPr/>
          <p:nvPr/>
        </p:nvSpPr>
        <p:spPr>
          <a:xfrm>
            <a:off x="109080" y="85716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ntwickler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Gestreifter Pfeil nach rechts 8"/>
          <p:cNvSpPr/>
          <p:nvPr/>
        </p:nvSpPr>
        <p:spPr>
          <a:xfrm>
            <a:off x="2952720" y="4643280"/>
            <a:ext cx="1857240" cy="78588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524160" y="214200"/>
            <a:ext cx="517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Turmrechnung mit Bildlaufle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291240" y="698400"/>
            <a:ext cx="3063960" cy="33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ühren Sie folgende Turmrechnung du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9207360" y="6191280"/>
            <a:ext cx="698760" cy="66672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2"/>
          <p:cNvSpPr/>
          <p:nvPr/>
        </p:nvSpPr>
        <p:spPr>
          <a:xfrm>
            <a:off x="7207200" y="2209680"/>
            <a:ext cx="243828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1" descr=""/>
          <p:cNvPicPr/>
          <p:nvPr/>
        </p:nvPicPr>
        <p:blipFill>
          <a:blip r:embed="rId2"/>
          <a:stretch/>
        </p:blipFill>
        <p:spPr>
          <a:xfrm>
            <a:off x="7238880" y="2286000"/>
            <a:ext cx="1447920" cy="14349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8686800" y="2548080"/>
            <a:ext cx="98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rm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flei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4" descr=""/>
          <p:cNvPicPr/>
          <p:nvPr/>
        </p:nvPicPr>
        <p:blipFill>
          <a:blip r:embed="rId3"/>
          <a:srcRect l="0" t="19335" r="27611" b="11334"/>
          <a:stretch/>
        </p:blipFill>
        <p:spPr>
          <a:xfrm>
            <a:off x="237960" y="1143000"/>
            <a:ext cx="6858000" cy="49258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9"/>
          <p:cNvSpPr/>
          <p:nvPr/>
        </p:nvSpPr>
        <p:spPr>
          <a:xfrm>
            <a:off x="676440" y="3619440"/>
            <a:ext cx="3124080" cy="175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rläuteru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1. Wert: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2. Wert: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2 * Multiplikator (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3. Wert: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27 *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Bildlaufleiste „Anfangswert“ von 1 bis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Bildlaufleiste „Multiplikator“ von 20 bis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0" y="1000080"/>
            <a:ext cx="87631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b in die Spalte „A“ folgende Zahlen untereinander ei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0; 3800; 4200; 5000; 65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e die Summen dieser Zah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rkiere die Zahlenreihe und verschiebe sie in die Spalte „B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b in der Spalte „A“ nun die Monate Jänner (A1), Februar (A2)... bis Mai (A5)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trahiere die Zahl 2200 von der Gesamtsumme in einer beliebigen Z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vidiere das Ergebnis durch „2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pliziere das Ergebnis mit „10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8596440" y="142920"/>
            <a:ext cx="1204920" cy="1465200"/>
            <a:chOff x="8596440" y="142920"/>
            <a:chExt cx="1204920" cy="1465200"/>
          </a:xfrm>
        </p:grpSpPr>
        <p:pic>
          <p:nvPicPr>
            <p:cNvPr id="123" name="Picture 5" descr=""/>
            <p:cNvPicPr/>
            <p:nvPr/>
          </p:nvPicPr>
          <p:blipFill>
            <a:blip r:embed="rId1"/>
            <a:stretch/>
          </p:blipFill>
          <p:spPr>
            <a:xfrm>
              <a:off x="8596440" y="142920"/>
              <a:ext cx="120492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6"/>
            <p:cNvSpPr/>
            <p:nvPr/>
          </p:nvSpPr>
          <p:spPr>
            <a:xfrm>
              <a:off x="8692920" y="336600"/>
              <a:ext cx="85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Übu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9210600" y="6248520"/>
            <a:ext cx="695520" cy="6094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675720" y="285840"/>
            <a:ext cx="2999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MS-Excel - erste Schri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595440" y="214200"/>
            <a:ext cx="572760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Verdana"/>
                <a:ea typeface="Verdana"/>
              </a:rPr>
              <a:t>Verwalten von Arbeitsm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7560" y="87480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Druckvorbereit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962400" y="2000160"/>
            <a:ext cx="1750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Papier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Seitenrä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Kopf/Fußze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Tab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5" descr=""/>
          <p:cNvPicPr/>
          <p:nvPr/>
        </p:nvPicPr>
        <p:blipFill>
          <a:blip r:embed="rId1"/>
          <a:stretch/>
        </p:blipFill>
        <p:spPr>
          <a:xfrm>
            <a:off x="9210600" y="0"/>
            <a:ext cx="695520" cy="609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95400" y="1214280"/>
            <a:ext cx="2760480" cy="2695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3"/>
          <a:stretch/>
        </p:blipFill>
        <p:spPr>
          <a:xfrm>
            <a:off x="3309840" y="2000160"/>
            <a:ext cx="3629160" cy="335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4"/>
          <a:stretch/>
        </p:blipFill>
        <p:spPr>
          <a:xfrm>
            <a:off x="95400" y="4286160"/>
            <a:ext cx="2717640" cy="943200"/>
          </a:xfrm>
          <a:prstGeom prst="rect">
            <a:avLst/>
          </a:prstGeom>
          <a:ln w="0">
            <a:noFill/>
          </a:ln>
        </p:spPr>
      </p:pic>
      <p:sp>
        <p:nvSpPr>
          <p:cNvPr id="134" name="Pfeil nach unten 18"/>
          <p:cNvSpPr/>
          <p:nvPr/>
        </p:nvSpPr>
        <p:spPr>
          <a:xfrm>
            <a:off x="1238400" y="3357720"/>
            <a:ext cx="642960" cy="7855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feil nach unten 19"/>
          <p:cNvSpPr/>
          <p:nvPr/>
        </p:nvSpPr>
        <p:spPr>
          <a:xfrm rot="16200000">
            <a:off x="2809800" y="4143240"/>
            <a:ext cx="642960" cy="785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5"/>
          <a:srcRect l="0" t="72146" r="83485" b="0"/>
          <a:stretch/>
        </p:blipFill>
        <p:spPr>
          <a:xfrm>
            <a:off x="7738920" y="4572000"/>
            <a:ext cx="1965600" cy="2071800"/>
          </a:xfrm>
          <a:prstGeom prst="rect">
            <a:avLst/>
          </a:prstGeom>
          <a:ln w="0">
            <a:noFill/>
          </a:ln>
        </p:spPr>
      </p:pic>
      <p:sp>
        <p:nvSpPr>
          <p:cNvPr id="137" name="Rechteck 21"/>
          <p:cNvSpPr/>
          <p:nvPr/>
        </p:nvSpPr>
        <p:spPr>
          <a:xfrm>
            <a:off x="5395680" y="621504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Blatt bene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66720" y="214200"/>
            <a:ext cx="5929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Formati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838080"/>
            <a:ext cx="622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Verwendung der Symbolleis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2438280"/>
            <a:ext cx="5805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Rechte Maustaste: Zahlenform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830920" y="257184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Beispiel Rahmenformat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" descr=""/>
          <p:cNvPicPr/>
          <p:nvPr/>
        </p:nvPicPr>
        <p:blipFill>
          <a:blip r:embed="rId1"/>
          <a:stretch/>
        </p:blipFill>
        <p:spPr>
          <a:xfrm>
            <a:off x="9210600" y="0"/>
            <a:ext cx="695520" cy="609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0" y="1143000"/>
            <a:ext cx="9906120" cy="113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66680" y="2857680"/>
            <a:ext cx="3438360" cy="29635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2681280" y="3714840"/>
            <a:ext cx="2923920" cy="1554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- Festlegen der Dezimal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- Tausenderpun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- Negativzahlen in R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- Rahmen set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Zellen mit Farbe ausfü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Zellen schüt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4"/>
          <a:stretch/>
        </p:blipFill>
        <p:spPr>
          <a:xfrm>
            <a:off x="5810400" y="2928960"/>
            <a:ext cx="37368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66680" y="2571840"/>
            <a:ext cx="4006800" cy="3467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595440" y="214200"/>
            <a:ext cx="5929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Formati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52280" y="762120"/>
            <a:ext cx="4648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Zeilenumbruch in einer Zel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Schrit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5717160" y="3962520"/>
            <a:ext cx="37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Achten Sie auf einen exakten Umbru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2"/>
          <a:stretch/>
        </p:blipFill>
        <p:spPr>
          <a:xfrm>
            <a:off x="9210600" y="0"/>
            <a:ext cx="695520" cy="609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"/>
          <p:cNvPicPr/>
          <p:nvPr/>
        </p:nvPicPr>
        <p:blipFill>
          <a:blip r:embed="rId3"/>
          <a:srcRect l="0" t="58672" r="70003" b="18667"/>
          <a:stretch/>
        </p:blipFill>
        <p:spPr>
          <a:xfrm>
            <a:off x="5486400" y="1447920"/>
            <a:ext cx="3886200" cy="2201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"/>
          <p:cNvPicPr/>
          <p:nvPr/>
        </p:nvPicPr>
        <p:blipFill>
          <a:blip r:embed="rId4"/>
          <a:srcRect l="0" t="61337" r="58364" b="32666"/>
          <a:stretch/>
        </p:blipFill>
        <p:spPr>
          <a:xfrm>
            <a:off x="0" y="1523880"/>
            <a:ext cx="472428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6"/>
          <p:cNvSpPr/>
          <p:nvPr/>
        </p:nvSpPr>
        <p:spPr>
          <a:xfrm>
            <a:off x="1080" y="121932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extein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-16200" y="2209680"/>
            <a:ext cx="461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Arial"/>
              </a:rPr>
              <a:t>Zelle markieren – rechte Maustaste – Zellen format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5309280" y="990720"/>
            <a:ext cx="42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Arial"/>
              </a:rPr>
              <a:t>Ergebnis (Trennzeichen bewirkt weiteren Umbru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9"/>
          <p:cNvSpPr/>
          <p:nvPr/>
        </p:nvSpPr>
        <p:spPr>
          <a:xfrm>
            <a:off x="6095880" y="1219320"/>
            <a:ext cx="22100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0"/>
          <p:cNvSpPr/>
          <p:nvPr/>
        </p:nvSpPr>
        <p:spPr>
          <a:xfrm>
            <a:off x="166680" y="3857760"/>
            <a:ext cx="15238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2" descr=""/>
          <p:cNvPicPr/>
          <p:nvPr/>
        </p:nvPicPr>
        <p:blipFill>
          <a:blip r:embed="rId5"/>
          <a:srcRect l="10000" t="60001" r="72002" b="25332"/>
          <a:stretch/>
        </p:blipFill>
        <p:spPr>
          <a:xfrm>
            <a:off x="6248520" y="4572000"/>
            <a:ext cx="2895480" cy="1770120"/>
          </a:xfrm>
          <a:prstGeom prst="rect">
            <a:avLst/>
          </a:prstGeom>
          <a:ln w="0">
            <a:noFill/>
          </a:ln>
        </p:spPr>
      </p:pic>
      <p:sp>
        <p:nvSpPr>
          <p:cNvPr id="160" name="Line 23"/>
          <p:cNvSpPr/>
          <p:nvPr/>
        </p:nvSpPr>
        <p:spPr>
          <a:xfrm flipV="1">
            <a:off x="6553080" y="4648320"/>
            <a:ext cx="190512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4"/>
          <p:cNvSpPr/>
          <p:nvPr/>
        </p:nvSpPr>
        <p:spPr>
          <a:xfrm>
            <a:off x="7072920" y="6211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s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66720" y="214200"/>
            <a:ext cx="655308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MS-Excel - Spaltenbreite &amp; -hö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rcRect l="0" t="18901" r="53753" b="60002"/>
          <a:stretch/>
        </p:blipFill>
        <p:spPr>
          <a:xfrm>
            <a:off x="4309920" y="928800"/>
            <a:ext cx="4114800" cy="14079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5370480" y="207180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Spalte ist 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schmal“ eingestell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2"/>
          <a:srcRect l="9999" t="20003" r="55006" b="59411"/>
          <a:stretch/>
        </p:blipFill>
        <p:spPr>
          <a:xfrm>
            <a:off x="5715000" y="3429000"/>
            <a:ext cx="3048120" cy="13431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9"/>
          <p:cNvSpPr/>
          <p:nvPr/>
        </p:nvSpPr>
        <p:spPr>
          <a:xfrm rot="14058600">
            <a:off x="7354080" y="3847320"/>
            <a:ext cx="379440" cy="304560"/>
          </a:xfrm>
          <a:prstGeom prst="rightArrow">
            <a:avLst>
              <a:gd name="adj1" fmla="val 50000"/>
              <a:gd name="adj2" fmla="val 31147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3"/>
          <a:stretch/>
        </p:blipFill>
        <p:spPr>
          <a:xfrm>
            <a:off x="6705720" y="4952880"/>
            <a:ext cx="1012680" cy="846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1"/>
          <p:cNvSpPr/>
          <p:nvPr/>
        </p:nvSpPr>
        <p:spPr>
          <a:xfrm>
            <a:off x="5261040" y="5715000"/>
            <a:ext cx="43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- Spaltenbreite und -hö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muß immer angepaß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4"/>
          <a:stretch/>
        </p:blipFill>
        <p:spPr>
          <a:xfrm>
            <a:off x="9210600" y="0"/>
            <a:ext cx="695520" cy="6094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4"/>
          <p:cNvSpPr/>
          <p:nvPr/>
        </p:nvSpPr>
        <p:spPr>
          <a:xfrm>
            <a:off x="6023880" y="312408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Arial"/>
              </a:rPr>
              <a:t>Mit Hilfe der Ma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5"/>
          <a:srcRect l="0" t="0" r="89634" b="69237"/>
          <a:stretch/>
        </p:blipFill>
        <p:spPr>
          <a:xfrm>
            <a:off x="237960" y="1000080"/>
            <a:ext cx="990720" cy="1600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6"/>
          <a:srcRect l="76174" t="0" r="0" b="0"/>
          <a:stretch/>
        </p:blipFill>
        <p:spPr>
          <a:xfrm>
            <a:off x="1309680" y="1000080"/>
            <a:ext cx="1576440" cy="360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7"/>
          <a:stretch/>
        </p:blipFill>
        <p:spPr>
          <a:xfrm>
            <a:off x="1809720" y="4786200"/>
            <a:ext cx="244008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7"/>
          <p:cNvSpPr/>
          <p:nvPr/>
        </p:nvSpPr>
        <p:spPr>
          <a:xfrm>
            <a:off x="169920" y="1219320"/>
            <a:ext cx="25146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453960" y="150840"/>
            <a:ext cx="67849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Formatierungen und Berechn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490920" y="762120"/>
            <a:ext cx="484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ben Sie folgende Daten in eine Excel-Arbeitsmappe ei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828800" y="5715000"/>
            <a:ext cx="762012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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mitteln Sie die Differenz zwischen Einnahmen und Ausgaben (D) und die Gesamtsummen (B15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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Legen Sie die Zahlenformate fest (Negativzahlen automatisch in ro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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ormatieren Sie die Zellen (Farbe verwen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1" descr=""/>
          <p:cNvPicPr/>
          <p:nvPr/>
        </p:nvPicPr>
        <p:blipFill>
          <a:blip r:embed="rId1"/>
          <a:stretch/>
        </p:blipFill>
        <p:spPr>
          <a:xfrm>
            <a:off x="398520" y="1447920"/>
            <a:ext cx="2057400" cy="14619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2"/>
          <p:cNvSpPr/>
          <p:nvPr/>
        </p:nvSpPr>
        <p:spPr>
          <a:xfrm>
            <a:off x="1756440" y="542448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gabenstel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6" descr=""/>
          <p:cNvPicPr/>
          <p:nvPr/>
        </p:nvPicPr>
        <p:blipFill>
          <a:blip r:embed="rId2"/>
          <a:srcRect l="0" t="19335" r="40002" b="11334"/>
          <a:stretch/>
        </p:blipFill>
        <p:spPr>
          <a:xfrm>
            <a:off x="3581280" y="1066680"/>
            <a:ext cx="4953240" cy="4292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9"/>
          <p:cNvSpPr/>
          <p:nvPr/>
        </p:nvSpPr>
        <p:spPr>
          <a:xfrm>
            <a:off x="201600" y="2846520"/>
            <a:ext cx="254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ne finanzielle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5"/>
          <p:cNvSpPr/>
          <p:nvPr/>
        </p:nvSpPr>
        <p:spPr>
          <a:xfrm>
            <a:off x="6934320" y="152280"/>
            <a:ext cx="28954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66720" y="214200"/>
            <a:ext cx="5372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Formatieren von Tex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rcRect l="0" t="46929" r="26751" b="13999"/>
          <a:stretch/>
        </p:blipFill>
        <p:spPr>
          <a:xfrm>
            <a:off x="57240" y="714240"/>
            <a:ext cx="6610320" cy="26434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5667480" y="1978200"/>
            <a:ext cx="312408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Geben Sie folgende Daten in eine Excel-Arbeitsmappe ein 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ormatieren sie das Wort „Formatierübungen“ entsprechend den Vorga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666720" y="3214800"/>
            <a:ext cx="8458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üllen Sie zunächst die Zeile 3 und die Spalte A entsprechend der nachfolgenden Abbildung aus und formatieren Sie anschließend die einzelnen Zahlenwer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4" descr=""/>
          <p:cNvPicPr/>
          <p:nvPr/>
        </p:nvPicPr>
        <p:blipFill>
          <a:blip r:embed="rId2"/>
          <a:stretch/>
        </p:blipFill>
        <p:spPr>
          <a:xfrm>
            <a:off x="7696080" y="152280"/>
            <a:ext cx="1524240" cy="12747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6"/>
          <p:cNvSpPr/>
          <p:nvPr/>
        </p:nvSpPr>
        <p:spPr>
          <a:xfrm>
            <a:off x="7014240" y="1295280"/>
            <a:ext cx="26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- &amp; Zahlenformat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2" descr=""/>
          <p:cNvPicPr/>
          <p:nvPr/>
        </p:nvPicPr>
        <p:blipFill>
          <a:blip r:embed="rId3"/>
          <a:srcRect l="3124" t="18507" r="3124" b="48537"/>
          <a:stretch/>
        </p:blipFill>
        <p:spPr>
          <a:xfrm>
            <a:off x="738360" y="3828960"/>
            <a:ext cx="8739000" cy="2457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9T11:44:18Z</dcterms:created>
  <dc:creator>Mag. Helmut Bauer</dc:creator>
  <dc:description/>
  <dc:language>en-US</dc:language>
  <cp:lastModifiedBy>hbauer</cp:lastModifiedBy>
  <dcterms:modified xsi:type="dcterms:W3CDTF">2008-09-29T06:41:22Z</dcterms:modified>
  <cp:revision>47</cp:revision>
  <dc:subject/>
  <dc:title>Kein Folientitel</dc:title>
</cp:coreProperties>
</file>