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5EA-7B67-4935-A729-87B75F72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3E9E-E56B-46E3-A13F-75708D8F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737-1DAD-4D1F-AB7E-B8CC4944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94A-4377-4233-9982-DF7EADED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F84-B6CF-4B20-A929-0FA65FB2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7A1-2192-4D07-AD6B-24BA4163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795-D669-4FE2-A9BF-740D9E19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154-EB63-47A7-B1D7-DE49A1F4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AE6-A283-4CFB-8F7B-015D2D05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936D-8BD7-4FDD-AEA4-6A0ECF71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BBA-26CE-40DD-A7EC-B5678371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E3B-9127-4ECC-8812-B12A0FC2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36AE-7EDC-42F8-9960-166605F844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ditinstit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nstleistungsgeschäf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ländischer Zahlungsverkehr- Bd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ländischer Zahlungsverkehr – Internationale Geschäftstätig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issionsgeschä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mde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ilschuldverschreibungen, Ak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ssionskonsor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onsgeschä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zierungsfunktion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ffentlich zur Zeich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Überzeichnung Repart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erzeichn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Übernahmefunk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erwahrungsgeschä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wahrung von Wertpapi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kasso fälliger Zins- und Dividendenzahl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lgungskontrolle bei Schuldverschreib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übung von Bezugsrechten bei Akt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elsgeschäf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rtpapierkommisionsgeschä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tragsa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esten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imit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öchstkurs beim K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ndestkurs beim Verk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ten- und Devisengeschäf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enhan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sengeschäf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- und Verkauf von Auszahl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bitragegeschäf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dite in fremder Wäh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Sektoren des österr.Kreditwes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enbanken und Bank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 Ba, Bawag 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ark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einssparkassen und Gemeindespark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iffeisenba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rsprünglich lw.Kreditgenossensc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sterreichische Volksbanken 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ndeshypothekenban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tivgeschäfte: Hypothekarkredite, Kommunalkre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ssivgeschäfte: Ausgabe von Pfandbriefen und Kommunalbrie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uspark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nderbanken: Österreichische Kontroll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Österreichische Postspark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der europäischen Zentralban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ZB: Sitz in Frankfurt am Main, daneben die nationalen Zentralbanken der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Österreich- Österreichische National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fga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ldpolitik der Gemeinschaft festzule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sengeschäf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zielle Währungsreserven zu halten und verwa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aten bei der nationalen  Bankenaufs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Oesterreichische National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urchsführung der Entscheidungen der ESZ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urchführung der Geldpolitik innerstaatl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ufsicht über Zahlungsverke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uro-Banknotenausg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twirkung an internationaler währungspolitische Zusammenarb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rends zu nationalen und internationalen Zusammenschlü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rend zur Privatisi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rend zum Electronic B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nkurrenz durch Nichtbanken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z.B. Versicherunge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fgaben der Kreditinstit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mitteln zwischen Geldnachfrage und Geldangebo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rags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sten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ikotransform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ikoausgleich und Risikovertei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chäftsfel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geschä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ivgeschä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nstleistungsgeschä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mitt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wa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geschä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atung un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s österreichische Bankwesengese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zmarktaufs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herung der Zahlungsbereitschaft der Kreditinstit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es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hältnis Fremdkapital zu Eigenk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zitätsvorschri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braucherschutzbestimmunge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pitalaufbringung der Kreditinstitu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genfinanz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k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gänzungskapital (z.B. nachrangige Darleh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mdfinanzie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nlagengeschä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chtein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ein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ein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ditaufnah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gabe von Schuldverschreib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ditgeschäf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rundsät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icher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inbringlichkeit ,dh.realistische Rückzahlungs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isikostreu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reditgespräch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aten über die Person, Zweck, Höhe,Laufzeit, Sicherh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i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r weitgehenden Verminderung des Dubiosenrisiko- Kreditprüf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dwertrisi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tarisik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ko des steigenden Zinsfuß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ditprüf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üfung der persönlichen Kreditwürdigkei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hängig vom bisherigen Verhal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üfung der sachlichen Kreditfähigk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hängig v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ebotenen Sicherhe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usbilan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sche Kreditprüf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künftige Ertragskraft :Finanzplä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 II –Verbesserung der Kreditkontro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3284640"/>
            <a:ext cx="302580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che Kreditprüf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4724280"/>
            <a:ext cx="417672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editbü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reditlaufzeit 6 Monate, aufschlagsmäßige Verzinsung 0,6 % pro Monat, imvorhinein, 3% Bearbeitungsgebühr, Kreditbet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€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.000,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€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.000,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,6% x6=3,6%   216,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% Bearbeit.      180,--       396,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szahlung                  € 5.604,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ückzahlung 6 X 1000 €6.000,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ffektivverzinsu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chschnittliche Laufzeit ( 1+6)/2 = 3,5 M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nsen= (KxpxMonate)/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= (12x100x396)/(5.604x3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8:20:51Z</dcterms:created>
  <dc:creator>wallisch</dc:creator>
  <dc:description/>
  <dc:language>en-US</dc:language>
  <cp:lastModifiedBy>Mag. Helmut Bauer</cp:lastModifiedBy>
  <dcterms:modified xsi:type="dcterms:W3CDTF">2005-11-07T11:31:35Z</dcterms:modified>
  <cp:revision>7</cp:revision>
  <dc:subject/>
  <dc:title>Kreditinstitute</dc:title>
</cp:coreProperties>
</file>