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2CF-1C3F-4913-80D1-C6E86B14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011-A4C5-4477-8AF4-63114212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29E-1252-48E7-9B16-3021F74B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99F-E5B6-43D5-9773-25E5BFC3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FDF9-7D6F-41D8-9436-16D54BB4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DA95-C58A-40A1-9A4A-445BB1F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048B-ABF1-4CEF-AC3E-A254D777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AC7-2D3A-412D-9D8D-1029AB6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9E91-9744-41A0-B667-4BB4DCF4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04A4-2156-41D7-8EC1-13FF866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22D2-02F3-44DF-A2B2-0183C4F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761-7E68-4653-912C-BD48EDC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BE89-6D9E-488F-96E0-137521C6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BE31-B04C-4269-8B45-06221F8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64B7-1AE5-4F50-A8B2-68262112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1E57-3EBA-4546-9FF5-24AD3E4A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8823-2079-4FDB-B1D8-438D5470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D9E4B-5926-43D3-A933-948C1838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82C7E0-3AA5-433E-AC83-A3ABB1AA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B3FC0-F4F2-4970-89B0-50F1BB5E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1E716-4958-46ED-88E3-4F607A9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2FC95-20B0-4160-A350-146E63F2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C307-F256-4148-B376-B33CE387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1FD6B-25BF-4F9F-94FD-EB72B435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CCB08-F18B-4F61-92F9-5AC6D283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9C0CF-12C5-4C06-B9EA-74C1748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3B68B6-4F59-49B2-91C2-7023F57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40BC5-73E0-4514-AD2D-4C9F4BC3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5D880-A3C7-4479-A763-4D80E144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1D577-57A1-465E-B0F0-BFA4634C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90A44-B658-4715-A917-C1136DA1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3C7A-9D94-4A8A-BDFE-E82E87DE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5D878-FC85-4B54-9DAE-BA64FBC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F94-E5CF-4006-968F-D3F949EB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8CF76-5069-4099-9C5C-AD77EF2C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A9776-CB5A-4536-982D-33B608F8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7642-B8D1-4422-839A-88C7E5A8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FBD8-FF4E-4CD7-A35D-39D5C2B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6DA2C-A958-4502-BBF6-C0E06089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BDE5-8634-4923-9B3C-2077A0E5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36A0-7293-4379-B9FA-5982E6AA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966F-7C70-4355-A7A7-05475047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2B66A-3463-4F65-8E29-45468A1A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D64-7289-4EDE-817C-2F2E982B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C39-6DFB-4BD0-B146-D2F31EF6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E26-0047-4257-99F6-A5E0613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4CB-A04B-47C9-989A-97098657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89E-A323-4AC0-9CAB-4186E175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BCA8-E37D-4E60-86E2-89793FE63653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7477-DA12-422E-9BF0-3773BE43500A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BB82-C3B5-46CB-99CB-FABFCE40A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10D3-6ACF-4E8A-86CD-FF6AC8BD0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330066"/>
                </a:solidFill>
                <a:latin typeface="Arial"/>
              </a:rPr>
              <a:t>Marketing und Kommunik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Hand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95280" y="333360"/>
            <a:ext cx="734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Unternehmensleitbild und Corporat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5280" y="1341360"/>
            <a:ext cx="734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Unternehmens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3213000"/>
            <a:ext cx="734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arketingzi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5280" y="2276640"/>
            <a:ext cx="345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Strateg. Pla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84720" y="2276640"/>
            <a:ext cx="345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arktforsch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692360" y="4292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arketingm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76360" y="4005360"/>
            <a:ext cx="5472000" cy="107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280" y="5300640"/>
            <a:ext cx="7489800" cy="155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1280" y="5589720"/>
            <a:ext cx="360036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5950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arkt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40360" y="587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Zielmar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64000" y="5877000"/>
            <a:ext cx="1800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osition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76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979640" y="1844640"/>
            <a:ext cx="1728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06728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732360" y="3645000"/>
            <a:ext cx="6476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43280" y="508464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2565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Unternehmensleitbi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-716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Globale Geschäftspolit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Verhältnis zu Kunden und Mitarbeite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tellung zur Marketing- und Gesellschaftsorientier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rporate Identity (Unternehmenspersönlichkei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Zi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Leiten sich aus Unternehmensziele a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nternehmensziele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Quantitative Ziele (Existenzerhaltung, Gewinn, Unabhängigkeit, Wachstum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Qualitative Ziele (Bekanntheitsgrad, Image, Corporate Identity, Goodwill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Zielentwicklu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Umfeld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Szenarioentwick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Gap-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000000"/>
                </a:solidFill>
                <a:latin typeface="Arial"/>
              </a:rPr>
              <a:t>Portfolio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-Produkt-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anteil-Marktwachstum-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Produkt-Markt-Expansionsra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Umfeldanaly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Makroumw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Gesamtwirtschaftliche Entwick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ntwicklung im eigenen Wirtschaftszwe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Bevölkerungsentwick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Technische Entwick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Gesetzgeb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ntwicklung der Werte und Einstell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Arial"/>
              </a:rPr>
              <a:t>Mikroumw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Lieferanten und Kunden des Unterneh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selbständigen Absatzmitt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Konkurren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Szenarioentwicklu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Erstellung von Progno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Weiterentwicklung der Umfeldanaly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Wahrscheinlichkeit der Entwickl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Entwicklung unterschiedlicher Szenar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Problem: einige Faktoren besser bzw. schlechter prognostizierb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Gap-Analy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Weiterentwicklung des Sze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Abweichung Soll- und Istumsat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-Produkt-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000000"/>
                </a:solidFill>
                <a:latin typeface="Arial"/>
              </a:rPr>
              <a:t>Marktattraktivitä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oher Marktwachs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eringer Wettbew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ohe Investitions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Unabhängigkeit von Konjunk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icht substituier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icherung mit Vor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000000"/>
                </a:solidFill>
                <a:latin typeface="Arial"/>
              </a:rPr>
              <a:t>Wettbewerbsvorte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fah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orschung und Entwick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arktant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bsatz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ostenvor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Qualität inkl.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tandortvort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sonal, insbesonder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flipV="1">
            <a:off x="324000" y="549360"/>
            <a:ext cx="0" cy="564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6237360"/>
            <a:ext cx="813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623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elativer Wettbewerbsvor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8900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tattraktiv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692280"/>
            <a:ext cx="7344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00000" y="692280"/>
            <a:ext cx="7344000" cy="5257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92360" y="6922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69228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249228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00000" y="4365720"/>
            <a:ext cx="73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1125360"/>
            <a:ext cx="151308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067280" y="1341360"/>
            <a:ext cx="40338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2000" y="4149720"/>
            <a:ext cx="352728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56360" y="4724280"/>
            <a:ext cx="1800360" cy="8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58920" y="1268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Vorsichtig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vest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1700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Investitions- und 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Wachstumsstrateg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922400" y="4581360"/>
            <a:ext cx="22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bschöpfen,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Elimi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7236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anteil-Marktwachstum-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95280" y="1916280"/>
            <a:ext cx="0" cy="44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4360" y="638172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638172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tant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162864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twachs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187280" y="2060640"/>
            <a:ext cx="648036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7640" y="206064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7280" y="407664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92360" y="2924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Fragezei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9280" y="4724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elkkühe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(„Cash-Cow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59280" y="2924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35280" y="472428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Arme Hunde</a:t>
            </a:r>
            <a:br>
              <a:rPr sz="2400"/>
            </a:b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(„Dog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Grobübersi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I. Jahr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 Stunden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 Stunde Kommun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II. Jahr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 Stunden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 Stunde Kommunik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 Stunde Medien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 Stunde Grafik &amp;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Arial"/>
              </a:rPr>
              <a:t>III. Jahr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2 Stunden 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1 Stunde Medienku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flichtfach Reifeprüf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Unterrichtende Lehrer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arke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ag. Sven Bic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ommunik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ag. Gudrun Inr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edienkund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f. Mag. Regina Scheiblma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rafik &amp; Desig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FL Alexandra Centm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Produkt-Markt-Expansionsras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NT Portfolio: Analyse nur vorhandener Geschäftsbereiche und Märk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P-M-E: Auffindung neuer Märkte und Produk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Ermittlung langfristiger Strateg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etingzie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rhöhung des Marktante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rhöhung des Bekanntheitsgr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Gewinnung neuer Kun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Einführung eines neuen Produkt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Arial"/>
              </a:rPr>
              <a:t>Verbesserung des Im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Ziele sollen stets operational sein, wobei zu achten ist, dass die operationalen Ziele sowohl vertikal als auch horizontal mit den übrigen Unternehmens-zielen übereinstim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etingkonzep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Produktionskonzep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Herstellung guter Produkte und möglichst kostengünstige Herstellung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Produkte verkaufen sich von selb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Produktkonzep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beste Qualität, bestes Design, beste Gegenleistung)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ändige Verbess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Verkaufskonzep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traditionelles Marketingkonz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Integrierte Marketingkonz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ocial Marketingkonze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Traditionelles Marketingkonze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2637000"/>
            <a:ext cx="7920000" cy="3168360"/>
          </a:xfrm>
          <a:custGeom>
            <a:avLst/>
            <a:gdLst>
              <a:gd name="textAreaLeft" fmla="*/ 0 w 7920000"/>
              <a:gd name="textAreaRight" fmla="*/ 7920360 w 7920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414972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411280" y="263700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56000" y="3573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bsatz-politische Instru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27640" y="263700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213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ewinnerzielung über ein entsprechendes Absatz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Integriertes Marketingkonzep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2637000"/>
            <a:ext cx="7920000" cy="3168360"/>
          </a:xfrm>
          <a:custGeom>
            <a:avLst/>
            <a:gdLst>
              <a:gd name="textAreaLeft" fmla="*/ 0 w 7920000"/>
              <a:gd name="textAreaRight" fmla="*/ 7920360 w 7920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378936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Nachfrager-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wün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11280" y="263700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84360" y="422100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rketing-politische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Instru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7640" y="2637000"/>
            <a:ext cx="0" cy="31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572000" y="3213000"/>
            <a:ext cx="28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ewinnerzielung über die nachhaltige Befriedigung der Kundenwüns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56000" y="278136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rkt-fors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364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403280" y="5516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403280" y="46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Zusammentreffen von Angebot und Nachfrag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Arbeitneh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ta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Konkurr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Kapitalgeb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Liefer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größ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volu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ante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Absatz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Absatzvolu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potentia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= überhaupt mögliche Aufnahmefähigkeit eines Marktes für ein Produkt bzw. Dienstleist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akto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ahl potentieller Nachfr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darfsintens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rkttranspar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rktsätt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Marketingaktivitäten der Anbi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volum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= realisierten oder prognostizierten Absatzmengen einer Güter- oder Dienstleistungsart pro Periode in einem abgegrenzten Mark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bsatzvolu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umme der getätigten Umsätze bzw. abgesetzten Mengen eines Unternehmens pro Periode in einem bestimmten Ma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anteil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= prozentualen Anteil des in Mengen- oder Werteinheiten gemessenen Marktabsatzes eines Unternehmens am gesamten Marktvolumen eines Mar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arktanteil</a:t>
            </a: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nternehmensabsatz*100/Marktvolu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Grobübersicht Lehrplan Marke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I. Jahrga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Theorie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: Grundlagen, Projektmanagement, Käuferverhalten, Strategien, Organisation, Marktinformationsbeschaffung, Marketing-Mi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Projekte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: Marktinformationsbeschaffung: Experiment, Befragung, Beobacht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II. Jahrga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Theorie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: Werbung, Public Relations, Sponsoring, Medie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Projekte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: Marketingkonzept + Realisieru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III. Jahrga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100" spc="-1" strike="noStrike">
                <a:solidFill>
                  <a:srgbClr val="000000"/>
                </a:solidFill>
                <a:latin typeface="Arial"/>
              </a:rPr>
              <a:t>Projekt</a:t>
            </a:r>
            <a:r>
              <a:rPr b="0" lang="de-AT" sz="2100" spc="-1" strike="noStrike">
                <a:solidFill>
                  <a:srgbClr val="000000"/>
                </a:solidFill>
                <a:latin typeface="Arial"/>
              </a:rPr>
              <a:t>: Produktmarketing, Facharbe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eting-Mix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2565360"/>
            <a:ext cx="820728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14956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oduktpolitik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ielma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14956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nbiet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ntrahierungspolitik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ielgru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14956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stributionspolitik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ielpers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2149560"/>
                <a:tab algn="l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ommunikationspolitik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2400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084720" y="2565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9636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219640" y="5445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476000" y="5445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147636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92360" y="5013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- Käufe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- Inform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000" spc="-1" strike="noStrike">
                <a:solidFill>
                  <a:srgbClr val="ffffff"/>
                </a:solidFill>
                <a:latin typeface="Arial"/>
              </a:rPr>
              <a:t>Marktinformations-beschafung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Zwecke der Marktforsch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Chancen früher er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Risiken früher erk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nformationen für die Produktgestaltung präzis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Informationen über die Konkurrenz erh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95280" y="765000"/>
            <a:ext cx="8208360" cy="5400000"/>
            <a:chOff x="395280" y="765000"/>
            <a:chExt cx="8208360" cy="5400000"/>
          </a:xfrm>
        </p:grpSpPr>
        <p:cxnSp>
          <p:nvCxnSpPr>
            <p:cNvPr id="429" name="_s63509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4253400" y="4066560"/>
              <a:ext cx="491400" cy="174132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2" name="_s63507"/>
            <p:cNvCxnSpPr>
              <a:stCxn id="433" idx="0"/>
              <a:endCxn id="431" idx="2"/>
            </p:cNvCxnSpPr>
            <p:nvPr/>
          </p:nvCxnSpPr>
          <p:spPr>
            <a:xfrm flipH="1" flipV="1" rot="5400000">
              <a:off x="2512440" y="4066200"/>
              <a:ext cx="491400" cy="174204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4" name="_s63505"/>
            <p:cNvCxnSpPr>
              <a:stCxn id="435" idx="0"/>
              <a:endCxn id="436" idx="2"/>
            </p:cNvCxnSpPr>
            <p:nvPr/>
          </p:nvCxnSpPr>
          <p:spPr>
            <a:xfrm flipV="1" rot="16200000">
              <a:off x="5994360" y="2593440"/>
              <a:ext cx="491400" cy="1742040"/>
            </a:xfrm>
            <a:prstGeom prst="bentConnector3">
              <a:avLst>
                <a:gd name="adj1" fmla="val 23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7" name="_s63503"/>
            <p:cNvCxnSpPr>
              <a:stCxn id="431" idx="0"/>
              <a:endCxn id="436" idx="2"/>
            </p:cNvCxnSpPr>
            <p:nvPr/>
          </p:nvCxnSpPr>
          <p:spPr>
            <a:xfrm flipH="1" flipV="1" rot="5400000">
              <a:off x="4253760" y="2593800"/>
              <a:ext cx="491400" cy="1741320"/>
            </a:xfrm>
            <a:prstGeom prst="bentConnector3">
              <a:avLst>
                <a:gd name="adj1" fmla="val 23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38" name="_s63501"/>
            <p:cNvCxnSpPr>
              <a:stCxn id="436" idx="0"/>
              <a:endCxn id="439" idx="2"/>
            </p:cNvCxnSpPr>
            <p:nvPr/>
          </p:nvCxnSpPr>
          <p:spPr>
            <a:xfrm flipV="1" rot="16200000">
              <a:off x="4253400" y="1121040"/>
              <a:ext cx="491400" cy="174132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0" name="_s63499"/>
            <p:cNvCxnSpPr>
              <a:stCxn id="441" idx="0"/>
              <a:endCxn id="439" idx="2"/>
            </p:cNvCxnSpPr>
            <p:nvPr/>
          </p:nvCxnSpPr>
          <p:spPr>
            <a:xfrm flipH="1" flipV="1" rot="5400000">
              <a:off x="2512440" y="1120680"/>
              <a:ext cx="491400" cy="174204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39" name="_s63495"/>
            <p:cNvSpPr/>
            <p:nvPr/>
          </p:nvSpPr>
          <p:spPr>
            <a:xfrm>
              <a:off x="2136600" y="76500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untersuchu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3496"/>
            <p:cNvSpPr/>
            <p:nvPr/>
          </p:nvSpPr>
          <p:spPr>
            <a:xfrm>
              <a:off x="395280" y="223776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erkundu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63498"/>
            <p:cNvSpPr/>
            <p:nvPr/>
          </p:nvSpPr>
          <p:spPr>
            <a:xfrm>
              <a:off x="3877560" y="223776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forschu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63502"/>
            <p:cNvSpPr/>
            <p:nvPr/>
          </p:nvSpPr>
          <p:spPr>
            <a:xfrm>
              <a:off x="2136600" y="371052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diagnos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63504"/>
            <p:cNvSpPr/>
            <p:nvPr/>
          </p:nvSpPr>
          <p:spPr>
            <a:xfrm>
              <a:off x="5618880" y="371052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prognos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63506"/>
            <p:cNvSpPr/>
            <p:nvPr/>
          </p:nvSpPr>
          <p:spPr>
            <a:xfrm>
              <a:off x="395280" y="518328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analys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63508"/>
            <p:cNvSpPr/>
            <p:nvPr/>
          </p:nvSpPr>
          <p:spPr>
            <a:xfrm>
              <a:off x="3877560" y="518328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Marktbeobachtu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Markt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Quantitative 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arktgröß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arktant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Struktur der Abneh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Qualitative D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Produkteigenscha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Firmen- und Produkt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Käuferver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431640" y="620640"/>
            <a:ext cx="8208720" cy="6003720"/>
            <a:chOff x="431640" y="620640"/>
            <a:chExt cx="8208720" cy="6003720"/>
          </a:xfrm>
        </p:grpSpPr>
        <p:cxnSp>
          <p:nvCxnSpPr>
            <p:cNvPr id="446" name="_s67614"/>
            <p:cNvCxnSpPr>
              <a:stCxn id="447" idx="1"/>
              <a:endCxn id="448" idx="2"/>
            </p:cNvCxnSpPr>
            <p:nvPr/>
          </p:nvCxnSpPr>
          <p:spPr>
            <a:xfrm rot="10800000">
              <a:off x="3655800" y="3445200"/>
              <a:ext cx="293760" cy="70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49" name="_s67612"/>
            <p:cNvCxnSpPr>
              <a:stCxn id="450" idx="1"/>
              <a:endCxn id="451" idx="2"/>
            </p:cNvCxnSpPr>
            <p:nvPr/>
          </p:nvCxnSpPr>
          <p:spPr>
            <a:xfrm rot="10800000">
              <a:off x="1310400" y="3445920"/>
              <a:ext cx="293760" cy="282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2" name="_s67610"/>
            <p:cNvCxnSpPr>
              <a:stCxn id="453" idx="1"/>
              <a:endCxn id="451" idx="2"/>
            </p:cNvCxnSpPr>
            <p:nvPr/>
          </p:nvCxnSpPr>
          <p:spPr>
            <a:xfrm rot="10800000">
              <a:off x="1310400" y="3445200"/>
              <a:ext cx="293760" cy="176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4" name="_s67608"/>
            <p:cNvCxnSpPr>
              <a:stCxn id="455" idx="1"/>
              <a:endCxn id="451" idx="2"/>
            </p:cNvCxnSpPr>
            <p:nvPr/>
          </p:nvCxnSpPr>
          <p:spPr>
            <a:xfrm rot="10800000">
              <a:off x="1310400" y="3445200"/>
              <a:ext cx="293760" cy="707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6" name="_s67606"/>
            <p:cNvCxnSpPr>
              <a:stCxn id="457" idx="0"/>
              <a:endCxn id="458" idx="2"/>
            </p:cNvCxnSpPr>
            <p:nvPr/>
          </p:nvCxnSpPr>
          <p:spPr>
            <a:xfrm flipV="1" rot="16200000">
              <a:off x="7070400" y="2049480"/>
              <a:ext cx="353880" cy="1026360"/>
            </a:xfrm>
            <a:prstGeom prst="bentConnector3">
              <a:avLst>
                <a:gd name="adj1" fmla="val 37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9" name="_s67604"/>
            <p:cNvCxnSpPr>
              <a:stCxn id="460" idx="0"/>
              <a:endCxn id="458" idx="2"/>
            </p:cNvCxnSpPr>
            <p:nvPr/>
          </p:nvCxnSpPr>
          <p:spPr>
            <a:xfrm flipH="1" flipV="1" rot="5400000">
              <a:off x="6044760" y="2049480"/>
              <a:ext cx="353880" cy="1026720"/>
            </a:xfrm>
            <a:prstGeom prst="bentConnector3">
              <a:avLst>
                <a:gd name="adj1" fmla="val 37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1" name="_s67602"/>
            <p:cNvCxnSpPr>
              <a:stCxn id="448" idx="0"/>
              <a:endCxn id="462" idx="2"/>
            </p:cNvCxnSpPr>
            <p:nvPr/>
          </p:nvCxnSpPr>
          <p:spPr>
            <a:xfrm flipV="1" rot="16200000">
              <a:off x="2892600" y="1976040"/>
              <a:ext cx="353880" cy="1173240"/>
            </a:xfrm>
            <a:prstGeom prst="bentConnector3">
              <a:avLst>
                <a:gd name="adj1" fmla="val 37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3" name="_s67600"/>
            <p:cNvCxnSpPr>
              <a:stCxn id="451" idx="0"/>
              <a:endCxn id="462" idx="2"/>
            </p:cNvCxnSpPr>
            <p:nvPr/>
          </p:nvCxnSpPr>
          <p:spPr>
            <a:xfrm flipH="1" flipV="1" rot="5400000">
              <a:off x="1720440" y="1976040"/>
              <a:ext cx="353880" cy="1173240"/>
            </a:xfrm>
            <a:prstGeom prst="bentConnector3">
              <a:avLst>
                <a:gd name="adj1" fmla="val 37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4" name="_s67597"/>
            <p:cNvCxnSpPr>
              <a:stCxn id="458" idx="0"/>
              <a:endCxn id="465" idx="2"/>
            </p:cNvCxnSpPr>
            <p:nvPr/>
          </p:nvCxnSpPr>
          <p:spPr>
            <a:xfrm flipV="1" rot="16200000">
              <a:off x="5495040" y="439920"/>
              <a:ext cx="353880" cy="2126160"/>
            </a:xfrm>
            <a:prstGeom prst="bentConnector3">
              <a:avLst>
                <a:gd name="adj1" fmla="val 37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66" name="_s67595"/>
            <p:cNvCxnSpPr>
              <a:stCxn id="462" idx="0"/>
              <a:endCxn id="465" idx="2"/>
            </p:cNvCxnSpPr>
            <p:nvPr/>
          </p:nvCxnSpPr>
          <p:spPr>
            <a:xfrm flipH="1" flipV="1" rot="5400000">
              <a:off x="3369600" y="440280"/>
              <a:ext cx="353880" cy="2126160"/>
            </a:xfrm>
            <a:prstGeom prst="bentConnector3">
              <a:avLst>
                <a:gd name="adj1" fmla="val 374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65" name="_s67591"/>
            <p:cNvSpPr/>
            <p:nvPr/>
          </p:nvSpPr>
          <p:spPr>
            <a:xfrm>
              <a:off x="3729960" y="62064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Methoden der </a:t>
              </a:r>
              <a:br>
                <a:rPr sz="1500"/>
              </a:b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Marktforsch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67592"/>
            <p:cNvSpPr/>
            <p:nvPr/>
          </p:nvSpPr>
          <p:spPr>
            <a:xfrm>
              <a:off x="1604160" y="168012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Primärforsch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67594"/>
            <p:cNvSpPr/>
            <p:nvPr/>
          </p:nvSpPr>
          <p:spPr>
            <a:xfrm>
              <a:off x="5855400" y="168012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Sekundärforsch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67599"/>
            <p:cNvSpPr/>
            <p:nvPr/>
          </p:nvSpPr>
          <p:spPr>
            <a:xfrm>
              <a:off x="431640" y="273960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Einmalig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Erheb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7601"/>
            <p:cNvSpPr/>
            <p:nvPr/>
          </p:nvSpPr>
          <p:spPr>
            <a:xfrm>
              <a:off x="2777040" y="273960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Laufen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Erheb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67603"/>
            <p:cNvSpPr/>
            <p:nvPr/>
          </p:nvSpPr>
          <p:spPr>
            <a:xfrm>
              <a:off x="4829040" y="273960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Auswert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interner Da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67605"/>
            <p:cNvSpPr/>
            <p:nvPr/>
          </p:nvSpPr>
          <p:spPr>
            <a:xfrm>
              <a:off x="6881400" y="273960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Auswert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externer Dat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67607"/>
            <p:cNvSpPr/>
            <p:nvPr/>
          </p:nvSpPr>
          <p:spPr>
            <a:xfrm>
              <a:off x="1604160" y="379908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Befrag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67609"/>
            <p:cNvSpPr/>
            <p:nvPr/>
          </p:nvSpPr>
          <p:spPr>
            <a:xfrm>
              <a:off x="1604160" y="485856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Beobachtu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67611"/>
            <p:cNvSpPr/>
            <p:nvPr/>
          </p:nvSpPr>
          <p:spPr>
            <a:xfrm>
              <a:off x="1604160" y="591804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Experi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7613"/>
            <p:cNvSpPr/>
            <p:nvPr/>
          </p:nvSpPr>
          <p:spPr>
            <a:xfrm>
              <a:off x="3949560" y="3799080"/>
              <a:ext cx="1758960" cy="7063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500" spc="-1" strike="noStrike">
                  <a:solidFill>
                    <a:srgbClr val="000000"/>
                  </a:solidFill>
                  <a:latin typeface="Arial"/>
                </a:rPr>
                <a:t>Panel-Verfarhr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31640" y="417600"/>
            <a:ext cx="8208360" cy="5400000"/>
            <a:chOff x="431640" y="417600"/>
            <a:chExt cx="8208360" cy="5400000"/>
          </a:xfrm>
        </p:grpSpPr>
        <p:cxnSp>
          <p:nvCxnSpPr>
            <p:cNvPr id="468" name="_s69653"/>
            <p:cNvCxnSpPr>
              <a:stCxn id="469" idx="0"/>
              <a:endCxn id="470" idx="2"/>
            </p:cNvCxnSpPr>
            <p:nvPr/>
          </p:nvCxnSpPr>
          <p:spPr>
            <a:xfrm flipV="1" rot="16200000">
              <a:off x="4289760" y="3719160"/>
              <a:ext cx="491400" cy="174132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1" name="_s69651"/>
            <p:cNvCxnSpPr>
              <a:stCxn id="472" idx="0"/>
              <a:endCxn id="470" idx="2"/>
            </p:cNvCxnSpPr>
            <p:nvPr/>
          </p:nvCxnSpPr>
          <p:spPr>
            <a:xfrm flipH="1" flipV="1" rot="5400000">
              <a:off x="2548800" y="3718800"/>
              <a:ext cx="491400" cy="174204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3" name="_s69649"/>
            <p:cNvCxnSpPr>
              <a:stCxn id="474" idx="0"/>
              <a:endCxn id="475" idx="2"/>
            </p:cNvCxnSpPr>
            <p:nvPr/>
          </p:nvCxnSpPr>
          <p:spPr>
            <a:xfrm flipV="1" rot="16200000">
              <a:off x="6030720" y="2246040"/>
              <a:ext cx="491400" cy="1742040"/>
            </a:xfrm>
            <a:prstGeom prst="bentConnector3">
              <a:avLst>
                <a:gd name="adj1" fmla="val 23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6" name="_s69647"/>
            <p:cNvCxnSpPr>
              <a:stCxn id="470" idx="0"/>
              <a:endCxn id="475" idx="2"/>
            </p:cNvCxnSpPr>
            <p:nvPr/>
          </p:nvCxnSpPr>
          <p:spPr>
            <a:xfrm flipH="1" flipV="1" rot="5400000">
              <a:off x="4290120" y="2246400"/>
              <a:ext cx="491400" cy="1741320"/>
            </a:xfrm>
            <a:prstGeom prst="bentConnector3">
              <a:avLst>
                <a:gd name="adj1" fmla="val 231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7" name="_s69645"/>
            <p:cNvCxnSpPr>
              <a:stCxn id="475" idx="0"/>
              <a:endCxn id="478" idx="2"/>
            </p:cNvCxnSpPr>
            <p:nvPr/>
          </p:nvCxnSpPr>
          <p:spPr>
            <a:xfrm flipV="1" rot="16200000">
              <a:off x="4289760" y="773640"/>
              <a:ext cx="491400" cy="174132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9" name="_s69644"/>
            <p:cNvCxnSpPr>
              <a:stCxn id="480" idx="0"/>
              <a:endCxn id="478" idx="2"/>
            </p:cNvCxnSpPr>
            <p:nvPr/>
          </p:nvCxnSpPr>
          <p:spPr>
            <a:xfrm flipH="1" flipV="1" rot="5400000">
              <a:off x="2548800" y="773280"/>
              <a:ext cx="491400" cy="1742040"/>
            </a:xfrm>
            <a:prstGeom prst="bentConnector3">
              <a:avLst>
                <a:gd name="adj1" fmla="val 232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8" name="_s69639"/>
            <p:cNvSpPr/>
            <p:nvPr/>
          </p:nvSpPr>
          <p:spPr>
            <a:xfrm>
              <a:off x="2172960" y="41760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200" spc="-1" strike="noStrike">
                  <a:solidFill>
                    <a:srgbClr val="000000"/>
                  </a:solidFill>
                  <a:latin typeface="Arial"/>
                </a:rPr>
                <a:t>Auswahlverfahr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200" spc="-1" strike="noStrike">
                  <a:solidFill>
                    <a:srgbClr val="000000"/>
                  </a:solidFill>
                  <a:latin typeface="Arial"/>
                </a:rPr>
                <a:t>in der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200" spc="-1" strike="noStrike">
                  <a:solidFill>
                    <a:srgbClr val="000000"/>
                  </a:solidFill>
                  <a:latin typeface="Arial"/>
                </a:rPr>
                <a:t>Marktforschu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69641"/>
            <p:cNvSpPr/>
            <p:nvPr/>
          </p:nvSpPr>
          <p:spPr>
            <a:xfrm>
              <a:off x="431640" y="189036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Vollerhebu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69642"/>
            <p:cNvSpPr/>
            <p:nvPr/>
          </p:nvSpPr>
          <p:spPr>
            <a:xfrm>
              <a:off x="3913920" y="189036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Teilerhebun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_s69646"/>
            <p:cNvSpPr/>
            <p:nvPr/>
          </p:nvSpPr>
          <p:spPr>
            <a:xfrm>
              <a:off x="2172960" y="336312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repräsentativ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69648"/>
            <p:cNvSpPr/>
            <p:nvPr/>
          </p:nvSpPr>
          <p:spPr>
            <a:xfrm>
              <a:off x="5655240" y="336312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willkürlic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_s69650"/>
            <p:cNvSpPr/>
            <p:nvPr/>
          </p:nvSpPr>
          <p:spPr>
            <a:xfrm>
              <a:off x="431640" y="483588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Zufallsauswah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_s69652"/>
            <p:cNvSpPr/>
            <p:nvPr/>
          </p:nvSpPr>
          <p:spPr>
            <a:xfrm>
              <a:off x="3913920" y="4835880"/>
              <a:ext cx="2984760" cy="9817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2500" spc="-1" strike="noStrike">
                  <a:solidFill>
                    <a:srgbClr val="000000"/>
                  </a:solidFill>
                  <a:latin typeface="Arial"/>
                </a:rPr>
                <a:t>Quotenauswah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Zufallsauswah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Zufallszahlentabelle und Schlussziffernverfah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orteile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Liste der gewünschten Personen, keine Merkmale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exakte statistische Bere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Nachteil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größere Stichpro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Tabelle zur Ermittlung der Schwankungsbre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Quotenauswah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Merkmale der befragten Personen werden berücksichtig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Vorteil: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kleine Stichpro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Nachteile: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Berücksichtigung aller wichtigen Merkmale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Statistiken als Grundlage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- statistische Verfahren lassen sich nicht </a:t>
            </a:r>
            <a:br>
              <a:rPr sz="2800"/>
            </a:b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   anw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Arial"/>
              </a:rPr>
              <a:t>Befrag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münd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telefon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schriftlich per Briefp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per e-mail und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eting - Grundla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Ziele, Aufga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Zielentwicklu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etingkonzep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etingproz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Käuferverhal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größ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etingpolitische Instru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Mündliche Befrag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ohe Antwortq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rößere Zahl von 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gänzende Beobach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ohe 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erwünschte“ Antwo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einflussung des Gespräc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907920"/>
            <a:ext cx="43210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Telefonische Befrag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Rasch und bill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Verfügbarkeit der Telefonnumm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schränkte Zahl von F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457200" y="907920"/>
            <a:ext cx="40384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Schriftliche Befrag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ein Inter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eine räumliche Entfer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geringe Rücklaufquote (15 – 3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859280" y="907920"/>
            <a:ext cx="403848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E-mail un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Keine Porto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direkte Eingabe am Bildsch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Ausschluss von bestimmten Bevölkerungsschi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Spams </a:t>
            </a: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hohe Quote der Nichtbeantwor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Definition Marke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Umfassende Konzeption des Planens und Handel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Ausrichtung aller Aktivitäten eines Unternehmens konsequent auf die gegenwärtigen und künftigen Erfordernisse der Märk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Befriedigung von Bedürfnis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Definition Market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000000"/>
                </a:solidFill>
                <a:latin typeface="Arial"/>
              </a:rPr>
              <a:t>Marketing bedeutet die systematische Orientierung aller betrieblichen Bereiche auf die Bedürfnisse der Kunden unter Berücksichtigung der gesellschaftlichen Anlie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92360" y="476280"/>
            <a:ext cx="475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77336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Konzeption des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177336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unktion des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12000" y="1773360"/>
            <a:ext cx="2374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Organisation des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285264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t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72428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roblem-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357336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Abnehmer-ori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80536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t-differenz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4000" y="537372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Kontr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64000" y="450864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Re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4000" y="364500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Plan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285264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3640" y="530064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ischfor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43640" y="4076640"/>
            <a:ext cx="201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Objektorientierte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etingor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372360" y="2924280"/>
            <a:ext cx="223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Funktionsgerechte</a:t>
            </a:r>
            <a:br>
              <a:rPr sz="1800"/>
            </a:br>
            <a:r>
              <a:rPr b="0" lang="de-AT" sz="1800" spc="-1" strike="noStrike">
                <a:solidFill>
                  <a:srgbClr val="000000"/>
                </a:solidFill>
                <a:latin typeface="Arial"/>
              </a:rPr>
              <a:t>Marketing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87280" y="134136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7280" y="83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6728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80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84720" y="2421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2421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242100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508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623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4720" y="321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84720" y="4365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84720" y="551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Philosoph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Produktorientierung (60er Jah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Verkaufsorientierung (70er Jah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etingorientierung (80er Jah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Markt- und Gesellschaftsorientierung (heu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900" spc="-1" strike="noStrike">
                <a:solidFill>
                  <a:srgbClr val="330066"/>
                </a:solidFill>
                <a:latin typeface="Arial"/>
              </a:rPr>
              <a:t>Markt- und Gesellschaftsorientieru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1989000"/>
            <a:ext cx="7704000" cy="427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Arial"/>
              </a:rPr>
              <a:t>Gesellsc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92360" y="2997360"/>
            <a:ext cx="6264360" cy="2823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rodu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3500280"/>
            <a:ext cx="4032360" cy="1850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692360" y="5300640"/>
            <a:ext cx="1079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2997360"/>
            <a:ext cx="107928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804000" y="2997000"/>
            <a:ext cx="11527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6804000" y="5300640"/>
            <a:ext cx="1152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94600" y="3500280"/>
            <a:ext cx="5461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Finanzie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rot="10800000">
            <a:off x="1692360" y="3141360"/>
            <a:ext cx="91188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Beschaffung, 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L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067280" y="3933720"/>
            <a:ext cx="144144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51280" y="443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Arial"/>
              </a:rPr>
              <a:t>Ku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7:16:18Z</dcterms:created>
  <dc:creator>Union Bruckmühl</dc:creator>
  <dc:description/>
  <dc:language>en-US</dc:language>
  <cp:lastModifiedBy>Union Bruckmühl</cp:lastModifiedBy>
  <dcterms:modified xsi:type="dcterms:W3CDTF">2004-09-03T12:20:39Z</dcterms:modified>
  <cp:revision>16</cp:revision>
  <dc:subject/>
  <dc:title>Marketing und Kommunikation</dc:title>
</cp:coreProperties>
</file>