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820-1D75-4E56-A150-4C02A9BA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BBD-9B39-431B-8575-D0402618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52D-55A8-4022-B7E4-58BE0C1D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CFF-48E2-400C-9627-1C613D15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F183-3F22-4187-BA33-16AE8F4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6823-08BB-408D-B2B4-75D714DE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16FE-8631-46BA-9F4C-D909BC80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BD0E-AE9F-4861-A261-0E0B95E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896-0BDF-44D4-8CA0-7990A343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40D-6E39-490F-A823-88D7C523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3606-0946-4793-AF4B-D9AC84E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C79-54DE-4BEA-B6B4-F21A522D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6E49-71A7-45DD-9B15-3EC1B1E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982-5582-4CFC-96A8-A711BA7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D0E4-5767-4C0D-8A0A-1355850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7EB-0569-49E9-8B97-9892427A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619D-D61D-46B2-91B0-03E4185F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59F-8A5D-4612-B4D8-7A12AAA9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970-11DC-4627-A0C4-7850B926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2B3-62CA-4DC3-B48C-39D8B1EE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FD1-ED28-4CA6-AEA7-298DE06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E00-2A5E-4EA9-A7D3-FFE9D779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0C8-3B6B-4BBB-9A89-EB82ADA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444-387A-4BA1-BB01-4FB4C0B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B23F-AABB-4931-9471-8B7071CBEF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FD5C-F786-4ABA-8912-9F19E6A53D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Definition Marke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Umfassende Konzeption des Planens und Handel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Ausrichtung aller Aktivitäten eines Unternehmens konsequent auf die gegenwärtigen und künftigen Erfordernisse der Märk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Befriedigung von Bedürfniss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ktinnov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900" spc="-1" strike="noStrike">
                <a:solidFill>
                  <a:srgbClr val="000000"/>
                </a:solidFill>
                <a:latin typeface="Verdana"/>
              </a:rPr>
              <a:t>Produktdifferenzieru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Verdana"/>
              </a:rPr>
              <a:t>= Erhöhung der Programmtief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Verdana"/>
              </a:rPr>
              <a:t>Ein Produkt wird in verschiedenen Aus-führungen angebote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900" spc="-1" strike="noStrike">
                <a:solidFill>
                  <a:srgbClr val="000000"/>
                </a:solidFill>
                <a:latin typeface="Verdana"/>
              </a:rPr>
              <a:t>Zweck</a:t>
            </a:r>
            <a:r>
              <a:rPr b="0" lang="de-AT" sz="1900" spc="-1" strike="noStrike">
                <a:solidFill>
                  <a:srgbClr val="000000"/>
                </a:solidFill>
                <a:latin typeface="Verdana"/>
              </a:rPr>
              <a:t>: Anpassung an unterschiedl. Bedürfnisse und Kaufkraft der Abnehmer und Festigung der Marktposi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roduktdiversifik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 Erhöhung der Programmbrei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ünd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eteiligung neuen Mark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gänzen von Produkt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orhandene Kapazität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reitere Risikostreuu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ktdiversifikation – Arte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Verdana"/>
              </a:rPr>
              <a:t>Horizontale Diversifikation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Aktivitäten auf Bereiche ausdehnen, die auf der gleichen Wirtschaftsebene lie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Verdana"/>
              </a:rPr>
              <a:t>Vertikale Diversifikation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Produkte einer vor- bzw. nachgelagerten Wirtschaftsstufe werden ins Programm aufgenomm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Verdana"/>
              </a:rPr>
              <a:t>Laterale Diversifikation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neu aufgenommenen Produkte stehen in keinem Zusammenhang mit den alt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ktvar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stimmte Eigenschaften von bestehenden Produkten werden im Zeitablauf verände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ktion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teria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rbe und Form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erpacku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zeichnu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Unterschied zu Produktinnovati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erschieden Typen werden zeitlich nacheinander angebot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inführung neuer Produk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2133720"/>
            <a:ext cx="2087640" cy="1229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ens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133720"/>
            <a:ext cx="2087640" cy="1229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rausw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133720"/>
            <a:ext cx="2087640" cy="106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Konzept-entwicklung und   –erprobung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500280"/>
            <a:ext cx="2087640" cy="1167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Wirtschaftlich-keits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013360"/>
            <a:ext cx="208764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ktentwickl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5013360"/>
            <a:ext cx="2087640" cy="1229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t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5013360"/>
            <a:ext cx="208764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teinführ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26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450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651280" y="551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348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deensu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Interne Quell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Systematische Befragung von Letztverbraucher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Systematische Erhebung bei den Händler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Systematische Untersuchung von Konkurrenzprodukten, Weiterentwicklung von Produkten der Konkurrenz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Andere Quellen, wie Fachzeitschriften, Forschungsergebnisse von Universitä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Untersuchungen sprechen davon, dass etwa di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Hälfte aller Ideen direkt aus den Unternehm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kommt, die andere Hälfte von auß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orauswah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chätzen des Marktpotenti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chätzen der eigenen Ressourc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chätzen der technischen Machbarke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chätzen rechtlicher Proble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Überlegungen, ob das Produkt in das Gesamtprogramm pas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onzeptentwicklung und -erprobu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Kunde kauft keine Produktidee, daher muss ein eindeutiges Produktkonzept entwickelt werd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Einschaltung von internen und externen Marktforscher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Viele Konzepte, die in der Erprobungs-phase Erfolg versprechen, haben sich am Markt nicht bewäh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Entwicklung grober Marketingstrategi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irtschaftlichkeitsanaly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Hauptproblem ist die Voraus-schätzung des Umsatzes über mehrere Jahre. Insbesondere müssen die Produktionskapazitäten festgelegt und geprüft werden, ob der Umsatz ausreicht, um die Gewinnschwelle zu erreich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Nur auf Basis eines Konzepts und einer groben Marketingstrateg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ktentwicklu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chnische und wirtschaftliche Marktreif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wünschte Eigenschaften aufwe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u geplanten Kosten realisie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eine unzulässigen Mängel aufwe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ist Prototy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ktreife: Formgebung, Gestaltung der Verpackung, Produktn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rkterprobung und -einführu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kte, deren Markteinführung besonders teuer ist, werden häufig zunächst auf regional begrenzten Testmärkten verkauft, um die Kundenreaktionen und auch die technische Bewährung des Produktes zu prüf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st in dieser letzten Phase erfolgt eine breite Markteinführung des Produk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6666"/>
                </a:solidFill>
                <a:latin typeface="Arial"/>
              </a:rPr>
              <a:t>Definition Marke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000000"/>
                </a:solidFill>
                <a:latin typeface="Verdana"/>
              </a:rPr>
              <a:t>Marketing bedeutet die systematische Orientierung aller betrieblichen Bereiche auf die Bedürfnisse der Kunden unter Berücksichtigung der gesellschaftlichen Anliegen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jektaufgab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e wollen die Erzeugung von Klassenzimmereinrichtungen aufnehm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Überlegen Sie, wie Sie zu Produktideen kommen könnten, versuchen Sie eine Vorauswahl vorzunehm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wickeln Sie ein Konzept und erproben Sie es durch Befragung von Schülern anderer Klassen (eventuell anderer Schulen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e können Sie Markttests durchführe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bsatzpolitische Instrumen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Produktpolitik (product)</a:t>
            </a:r>
            <a:br>
              <a:rPr sz="2900"/>
            </a:b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Gestaltung des Produktionsprogrammes und einzelnen Produktes und Zusatzleistungen</a:t>
            </a: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Kontrahierungspolitik</a:t>
            </a:r>
            <a:br>
              <a:rPr sz="2900"/>
            </a:b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Preis-und Konditionenpoliti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Distributionspolitik</a:t>
            </a:r>
            <a:br>
              <a:rPr sz="2900"/>
            </a:b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Produkte rechtzeitig am richtigen 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Kommunikationspolitik</a:t>
            </a:r>
            <a:br>
              <a:rPr sz="2900"/>
            </a:br>
            <a:r>
              <a:rPr b="0" lang="de-AT" sz="2100" spc="-1" strike="noStrike">
                <a:solidFill>
                  <a:srgbClr val="000000"/>
                </a:solidFill>
                <a:latin typeface="Verdana"/>
              </a:rPr>
              <a:t>Werbung, Verkaufsförderung, Öffentlichkeitsarbe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ktpoliti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duktgestalt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mpolit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packungspolit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kenpoliti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rvice und Nebenleist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9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de am Markt angebotene Leistung bzw. Leistungskombination ist ein Produkt im Sinne des Mark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und- und Zusatznutze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Grundnutzen</a:t>
            </a:r>
            <a:br>
              <a:rPr sz="2900"/>
            </a:b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zB Mountainbiken zum Fahren außerhalb der üblichen Verkehrswege, in frischer Luf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Zusatznutzen</a:t>
            </a:r>
            <a:br>
              <a:rPr sz="2900"/>
            </a:b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- Geltungsnutzen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Prestige, sportliche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  Lebensführung)</a:t>
            </a:r>
            <a:br>
              <a:rPr sz="2000"/>
            </a:br>
            <a:r>
              <a:rPr b="0" lang="de-AT" sz="2900" spc="-1" strike="noStrike">
                <a:solidFill>
                  <a:srgbClr val="000000"/>
                </a:solidFill>
                <a:latin typeface="Verdana"/>
              </a:rPr>
              <a:t>- Erlebnisnutzen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(schöne Gestaltung,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   gemeinsame Radausflüge,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benszyklus von Produkte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7225" t="17348" r="16506" b="22800"/>
          <a:stretch/>
        </p:blipFill>
        <p:spPr>
          <a:xfrm>
            <a:off x="1332000" y="1916280"/>
            <a:ext cx="6480000" cy="332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47640" y="5300640"/>
            <a:ext cx="64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inführung     Wachstum        Reife        Sättigung    De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benszykl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Einführung: Umsatz steigt langs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Wachstumsphase: Marktdurchdringu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Reife: Umsatz erreicht Maximu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Sättigung: langsames Sinken des Absatz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Degeneration: Umsatz stagniert völli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Relaunch: Verlängerung des Lebenszyklus durch Produktvariation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Neusta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duktgestaltung und Programmpoliti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Verdana"/>
              </a:rPr>
              <a:t>Breite Produktionsprogramm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Welche Produktgruppen werden angebote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Verdana"/>
              </a:rPr>
              <a:t>Tiefe des Produktionsprogrammes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Wie viele Ausführungen eines Produktes werden angeboten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Geringe Programmbreite und Programmtiefe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hoher Spezialisierungsgrad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Nachteile: hohes Risiko und oft ermöglicht der Bekanntheitsgrad eines Produktes auch den Absatz anderer Produkt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duktpolitische Strategi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Produktinnovation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Produktdifferenzierung und –diversifikation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Einführung neuer Produk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Produktvariation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Veränderung der Produkte im Zeitablauf (siehe Relaunch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Produktelimination</a:t>
            </a:r>
            <a:br>
              <a:rPr sz="2500"/>
            </a:b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Produkte werden aufgelassen </a:t>
            </a:r>
            <a:r>
              <a:rPr b="0" lang="de-AT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2500" spc="-1" strike="noStrike">
                <a:solidFill>
                  <a:srgbClr val="000000"/>
                </a:solidFill>
                <a:latin typeface="Verdana"/>
              </a:rPr>
              <a:t> Gründe Ende des Lebenszyklus und Spezialisieru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8:27:46Z</dcterms:created>
  <dc:creator>HLW Ried am Wolfgangsee</dc:creator>
  <dc:description/>
  <dc:language>en-US</dc:language>
  <cp:lastModifiedBy>HLW Ried am Wolfgangsee</cp:lastModifiedBy>
  <dcterms:modified xsi:type="dcterms:W3CDTF">2005-02-23T17:21:21Z</dcterms:modified>
  <cp:revision>7</cp:revision>
  <dc:subject/>
  <dc:title>Definition Marketing</dc:title>
</cp:coreProperties>
</file>