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4825" cy="9705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52280" y="6477120"/>
            <a:ext cx="9448560" cy="380880"/>
          </a:xfrm>
          <a:prstGeom prst="rect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52280" y="0"/>
            <a:ext cx="952488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573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laudia Schür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0160" y="657396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52280" y="6477120"/>
            <a:ext cx="9448560" cy="380880"/>
          </a:xfrm>
          <a:prstGeom prst="rect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52280" y="0"/>
            <a:ext cx="9524880" cy="1523880"/>
          </a:xfrm>
          <a:prstGeom prst="rect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573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laudia Schür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50160" y="657396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 ist ein Protokol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6600"/>
            <a:ext cx="777240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riftliche Zusammenfas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den wesentlichen Inh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prä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komm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sichtlich glied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BS00975_" descr=""/>
          <p:cNvPicPr/>
          <p:nvPr/>
        </p:nvPicPr>
        <p:blipFill>
          <a:blip r:embed="rId1"/>
          <a:stretch/>
        </p:blipFill>
        <p:spPr>
          <a:xfrm>
            <a:off x="5884920" y="3440160"/>
            <a:ext cx="26161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ann werden Protokolle geführ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5440" y="1676160"/>
            <a:ext cx="8818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zungen und Ta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meinderats-, Landtags- u. Nationalrat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arbeiterbesprec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amml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sverhandl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ugeneinver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fer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ndengesprä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ä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7560" y="3208320"/>
            <a:ext cx="1960560" cy="914400"/>
          </a:xfrm>
          <a:prstGeom prst="ellipse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arum werden Protokolle geführ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5930000">
            <a:off x="3470760" y="5055120"/>
            <a:ext cx="2267280" cy="544680"/>
          </a:xfrm>
          <a:custGeom>
            <a:avLst/>
            <a:gdLst>
              <a:gd name="textAreaLeft" fmla="*/ 0 w 2267280"/>
              <a:gd name="textAreaRight" fmla="*/ 2267640 w 226728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5928200">
            <a:off x="3665880" y="5330160"/>
            <a:ext cx="18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is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8263800">
            <a:off x="5000400" y="2320560"/>
            <a:ext cx="2246040" cy="544680"/>
          </a:xfrm>
          <a:custGeom>
            <a:avLst/>
            <a:gdLst>
              <a:gd name="textAreaLeft" fmla="*/ 0 w 2246040"/>
              <a:gd name="textAreaRight" fmla="*/ 2246040 w 22460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8985200">
            <a:off x="5425200" y="21582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9400">
            <a:off x="390600" y="3371400"/>
            <a:ext cx="2982960" cy="544680"/>
          </a:xfrm>
          <a:custGeom>
            <a:avLst/>
            <a:gdLst>
              <a:gd name="textAreaLeft" fmla="*/ 0 w 2982960"/>
              <a:gd name="textAreaRight" fmla="*/ 2983320 w 298296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10600">
            <a:off x="412560" y="3416400"/>
            <a:ext cx="28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grund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780200">
            <a:off x="1131840" y="2416320"/>
            <a:ext cx="2557440" cy="544320"/>
          </a:xfrm>
          <a:custGeom>
            <a:avLst/>
            <a:gdLst>
              <a:gd name="textAreaLeft" fmla="*/ 0 w 2557440"/>
              <a:gd name="textAreaRight" fmla="*/ 2557440 w 255744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79600">
            <a:off x="1153440" y="246024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391600">
            <a:off x="3558240" y="2034360"/>
            <a:ext cx="1663560" cy="54432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390400">
            <a:off x="3710520" y="20001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r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213200">
            <a:off x="455760" y="4951440"/>
            <a:ext cx="3612960" cy="544320"/>
          </a:xfrm>
          <a:custGeom>
            <a:avLst/>
            <a:gdLst>
              <a:gd name="textAreaLeft" fmla="*/ 0 w 3612960"/>
              <a:gd name="textAreaRight" fmla="*/ 3613320 w 36129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9214400">
            <a:off x="630720" y="51141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überwa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2712800">
            <a:off x="5103360" y="4351320"/>
            <a:ext cx="3330720" cy="91440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5f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09800">
            <a:off x="5679000" y="465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skontrolle fü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ungskräf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4760" y="33861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2:58Z</dcterms:created>
  <dc:creator>claudia</dc:creator>
  <dc:description/>
  <dc:language>en-US</dc:language>
  <cp:lastModifiedBy>Claudia</cp:lastModifiedBy>
  <dcterms:modified xsi:type="dcterms:W3CDTF">2004-04-21T18:19:37Z</dcterms:modified>
  <cp:revision>14</cp:revision>
  <dc:subject/>
  <dc:title>Online Auktionen</dc:title>
</cp:coreProperties>
</file>