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52280" y="6477120"/>
            <a:ext cx="9448560" cy="380880"/>
          </a:xfrm>
          <a:prstGeom prst="rect">
            <a:avLst/>
          </a:prstGeom>
          <a:solidFill>
            <a:srgbClr val="ffe7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52280" y="0"/>
            <a:ext cx="9524880" cy="1523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57396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laudia Schür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0160" y="657396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tok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152280" y="6477120"/>
            <a:ext cx="9448560" cy="380880"/>
          </a:xfrm>
          <a:prstGeom prst="rect">
            <a:avLst/>
          </a:prstGeom>
          <a:solidFill>
            <a:srgbClr val="ffe7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52280" y="0"/>
            <a:ext cx="9524880" cy="1523880"/>
          </a:xfrm>
          <a:prstGeom prst="rect">
            <a:avLst/>
          </a:prstGeom>
          <a:solidFill>
            <a:srgbClr val="ffe7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57396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laudia Schür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50160" y="657396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tok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nimbus.bfinv.de/bilder/Protokoll.gif&amp;imgrefurl=http://nimbus.bfinv.de/Mitteilungsblatt/&amp;h=212&amp;w=200&amp;prev=/images%3Fq%3DProtokoll%26svnum%3D10%26hl%3Dde%26lr%3D%26ie%3DUTF-8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000000"/>
                </a:solidFill>
                <a:latin typeface="Arial"/>
              </a:rPr>
              <a:t>Protokoll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otokoll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llprotoko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136600"/>
            <a:ext cx="777240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örtliche Wiederg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schließlich ev. Zwischenru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Verbindung mit Tonbandger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B bei Parlamentsdeba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hohe Beweisk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ehr aufwändig, unübersicht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BS00975_" descr=""/>
          <p:cNvPicPr/>
          <p:nvPr/>
        </p:nvPicPr>
        <p:blipFill>
          <a:blip r:embed="rId1"/>
          <a:stretch/>
        </p:blipFill>
        <p:spPr>
          <a:xfrm>
            <a:off x="6134040" y="936720"/>
            <a:ext cx="261612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Verlaufsprotoko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taillierte Ausfertig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zungsverl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gu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n der Red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lüsse (zu Stande kom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arbeiterbesprec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feren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einssitz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Zettel%20Stift%203" descr=""/>
          <p:cNvPicPr/>
          <p:nvPr/>
        </p:nvPicPr>
        <p:blipFill>
          <a:blip r:embed="rId1"/>
          <a:stretch/>
        </p:blipFill>
        <p:spPr>
          <a:xfrm>
            <a:off x="6541920" y="2693880"/>
            <a:ext cx="207036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Verlaufsprotoko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2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irekte Red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B Herr Maier sagt, dass er den Saal verließ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ußenstehende haben einen guten Einb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einungen der Teilnehmer werden erkenn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ufmerksamkeit und Konz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Buch" descr=""/>
          <p:cNvPicPr/>
          <p:nvPr/>
        </p:nvPicPr>
        <p:blipFill>
          <a:blip r:embed="rId1"/>
          <a:stretch/>
        </p:blipFill>
        <p:spPr>
          <a:xfrm>
            <a:off x="6854760" y="1817640"/>
            <a:ext cx="20210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eschlussprotoko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720" y="2004840"/>
            <a:ext cx="84204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Beschlüsse + Konsequen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zelmeinungen werden nicht niedergeschri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fache Erstellung und übersicht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ür Außenstehende schwer nachvollzieh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ründe, die zu den Beschlüssen geführt haben, werden nicht aufgezeich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32560" y="3138480"/>
            <a:ext cx="11970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Vernehmungsprotoko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liz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darm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Richtigkeit des Protokolls wird mit der Unterschrift bestäti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edersch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olizei" descr=""/>
          <p:cNvPicPr/>
          <p:nvPr/>
        </p:nvPicPr>
        <p:blipFill>
          <a:blip r:embed="rId1"/>
          <a:stretch/>
        </p:blipFill>
        <p:spPr>
          <a:xfrm>
            <a:off x="6135840" y="1969920"/>
            <a:ext cx="17827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Ähnliche Schriftstück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436480"/>
            <a:ext cx="44956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lefonnot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espräch" descr=""/>
          <p:cNvPicPr/>
          <p:nvPr/>
        </p:nvPicPr>
        <p:blipFill>
          <a:blip r:embed="rId1"/>
          <a:stretch/>
        </p:blipFill>
        <p:spPr>
          <a:xfrm>
            <a:off x="4700520" y="1857240"/>
            <a:ext cx="1781280" cy="2016360"/>
          </a:xfrm>
          <a:prstGeom prst="rect">
            <a:avLst/>
          </a:prstGeom>
          <a:ln w="0">
            <a:noFill/>
          </a:ln>
        </p:spPr>
      </p:pic>
      <p:pic>
        <p:nvPicPr>
          <p:cNvPr id="104" name="Akten" descr=""/>
          <p:cNvPicPr/>
          <p:nvPr/>
        </p:nvPicPr>
        <p:blipFill>
          <a:blip r:embed="rId2"/>
          <a:stretch/>
        </p:blipFill>
        <p:spPr>
          <a:xfrm>
            <a:off x="6680160" y="4510080"/>
            <a:ext cx="1478160" cy="139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354960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ennot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667400"/>
            <a:ext cx="4495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sprächsnot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ormale Gestaltu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itelse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liedert in Namen oder TOP (Tagesordnungspunk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um + Unterschrift vom Vorsitzen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Protokollfü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senheits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riftliche Anträ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38920" y="2247840"/>
          <a:ext cx="2282760" cy="35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247840"/>
                    <a:ext cx="228276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as nicht im Protokoll stehen mu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6880" y="228096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üßung, Dank, Einleitung, Schlusswort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nahme: wörtliches Protok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traul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bensächliche Beispiele, Abschweif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sönliche Angri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bewiesene Behaup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sichten des Protokollfüh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Stopp" descr=""/>
          <p:cNvPicPr/>
          <p:nvPr/>
        </p:nvPicPr>
        <p:blipFill>
          <a:blip r:embed="rId1"/>
          <a:stretch/>
        </p:blipFill>
        <p:spPr>
          <a:xfrm>
            <a:off x="6761160" y="444024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2:58Z</dcterms:created>
  <dc:creator>claudia</dc:creator>
  <dc:description/>
  <dc:language>en-US</dc:language>
  <cp:lastModifiedBy>Claudia</cp:lastModifiedBy>
  <dcterms:modified xsi:type="dcterms:W3CDTF">2004-04-21T18:17:02Z</dcterms:modified>
  <cp:revision>15</cp:revision>
  <dc:subject/>
  <dc:title>Online Auktionen</dc:title>
</cp:coreProperties>
</file>