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BCC3-2D65-42AC-B844-145D8DF7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F93B-2F38-4036-AEAB-5189132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6035-6BD0-4408-B570-90C8B14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D330-D995-4495-86FA-C1EA22B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77DB3-F00D-4065-B41C-689CB57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3C0E5-2E30-4959-A7B7-17C34F37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47AD1-7A7D-4F7F-921D-9CFAE97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E561-FA9A-4D6E-91AA-4A6F64E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C81D-4FEF-43A6-B989-BE761BF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71C52-FA49-4532-8811-48B3AFE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3968-FD36-4293-BA9F-78ED6C59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3D9A3-F676-4BA4-805F-9569A026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7840" y="6429240"/>
            <a:ext cx="19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MMag. Michael Spannber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HAK/BHAS Halle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0C0-BB01-4FE2-A30C-AADABCA4269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Qualitätsfestlegung im KV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chti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 allem bei Einzelstücken, neuen Produkten oder gebrauchten War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z.B.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chmal im KV Zusatz: „sie besichtigt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063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Qualitätsfestlegung im KV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) Beschreibung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Abbildun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in Prospekten, Katalogen, Internetsei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rationale Beschreibung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zahlenmäßig erfassbare Merkmale (z.B 115 KW, 20% Fettgehalt 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Irrationale Beschreibun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Merkmale die durch Zahlen nicht erfassbar sind (z.B. Farbe, Form 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ilder/Fotos: unterstützen Beschreib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3473640" cy="24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1682400">
            <a:off x="7164000" y="-243000"/>
            <a:ext cx="125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3190680" cy="272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Qualitätsfestlegung im KV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Muster und Pro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 bei vertretbaren Gütern möglich!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z.B. .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„Kauf nach Muster“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uf auf Probe“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uf wird abgeschlossen, aber Käufer hat Rückgaberecht, wenn Ware nicht entspric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uf zur Probe“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 kleine Teilmenge wird gekauft, jedoch ohne Rückgaberech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Qualitätsfestlegung im KV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Ma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e dienen zur Unterscheidung von gleichartigen Produkten (z.B. Getränken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ch Werbung wird versucht eine positive Einstellung der Konsumenten zu der „Marke“ zu bewirk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z.B.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4581360"/>
            <a:ext cx="28083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Arten von Mark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05228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tma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80188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4476600"/>
            <a:ext cx="1981080" cy="2381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67280" y="1628640"/>
            <a:ext cx="222552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dma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6000" y="4479840"/>
            <a:ext cx="2378160" cy="2378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380988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2511360" cy="188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51280" y="1773360"/>
            <a:ext cx="73080" cy="46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Arten von Mark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ierte Ma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2811600" cy="281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2295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27640" y="5157720"/>
            <a:ext cx="2448000" cy="1492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7640" y="3213000"/>
            <a:ext cx="2592360" cy="1374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>
            <a:lum contrast="-54000"/>
          </a:blip>
          <a:stretch/>
        </p:blipFill>
        <p:spPr>
          <a:xfrm>
            <a:off x="5651640" y="549360"/>
            <a:ext cx="3313080" cy="1842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Qualitätsfestlegung im KV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Typen, Normen, Handelsklass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yp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odukte eines Unternehmens sind vereinheitlicht (z.B. Audi A4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r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lten meist für einen ganzen Sta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.B. DIN A4 ist eine normierte Größ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andelsklass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en Qualität von landwirtschaftlichen Produkten fest; z.B. bei Eiern gibt es Qualitätsklassen 1-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rial"/>
              </a:rPr>
              <a:t>Sonderregelung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Kauf in Bausch und Bogen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z.B. Kauf einer ganzen Ernte, Entrümpler für Räumung eines Dachbodens)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Kauf ohne Rücksicht auf Fehl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- Verkäufer übernimmt keine Haftung für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Qualität (Ware darf aber nicht verdorben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se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000000"/>
                </a:solidFill>
                <a:uFillTx/>
                <a:latin typeface="Arial"/>
              </a:rPr>
              <a:t>Spezifikationskauf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auf ohne genaue Festlegung der Qualität;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äufer verpflichtet sich die Qualität innerhalb einer bestimmten Zeit genauer festzulegen („zu spezifizieren“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3:01:48Z</dcterms:created>
  <dc:creator>Teilnehmer</dc:creator>
  <dc:description/>
  <dc:language>en-US</dc:language>
  <cp:lastModifiedBy>cegull</cp:lastModifiedBy>
  <dcterms:modified xsi:type="dcterms:W3CDTF">2006-03-14T14:15:45Z</dcterms:modified>
  <cp:revision>57</cp:revision>
  <dc:subject/>
  <dc:title>Kaufvertrag</dc:title>
</cp:coreProperties>
</file>