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1680" y="9000"/>
            <a:ext cx="2906640" cy="4654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794040" y="9000"/>
            <a:ext cx="2906640" cy="4654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-3168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84B7D6F3-B14C-4A51-A3DD-222F93965E89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Img"/>
          </p:nvPr>
        </p:nvSpPr>
        <p:spPr>
          <a:xfrm>
            <a:off x="821880" y="865080"/>
            <a:ext cx="502596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542674B3-AF4C-4C61-A5AE-0389A0A8B378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8E3FD3A2-5DB8-4144-B83D-F2E4B0CEB78A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300AB5C3-EB9F-4577-BBF1-5E28CDE7FB29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2F6533C0-0AAF-4DAF-802E-44933371281E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6E3563C6-F1AF-44D0-80DE-0834E08BBB03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7A053827-2A00-406D-B022-F7AF4502F9E9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 der Tafel die Konten zeigen! eintragen und die Zusammenhänge aufzeig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6139C11F-0862-4437-9055-5F2B11633BAB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 der Tafel die Konten zeigen! eintragen und die Zusammenhänge aufzeig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0AC36F51-27AF-42B4-8435-37142AF7AFCD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99E968C9-2664-4062-B5E6-9A678F4FFFFB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85960" y="4714560"/>
            <a:ext cx="489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3CA-A3D9-4A68-AE35-96E18B3F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EDD-1CBD-468C-ABF4-473031E1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67F-2523-4434-B792-2ECCA768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F1D-8F07-4442-84E1-2D713E8A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7C9B-1F04-46A2-B08E-4E3A53B9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2EFF-B71E-4D49-A00A-E7B6753B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3A62-5304-43AA-AAD7-CA613869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2C11-840B-4A59-A23B-7390A4D9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AF8E-CC7D-4565-AA16-67B2BF6C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ACFF-D6DF-47C3-B7A9-81DCB5A8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0110-0F73-41C0-8CB9-5DB78502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DDF-CC92-4CC0-B456-C2515998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D7CB-71A4-468B-B02F-6B3C717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0EDF-2DA2-49F7-8704-CD9685F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4C64-4F51-4F2D-BF87-176C8F7C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165E-D138-4444-88C3-AA0992A9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205D-F4FE-4776-A239-7D4ADF12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D28F-1B0D-4645-9FCE-2CCD0574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50DF-0C1F-4F65-A48F-9F5911F7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D0D1-3A07-4648-A494-2CE5F880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ABF7-AB9A-49F5-9BAC-8A6F5EAC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A2CC-2EA8-4A1A-8694-03760C09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FF3-BD72-4736-BEE7-13B90A47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F241-429D-4336-BCF8-21975659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60F4-9835-4E39-953D-8FAC3462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903C-E171-4927-8E7C-82CB9EC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11CA-5FF4-4EC0-A899-43BD78C0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E54E-41A9-47F3-B245-D44B1FC9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46B8-ACCD-4231-B667-5714FDF8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6DC6-AC83-4DF5-8429-71F4231B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A45-3403-4BA4-98AB-9CA9B6AB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6C7-B228-4CE4-B8A1-037F93B4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A03-AB8B-4CD6-BA65-0213E748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EE6-85A9-46CA-8503-43E7EC5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656-4677-4768-A301-62405166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93E-C94F-411E-8979-15D7E607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7478-F39F-4309-A462-62C1FD40D7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5381640" y="44280"/>
            <a:ext cx="4417920" cy="5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© bauer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Object 10"/>
          <p:cNvGraphicFramePr/>
          <p:nvPr/>
        </p:nvGraphicFramePr>
        <p:xfrm>
          <a:off x="9455040" y="111240"/>
          <a:ext cx="257400" cy="2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55040" y="111240"/>
                    <a:ext cx="2574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ck 7"/>
          <p:cNvSpPr/>
          <p:nvPr/>
        </p:nvSpPr>
        <p:spPr>
          <a:xfrm>
            <a:off x="0" y="0"/>
            <a:ext cx="990612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91"/>
          <p:cNvSpPr/>
          <p:nvPr/>
        </p:nvSpPr>
        <p:spPr>
          <a:xfrm>
            <a:off x="114480" y="6336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Grafik 9" descr="bauerpoint.gif"/>
          <p:cNvPicPr/>
          <p:nvPr/>
        </p:nvPicPr>
        <p:blipFill>
          <a:blip r:embed="rId4"/>
          <a:stretch/>
        </p:blipFill>
        <p:spPr>
          <a:xfrm>
            <a:off x="8540640" y="87480"/>
            <a:ext cx="120168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>
            <a:off x="5381640" y="44280"/>
            <a:ext cx="4417920" cy="5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© bauer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0"/>
          <p:cNvGraphicFramePr/>
          <p:nvPr/>
        </p:nvGraphicFramePr>
        <p:xfrm>
          <a:off x="9455040" y="111240"/>
          <a:ext cx="257400" cy="2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55040" y="111240"/>
                    <a:ext cx="2574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1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ck 7"/>
          <p:cNvSpPr/>
          <p:nvPr/>
        </p:nvSpPr>
        <p:spPr>
          <a:xfrm>
            <a:off x="0" y="0"/>
            <a:ext cx="990612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91"/>
          <p:cNvSpPr/>
          <p:nvPr/>
        </p:nvSpPr>
        <p:spPr>
          <a:xfrm>
            <a:off x="114480" y="6336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Grafik 9" descr="bauerpoint.gif"/>
          <p:cNvPicPr/>
          <p:nvPr/>
        </p:nvPicPr>
        <p:blipFill>
          <a:blip r:embed="rId4"/>
          <a:stretch/>
        </p:blipFill>
        <p:spPr>
          <a:xfrm>
            <a:off x="8540640" y="87480"/>
            <a:ext cx="1201680" cy="431640"/>
          </a:xfrm>
          <a:prstGeom prst="rect">
            <a:avLst/>
          </a:prstGeom>
          <a:ln w="0">
            <a:noFill/>
          </a:ln>
        </p:spPr>
      </p:pic>
      <p:sp>
        <p:nvSpPr>
          <p:cNvPr id="53" name="Rechteck 10"/>
          <p:cNvSpPr/>
          <p:nvPr/>
        </p:nvSpPr>
        <p:spPr>
          <a:xfrm>
            <a:off x="0" y="0"/>
            <a:ext cx="990612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91"/>
          <p:cNvSpPr/>
          <p:nvPr/>
        </p:nvSpPr>
        <p:spPr>
          <a:xfrm>
            <a:off x="114480" y="6336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afik 9" descr="bauerpoint.gif"/>
          <p:cNvPicPr/>
          <p:nvPr/>
        </p:nvPicPr>
        <p:blipFill>
          <a:blip r:embed="rId5"/>
          <a:stretch/>
        </p:blipFill>
        <p:spPr>
          <a:xfrm>
            <a:off x="8540640" y="87480"/>
            <a:ext cx="1201680" cy="431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8EB7-DA32-439D-8970-D45ACBE5D0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5381640" y="44280"/>
            <a:ext cx="4417920" cy="5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© bauer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9455040" y="111240"/>
          <a:ext cx="257400" cy="2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55040" y="111240"/>
                    <a:ext cx="2574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eck 7"/>
          <p:cNvSpPr/>
          <p:nvPr/>
        </p:nvSpPr>
        <p:spPr>
          <a:xfrm>
            <a:off x="0" y="0"/>
            <a:ext cx="990612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91"/>
          <p:cNvSpPr/>
          <p:nvPr/>
        </p:nvSpPr>
        <p:spPr>
          <a:xfrm>
            <a:off x="114480" y="6336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Grafik 9" descr="bauerpoint.gif"/>
          <p:cNvPicPr/>
          <p:nvPr/>
        </p:nvPicPr>
        <p:blipFill>
          <a:blip r:embed="rId4"/>
          <a:stretch/>
        </p:blipFill>
        <p:spPr>
          <a:xfrm>
            <a:off x="8540640" y="87480"/>
            <a:ext cx="1201680" cy="431640"/>
          </a:xfrm>
          <a:prstGeom prst="rect">
            <a:avLst/>
          </a:prstGeom>
          <a:ln w="0">
            <a:noFill/>
          </a:ln>
        </p:spPr>
      </p:pic>
      <p:sp>
        <p:nvSpPr>
          <p:cNvPr id="102" name="Rechteck 10"/>
          <p:cNvSpPr/>
          <p:nvPr/>
        </p:nvSpPr>
        <p:spPr>
          <a:xfrm>
            <a:off x="0" y="0"/>
            <a:ext cx="990612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91"/>
          <p:cNvSpPr/>
          <p:nvPr/>
        </p:nvSpPr>
        <p:spPr>
          <a:xfrm>
            <a:off x="114480" y="6336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afik 9" descr="bauerpoint.gif"/>
          <p:cNvPicPr/>
          <p:nvPr/>
        </p:nvPicPr>
        <p:blipFill>
          <a:blip r:embed="rId5"/>
          <a:stretch/>
        </p:blipFill>
        <p:spPr>
          <a:xfrm>
            <a:off x="8540640" y="87480"/>
            <a:ext cx="1201680" cy="431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dt" idx="7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9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D31E-19CE-4062-A060-A16E047811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post.at/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6"/>
          <p:cNvSpPr/>
          <p:nvPr/>
        </p:nvSpPr>
        <p:spPr>
          <a:xfrm flipH="1">
            <a:off x="573120" y="5062680"/>
            <a:ext cx="2357280" cy="0"/>
          </a:xfrm>
          <a:prstGeom prst="line">
            <a:avLst/>
          </a:prstGeom>
          <a:ln w="50760">
            <a:solidFill>
              <a:srgbClr val="99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103400" y="4724280"/>
            <a:ext cx="1593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 s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en zurü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129200" y="2994120"/>
            <a:ext cx="180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u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chungs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umgedre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182520" y="3422520"/>
            <a:ext cx="346248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99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3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ferver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323040" y="3424320"/>
            <a:ext cx="3416400" cy="106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2800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4000 HW-Erlö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181080" y="5346720"/>
            <a:ext cx="346212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99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3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ferver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5010 HW-Einsatz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H="1">
            <a:off x="6788160" y="4929120"/>
            <a:ext cx="23572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7318440" y="4592520"/>
            <a:ext cx="1593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 sen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en zurü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6332400" y="5353200"/>
            <a:ext cx="341640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000 HW-Erlö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ferf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97"/>
          <p:cNvSpPr/>
          <p:nvPr/>
        </p:nvSpPr>
        <p:spPr>
          <a:xfrm>
            <a:off x="3781440" y="5300640"/>
            <a:ext cx="374760" cy="905040"/>
          </a:xfrm>
          <a:prstGeom prst="leftArrow">
            <a:avLst>
              <a:gd name="adj1" fmla="val 75009"/>
              <a:gd name="adj2" fmla="val 49995"/>
            </a:avLst>
          </a:prstGeom>
          <a:gradFill rotWithShape="0">
            <a:gsLst>
              <a:gs pos="0">
                <a:srgbClr val="9900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98"/>
          <p:cNvSpPr/>
          <p:nvPr/>
        </p:nvSpPr>
        <p:spPr>
          <a:xfrm>
            <a:off x="5864400" y="3408480"/>
            <a:ext cx="401400" cy="904680"/>
          </a:xfrm>
          <a:prstGeom prst="right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99"/>
          <p:cNvSpPr/>
          <p:nvPr/>
        </p:nvSpPr>
        <p:spPr>
          <a:xfrm>
            <a:off x="3807000" y="3406680"/>
            <a:ext cx="374400" cy="905040"/>
          </a:xfrm>
          <a:prstGeom prst="leftArrow">
            <a:avLst>
              <a:gd name="adj1" fmla="val 75009"/>
              <a:gd name="adj2" fmla="val 49995"/>
            </a:avLst>
          </a:prstGeom>
          <a:gradFill rotWithShape="0">
            <a:gsLst>
              <a:gs pos="0">
                <a:srgbClr val="9900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00"/>
          <p:cNvSpPr/>
          <p:nvPr/>
        </p:nvSpPr>
        <p:spPr>
          <a:xfrm>
            <a:off x="5889600" y="5284800"/>
            <a:ext cx="401760" cy="905040"/>
          </a:xfrm>
          <a:prstGeom prst="right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1"/>
          <p:cNvSpPr/>
          <p:nvPr/>
        </p:nvSpPr>
        <p:spPr>
          <a:xfrm>
            <a:off x="819720" y="3044880"/>
            <a:ext cx="238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 kaufen ei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02"/>
          <p:cNvSpPr/>
          <p:nvPr/>
        </p:nvSpPr>
        <p:spPr>
          <a:xfrm>
            <a:off x="6436800" y="3029040"/>
            <a:ext cx="33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 verkaufen Ware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03"/>
          <p:cNvSpPr/>
          <p:nvPr/>
        </p:nvSpPr>
        <p:spPr>
          <a:xfrm>
            <a:off x="408240" y="63738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bindlichkeit wird aufgelö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04"/>
          <p:cNvSpPr/>
          <p:nvPr/>
        </p:nvSpPr>
        <p:spPr>
          <a:xfrm>
            <a:off x="6846120" y="633564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derung wird aufgelö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5"/>
          <p:cNvSpPr/>
          <p:nvPr/>
        </p:nvSpPr>
        <p:spPr>
          <a:xfrm>
            <a:off x="2016000" y="2244600"/>
            <a:ext cx="1667160" cy="595440"/>
          </a:xfrm>
          <a:prstGeom prst="rightArrow">
            <a:avLst>
              <a:gd name="adj1" fmla="val 50000"/>
              <a:gd name="adj2" fmla="val 140006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6"/>
          <p:cNvSpPr/>
          <p:nvPr/>
        </p:nvSpPr>
        <p:spPr>
          <a:xfrm>
            <a:off x="6073920" y="224460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07"/>
          <p:cNvSpPr/>
          <p:nvPr/>
        </p:nvSpPr>
        <p:spPr>
          <a:xfrm>
            <a:off x="2460600" y="195408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08"/>
          <p:cNvSpPr/>
          <p:nvPr/>
        </p:nvSpPr>
        <p:spPr>
          <a:xfrm>
            <a:off x="6551640" y="195732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09" descr="Lieferant Kopie"/>
          <p:cNvPicPr/>
          <p:nvPr/>
        </p:nvPicPr>
        <p:blipFill>
          <a:blip r:embed="rId1"/>
          <a:stretch/>
        </p:blipFill>
        <p:spPr>
          <a:xfrm>
            <a:off x="185760" y="1170000"/>
            <a:ext cx="18525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10"/>
          <p:cNvGrpSpPr/>
          <p:nvPr/>
        </p:nvGrpSpPr>
        <p:grpSpPr>
          <a:xfrm>
            <a:off x="3919680" y="1209600"/>
            <a:ext cx="2244600" cy="1388880"/>
            <a:chOff x="3919680" y="1209600"/>
            <a:chExt cx="2244600" cy="1388880"/>
          </a:xfrm>
        </p:grpSpPr>
        <p:pic>
          <p:nvPicPr>
            <p:cNvPr id="174" name="Picture 411" descr="lamron"/>
            <p:cNvPicPr/>
            <p:nvPr/>
          </p:nvPicPr>
          <p:blipFill>
            <a:blip r:embed="rId2"/>
            <a:srcRect l="0" t="3686" r="6007" b="10455"/>
            <a:stretch/>
          </p:blipFill>
          <p:spPr>
            <a:xfrm>
              <a:off x="3919680" y="1209600"/>
              <a:ext cx="22446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412"/>
            <p:cNvSpPr/>
            <p:nvPr/>
          </p:nvSpPr>
          <p:spPr>
            <a:xfrm>
              <a:off x="5484960" y="123012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413"/>
          <p:cNvSpPr/>
          <p:nvPr/>
        </p:nvSpPr>
        <p:spPr>
          <a:xfrm>
            <a:off x="281160" y="2090880"/>
            <a:ext cx="114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14" descr="rentner-mit-einkaufswagen"/>
          <p:cNvPicPr/>
          <p:nvPr/>
        </p:nvPicPr>
        <p:blipFill>
          <a:blip r:embed="rId3"/>
          <a:stretch/>
        </p:blipFill>
        <p:spPr>
          <a:xfrm>
            <a:off x="7848720" y="1200240"/>
            <a:ext cx="1325520" cy="16761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15"/>
          <p:cNvSpPr/>
          <p:nvPr/>
        </p:nvSpPr>
        <p:spPr>
          <a:xfrm>
            <a:off x="8498160" y="2633760"/>
            <a:ext cx="87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16"/>
          <p:cNvSpPr/>
          <p:nvPr/>
        </p:nvSpPr>
        <p:spPr>
          <a:xfrm>
            <a:off x="251280" y="13032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Warenrücksen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17"/>
          <p:cNvSpPr/>
          <p:nvPr/>
        </p:nvSpPr>
        <p:spPr>
          <a:xfrm>
            <a:off x="4367160" y="4761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(Gutschr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242280" y="1303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Bezugsko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637000" y="4827600"/>
            <a:ext cx="405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e wird durch den Transport teur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buchung auf Konto 5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2679840" y="5608800"/>
            <a:ext cx="397008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99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3300 (2800...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96"/>
          <p:cNvSpPr/>
          <p:nvPr/>
        </p:nvSpPr>
        <p:spPr>
          <a:xfrm>
            <a:off x="3882960" y="206676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98"/>
          <p:cNvSpPr/>
          <p:nvPr/>
        </p:nvSpPr>
        <p:spPr>
          <a:xfrm>
            <a:off x="3410640" y="1090440"/>
            <a:ext cx="2757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ransport der 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u uns = Bez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801"/>
          <p:cNvGrpSpPr/>
          <p:nvPr/>
        </p:nvGrpSpPr>
        <p:grpSpPr>
          <a:xfrm>
            <a:off x="6408720" y="1044720"/>
            <a:ext cx="2244600" cy="1388880"/>
            <a:chOff x="6408720" y="1044720"/>
            <a:chExt cx="2244600" cy="1388880"/>
          </a:xfrm>
        </p:grpSpPr>
        <p:pic>
          <p:nvPicPr>
            <p:cNvPr id="187" name="Picture 802" descr="lamron"/>
            <p:cNvPicPr/>
            <p:nvPr/>
          </p:nvPicPr>
          <p:blipFill>
            <a:blip r:embed="rId1"/>
            <a:srcRect l="0" t="3686" r="6007" b="10455"/>
            <a:stretch/>
          </p:blipFill>
          <p:spPr>
            <a:xfrm>
              <a:off x="6408720" y="1044720"/>
              <a:ext cx="22446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803"/>
            <p:cNvSpPr/>
            <p:nvPr/>
          </p:nvSpPr>
          <p:spPr>
            <a:xfrm>
              <a:off x="7974000" y="106524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813"/>
          <p:cNvGrpSpPr/>
          <p:nvPr/>
        </p:nvGrpSpPr>
        <p:grpSpPr>
          <a:xfrm>
            <a:off x="1353960" y="979560"/>
            <a:ext cx="1852560" cy="1390680"/>
            <a:chOff x="1353960" y="979560"/>
            <a:chExt cx="1852560" cy="1390680"/>
          </a:xfrm>
        </p:grpSpPr>
        <p:pic>
          <p:nvPicPr>
            <p:cNvPr id="190" name="Picture 800" descr="Lieferant Kopie"/>
            <p:cNvPicPr/>
            <p:nvPr/>
          </p:nvPicPr>
          <p:blipFill>
            <a:blip r:embed="rId2"/>
            <a:stretch/>
          </p:blipFill>
          <p:spPr>
            <a:xfrm>
              <a:off x="1353960" y="979560"/>
              <a:ext cx="1852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04"/>
            <p:cNvSpPr/>
            <p:nvPr/>
          </p:nvSpPr>
          <p:spPr>
            <a:xfrm>
              <a:off x="1449720" y="1900440"/>
              <a:ext cx="114552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Verdana"/>
                </a:rPr>
                <a:t>Liefer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808" descr="20040224-lkw"/>
          <p:cNvPicPr/>
          <p:nvPr/>
        </p:nvPicPr>
        <p:blipFill>
          <a:blip r:embed="rId3"/>
          <a:srcRect l="0" t="13046" r="22131" b="9591"/>
          <a:stretch/>
        </p:blipFill>
        <p:spPr>
          <a:xfrm>
            <a:off x="3630600" y="2981160"/>
            <a:ext cx="22924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2179800" y="4335480"/>
            <a:ext cx="5052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 werden von 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ragen und stellen einen AUFWAND d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711520" y="5102280"/>
            <a:ext cx="417348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00 Ausgangsfrach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3300 (2800...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2733840" y="6081840"/>
            <a:ext cx="416052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10 Paketgebühr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2700 (...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94"/>
          <p:cNvSpPr/>
          <p:nvPr/>
        </p:nvSpPr>
        <p:spPr>
          <a:xfrm>
            <a:off x="2936880" y="2028960"/>
            <a:ext cx="3114720" cy="595080"/>
          </a:xfrm>
          <a:prstGeom prst="rightArrow">
            <a:avLst>
              <a:gd name="adj1" fmla="val 50000"/>
              <a:gd name="adj2" fmla="val 261730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96"/>
          <p:cNvSpPr/>
          <p:nvPr/>
        </p:nvSpPr>
        <p:spPr>
          <a:xfrm>
            <a:off x="3575160" y="1335240"/>
            <a:ext cx="243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port der 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m K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798"/>
          <p:cNvGrpSpPr/>
          <p:nvPr/>
        </p:nvGrpSpPr>
        <p:grpSpPr>
          <a:xfrm>
            <a:off x="782640" y="993600"/>
            <a:ext cx="2244600" cy="1388880"/>
            <a:chOff x="782640" y="993600"/>
            <a:chExt cx="2244600" cy="1388880"/>
          </a:xfrm>
        </p:grpSpPr>
        <p:pic>
          <p:nvPicPr>
            <p:cNvPr id="199" name="Picture 799" descr="lamron"/>
            <p:cNvPicPr/>
            <p:nvPr/>
          </p:nvPicPr>
          <p:blipFill>
            <a:blip r:embed="rId1"/>
            <a:srcRect l="0" t="3686" r="6007" b="10455"/>
            <a:stretch/>
          </p:blipFill>
          <p:spPr>
            <a:xfrm>
              <a:off x="782640" y="993600"/>
              <a:ext cx="22446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800"/>
            <p:cNvSpPr/>
            <p:nvPr/>
          </p:nvSpPr>
          <p:spPr>
            <a:xfrm>
              <a:off x="2347920" y="101412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812"/>
          <p:cNvGrpSpPr/>
          <p:nvPr/>
        </p:nvGrpSpPr>
        <p:grpSpPr>
          <a:xfrm>
            <a:off x="6273720" y="971640"/>
            <a:ext cx="1525320" cy="1801800"/>
            <a:chOff x="6273720" y="971640"/>
            <a:chExt cx="1525320" cy="1801800"/>
          </a:xfrm>
        </p:grpSpPr>
        <p:pic>
          <p:nvPicPr>
            <p:cNvPr id="202" name="Picture 802" descr="rentner-mit-einkaufswagen"/>
            <p:cNvPicPr/>
            <p:nvPr/>
          </p:nvPicPr>
          <p:blipFill>
            <a:blip r:embed="rId2"/>
            <a:stretch/>
          </p:blipFill>
          <p:spPr>
            <a:xfrm>
              <a:off x="6273720" y="971640"/>
              <a:ext cx="1325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803"/>
            <p:cNvSpPr/>
            <p:nvPr/>
          </p:nvSpPr>
          <p:spPr>
            <a:xfrm>
              <a:off x="6923520" y="2405160"/>
              <a:ext cx="87552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Ku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806" descr="Postpaket"/>
          <p:cNvPicPr/>
          <p:nvPr/>
        </p:nvPicPr>
        <p:blipFill>
          <a:blip r:embed="rId3"/>
          <a:stretch/>
        </p:blipFill>
        <p:spPr>
          <a:xfrm rot="20195400">
            <a:off x="103320" y="5758920"/>
            <a:ext cx="1096920" cy="74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08" descr="lkw_7_5_gross"/>
          <p:cNvPicPr/>
          <p:nvPr/>
        </p:nvPicPr>
        <p:blipFill>
          <a:blip r:embed="rId4"/>
          <a:stretch/>
        </p:blipFill>
        <p:spPr>
          <a:xfrm>
            <a:off x="4354560" y="2590920"/>
            <a:ext cx="2566800" cy="1506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10" descr="post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73000" y="6181560"/>
            <a:ext cx="1884600" cy="6130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11"/>
          <p:cNvSpPr/>
          <p:nvPr/>
        </p:nvSpPr>
        <p:spPr>
          <a:xfrm>
            <a:off x="246960" y="1303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Versandko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0" descr="http://www.kochleo.at/assets/images/db_images/db_500_Lok_an_OEBB_281.jpg"/>
          <p:cNvPicPr/>
          <p:nvPr/>
        </p:nvPicPr>
        <p:blipFill>
          <a:blip r:embed="rId7"/>
          <a:stretch/>
        </p:blipFill>
        <p:spPr>
          <a:xfrm>
            <a:off x="3111480" y="2870280"/>
            <a:ext cx="1544760" cy="1158840"/>
          </a:xfrm>
          <a:prstGeom prst="rect">
            <a:avLst/>
          </a:prstGeom>
          <a:ln w="0">
            <a:noFill/>
          </a:ln>
        </p:spPr>
      </p:pic>
      <p:sp>
        <p:nvSpPr>
          <p:cNvPr id="209" name="Textfeld 18"/>
          <p:cNvSpPr/>
          <p:nvPr/>
        </p:nvSpPr>
        <p:spPr>
          <a:xfrm>
            <a:off x="7074360" y="62485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Postpaket: keine U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48480" y="1268280"/>
            <a:ext cx="1607040" cy="57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ba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073160" y="1925640"/>
            <a:ext cx="2546280" cy="12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ofort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Rab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6394320" y="1933560"/>
            <a:ext cx="2575080" cy="12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achträgli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ab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3770280" y="3270240"/>
            <a:ext cx="2390760" cy="1292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are w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ill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1711440" y="3260880"/>
            <a:ext cx="1292040" cy="93168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1253160" y="4255920"/>
            <a:ext cx="221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auf der 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1700280" y="4683240"/>
            <a:ext cx="1292040" cy="93168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217440" y="5694480"/>
            <a:ext cx="42465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Verbuchung des vermind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(korrigierten) Betr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eine gesonderte Buch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5"/>
          <p:cNvSpPr/>
          <p:nvPr/>
        </p:nvSpPr>
        <p:spPr>
          <a:xfrm>
            <a:off x="7010280" y="3263760"/>
            <a:ext cx="1292400" cy="93204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6226920" y="4219560"/>
            <a:ext cx="285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Gutschrift wird ko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7010280" y="4687920"/>
            <a:ext cx="1292400" cy="93168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6038640" y="5678640"/>
            <a:ext cx="359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1. Verbuchung der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2. Verbuchung der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Gutsch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240120" y="1303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abatte und Preisnachlä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6"/>
          <p:cNvGraphicFramePr/>
          <p:nvPr/>
        </p:nvGraphicFramePr>
        <p:xfrm>
          <a:off x="3760920" y="1650960"/>
          <a:ext cx="209376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0920" y="1650960"/>
                    <a:ext cx="209376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7"/>
          <p:cNvSpPr/>
          <p:nvPr/>
        </p:nvSpPr>
        <p:spPr>
          <a:xfrm>
            <a:off x="4064760" y="2136600"/>
            <a:ext cx="1574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0099"/>
                </a:solidFill>
                <a:latin typeface="Arial"/>
              </a:rPr>
              <a:t>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t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000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-10%_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   400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to  </a:t>
            </a:r>
            <a:r>
              <a:rPr b="0" lang="de-DE" sz="1800" spc="-1" strike="noStrike">
                <a:solidFill>
                  <a:srgbClr val="990099"/>
                </a:solidFill>
                <a:latin typeface="Arial"/>
              </a:rPr>
              <a:t>3.600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+20%    </a:t>
            </a:r>
            <a:r>
              <a:rPr b="0" lang="de-DE" sz="1800" spc="-1" strike="noStrike" u="sng">
                <a:solidFill>
                  <a:srgbClr val="990099"/>
                </a:solidFill>
                <a:uFillTx/>
                <a:latin typeface="Arial"/>
              </a:rPr>
              <a:t>720</a:t>
            </a:r>
            <a:r>
              <a:rPr b="0" lang="de-DE" sz="1800" spc="-1" strike="noStrike">
                <a:solidFill>
                  <a:srgbClr val="990099"/>
                </a:solidFill>
                <a:latin typeface="Arial"/>
              </a:rPr>
              <a:t>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tto    </a:t>
            </a:r>
            <a:r>
              <a:rPr b="0" lang="de-DE" sz="1800" spc="-1" strike="noStrike">
                <a:solidFill>
                  <a:srgbClr val="990099"/>
                </a:solidFill>
                <a:latin typeface="Arial"/>
              </a:rPr>
              <a:t>4.320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4137120" y="4122720"/>
            <a:ext cx="135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5230800" y="4710240"/>
            <a:ext cx="431964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6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720,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3300 (2800...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4.32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398520" y="4710240"/>
            <a:ext cx="4143240" cy="106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99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00 (2800...)     4.32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4000 HW-Erlöse  3.60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720,-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835200" y="6294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704880" y="6256440"/>
            <a:ext cx="8477280" cy="51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fortrabatte sind daher kein Buchungs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2184480" y="584352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wird sofort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minder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trag verbuc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2"/>
          <p:cNvSpPr/>
          <p:nvPr/>
        </p:nvSpPr>
        <p:spPr>
          <a:xfrm>
            <a:off x="2765520" y="112716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4"/>
          <p:cNvSpPr/>
          <p:nvPr/>
        </p:nvSpPr>
        <p:spPr>
          <a:xfrm>
            <a:off x="4556160" y="121752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6" descr="Lieferant Kopie"/>
          <p:cNvPicPr/>
          <p:nvPr/>
        </p:nvPicPr>
        <p:blipFill>
          <a:blip r:embed="rId3"/>
          <a:stretch/>
        </p:blipFill>
        <p:spPr>
          <a:xfrm>
            <a:off x="185760" y="1233360"/>
            <a:ext cx="2671920" cy="20052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47"/>
          <p:cNvGrpSpPr/>
          <p:nvPr/>
        </p:nvGrpSpPr>
        <p:grpSpPr>
          <a:xfrm>
            <a:off x="6014880" y="1247760"/>
            <a:ext cx="3236760" cy="2003040"/>
            <a:chOff x="6014880" y="1247760"/>
            <a:chExt cx="3236760" cy="2003040"/>
          </a:xfrm>
        </p:grpSpPr>
        <p:pic>
          <p:nvPicPr>
            <p:cNvPr id="236" name="Picture 48" descr="lamron"/>
            <p:cNvPicPr/>
            <p:nvPr/>
          </p:nvPicPr>
          <p:blipFill>
            <a:blip r:embed="rId4"/>
            <a:srcRect l="0" t="3686" r="6007" b="10455"/>
            <a:stretch/>
          </p:blipFill>
          <p:spPr>
            <a:xfrm>
              <a:off x="6014880" y="1247760"/>
              <a:ext cx="3236760" cy="20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49"/>
            <p:cNvSpPr/>
            <p:nvPr/>
          </p:nvSpPr>
          <p:spPr>
            <a:xfrm>
              <a:off x="8407800" y="127728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50"/>
          <p:cNvSpPr/>
          <p:nvPr/>
        </p:nvSpPr>
        <p:spPr>
          <a:xfrm>
            <a:off x="262080" y="2751120"/>
            <a:ext cx="174456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3"/>
          <p:cNvSpPr/>
          <p:nvPr/>
        </p:nvSpPr>
        <p:spPr>
          <a:xfrm>
            <a:off x="235800" y="1303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fort gewährter Rab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Object 7"/>
          <p:cNvGraphicFramePr/>
          <p:nvPr/>
        </p:nvGraphicFramePr>
        <p:xfrm>
          <a:off x="3665520" y="1879560"/>
          <a:ext cx="2093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5520" y="1879560"/>
                    <a:ext cx="2093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8"/>
          <p:cNvSpPr/>
          <p:nvPr/>
        </p:nvSpPr>
        <p:spPr>
          <a:xfrm>
            <a:off x="3969720" y="2365200"/>
            <a:ext cx="16268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688"/>
                </a:solidFill>
                <a:uFillTx/>
                <a:latin typeface="Arial"/>
              </a:rPr>
              <a:t>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to  4.0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+20%    8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tto    4.8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9"/>
          <p:cNvGraphicFramePr/>
          <p:nvPr/>
        </p:nvGraphicFramePr>
        <p:xfrm>
          <a:off x="3794040" y="4592520"/>
          <a:ext cx="2094120" cy="22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4040" y="4592520"/>
                    <a:ext cx="209412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10"/>
          <p:cNvSpPr/>
          <p:nvPr/>
        </p:nvSpPr>
        <p:spPr>
          <a:xfrm>
            <a:off x="4189320" y="4923000"/>
            <a:ext cx="1609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cc0099"/>
                </a:solidFill>
                <a:uFillTx/>
                <a:latin typeface="Arial"/>
              </a:rPr>
              <a:t>Gutschr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to    4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+20%     8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tto       48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5915160" y="3100320"/>
            <a:ext cx="384156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.0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8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3300 (2800...)        4.80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77760" y="3100320"/>
            <a:ext cx="358308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99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00 Lieferford.        4.80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4000 HW-Erlöse  4.00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80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420120" y="2689200"/>
            <a:ext cx="304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66"/>
                </a:solidFill>
                <a:latin typeface="Arial"/>
              </a:rPr>
              <a:t>Verbuchung Verkau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6329880" y="2676600"/>
            <a:ext cx="301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Verbuchung Einkau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77760" y="5076720"/>
            <a:ext cx="358308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99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40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lösberichtigung      4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8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000 Lieferford.               48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5935680" y="5067360"/>
            <a:ext cx="384156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300 Lieferverb.                 48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5010  HW-Einsatz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40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8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437760" y="4653000"/>
            <a:ext cx="289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66"/>
                </a:solidFill>
                <a:latin typeface="Arial"/>
              </a:rPr>
              <a:t>Verbuchung Raba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6425640" y="4640400"/>
            <a:ext cx="289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Verbuchung Raba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4"/>
          <p:cNvSpPr/>
          <p:nvPr/>
        </p:nvSpPr>
        <p:spPr>
          <a:xfrm>
            <a:off x="169920" y="4381560"/>
            <a:ext cx="9586800" cy="10620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8"/>
          <p:cNvSpPr/>
          <p:nvPr/>
        </p:nvSpPr>
        <p:spPr>
          <a:xfrm>
            <a:off x="2765520" y="112716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9"/>
          <p:cNvSpPr/>
          <p:nvPr/>
        </p:nvSpPr>
        <p:spPr>
          <a:xfrm>
            <a:off x="4556160" y="121752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0" descr="Lieferant Kopie"/>
          <p:cNvPicPr/>
          <p:nvPr/>
        </p:nvPicPr>
        <p:blipFill>
          <a:blip r:embed="rId5"/>
          <a:stretch/>
        </p:blipFill>
        <p:spPr>
          <a:xfrm>
            <a:off x="617400" y="1233360"/>
            <a:ext cx="185292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41"/>
          <p:cNvGrpSpPr/>
          <p:nvPr/>
        </p:nvGrpSpPr>
        <p:grpSpPr>
          <a:xfrm>
            <a:off x="6014880" y="1247760"/>
            <a:ext cx="2244960" cy="1388880"/>
            <a:chOff x="6014880" y="1247760"/>
            <a:chExt cx="2244960" cy="1388880"/>
          </a:xfrm>
        </p:grpSpPr>
        <p:pic>
          <p:nvPicPr>
            <p:cNvPr id="259" name="Picture 42" descr="lamron"/>
            <p:cNvPicPr/>
            <p:nvPr/>
          </p:nvPicPr>
          <p:blipFill>
            <a:blip r:embed="rId6"/>
            <a:srcRect l="0" t="3686" r="6007" b="10455"/>
            <a:stretch/>
          </p:blipFill>
          <p:spPr>
            <a:xfrm>
              <a:off x="6014880" y="1247760"/>
              <a:ext cx="2244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43"/>
            <p:cNvSpPr/>
            <p:nvPr/>
          </p:nvSpPr>
          <p:spPr>
            <a:xfrm>
              <a:off x="7580520" y="126828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44"/>
          <p:cNvSpPr/>
          <p:nvPr/>
        </p:nvSpPr>
        <p:spPr>
          <a:xfrm>
            <a:off x="303840" y="130320"/>
            <a:ext cx="47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achträglich gewährter Rabatt - Überb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Object 2"/>
          <p:cNvGraphicFramePr/>
          <p:nvPr/>
        </p:nvGraphicFramePr>
        <p:xfrm>
          <a:off x="3687840" y="2751120"/>
          <a:ext cx="2093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7840" y="2751120"/>
                    <a:ext cx="2093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3"/>
          <p:cNvSpPr/>
          <p:nvPr/>
        </p:nvSpPr>
        <p:spPr>
          <a:xfrm>
            <a:off x="3992400" y="2998800"/>
            <a:ext cx="1625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688"/>
                </a:solidFill>
                <a:uFillTx/>
                <a:latin typeface="Arial"/>
              </a:rPr>
              <a:t>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to  8.0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+20% 1.6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tto    9.6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3794040" y="4592520"/>
          <a:ext cx="2094120" cy="22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4040" y="4592520"/>
                    <a:ext cx="209412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5"/>
          <p:cNvSpPr/>
          <p:nvPr/>
        </p:nvSpPr>
        <p:spPr>
          <a:xfrm>
            <a:off x="4140000" y="4923000"/>
            <a:ext cx="15627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cc0099"/>
                </a:solidFill>
                <a:uFillTx/>
                <a:latin typeface="Arial"/>
              </a:rPr>
              <a:t>Gutschr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to    8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+20%   16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tto      96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5883120" y="3260880"/>
            <a:ext cx="389268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99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00 Lieferford.                 9.6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4000 HW-Erlöse             8.00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1.60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883120" y="5280120"/>
            <a:ext cx="389268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99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40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lösberichtigung    8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000 Lieferford.                960,--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6"/>
          <p:cNvSpPr/>
          <p:nvPr/>
        </p:nvSpPr>
        <p:spPr>
          <a:xfrm>
            <a:off x="304920" y="2989440"/>
            <a:ext cx="264816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buc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kau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97"/>
          <p:cNvSpPr/>
          <p:nvPr/>
        </p:nvSpPr>
        <p:spPr>
          <a:xfrm>
            <a:off x="291960" y="5072040"/>
            <a:ext cx="264816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buc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Rab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00"/>
          <p:cNvSpPr/>
          <p:nvPr/>
        </p:nvSpPr>
        <p:spPr>
          <a:xfrm>
            <a:off x="4118040" y="204156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01"/>
          <p:cNvSpPr/>
          <p:nvPr/>
        </p:nvSpPr>
        <p:spPr>
          <a:xfrm>
            <a:off x="4595760" y="175428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02"/>
          <p:cNvGrpSpPr/>
          <p:nvPr/>
        </p:nvGrpSpPr>
        <p:grpSpPr>
          <a:xfrm>
            <a:off x="1963800" y="1006560"/>
            <a:ext cx="2244600" cy="1388880"/>
            <a:chOff x="1963800" y="1006560"/>
            <a:chExt cx="2244600" cy="1388880"/>
          </a:xfrm>
        </p:grpSpPr>
        <p:pic>
          <p:nvPicPr>
            <p:cNvPr id="275" name="Picture 403" descr="lamron"/>
            <p:cNvPicPr/>
            <p:nvPr/>
          </p:nvPicPr>
          <p:blipFill>
            <a:blip r:embed="rId5"/>
            <a:srcRect l="0" t="3686" r="6007" b="10455"/>
            <a:stretch/>
          </p:blipFill>
          <p:spPr>
            <a:xfrm>
              <a:off x="1963800" y="1006560"/>
              <a:ext cx="22446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404"/>
            <p:cNvSpPr/>
            <p:nvPr/>
          </p:nvSpPr>
          <p:spPr>
            <a:xfrm>
              <a:off x="3529080" y="102708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405" descr="rentner-mit-einkaufswagen"/>
          <p:cNvPicPr/>
          <p:nvPr/>
        </p:nvPicPr>
        <p:blipFill>
          <a:blip r:embed="rId6"/>
          <a:stretch/>
        </p:blipFill>
        <p:spPr>
          <a:xfrm>
            <a:off x="5892840" y="996840"/>
            <a:ext cx="1325520" cy="1676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06"/>
          <p:cNvSpPr/>
          <p:nvPr/>
        </p:nvSpPr>
        <p:spPr>
          <a:xfrm>
            <a:off x="6542280" y="2430360"/>
            <a:ext cx="87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07"/>
          <p:cNvSpPr/>
          <p:nvPr/>
        </p:nvSpPr>
        <p:spPr>
          <a:xfrm>
            <a:off x="325080" y="13032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achträglich gewährter Rabat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n K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08"/>
          <p:cNvSpPr/>
          <p:nvPr/>
        </p:nvSpPr>
        <p:spPr>
          <a:xfrm>
            <a:off x="216000" y="4508640"/>
            <a:ext cx="9537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83"/>
          <p:cNvSpPr/>
          <p:nvPr/>
        </p:nvSpPr>
        <p:spPr>
          <a:xfrm>
            <a:off x="761760" y="3362400"/>
            <a:ext cx="304560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Verpackungs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84"/>
          <p:cNvSpPr/>
          <p:nvPr/>
        </p:nvSpPr>
        <p:spPr>
          <a:xfrm>
            <a:off x="2292120" y="3956040"/>
            <a:ext cx="278964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Reinigungs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85"/>
          <p:cNvSpPr/>
          <p:nvPr/>
        </p:nvSpPr>
        <p:spPr>
          <a:xfrm>
            <a:off x="4768560" y="3363840"/>
            <a:ext cx="191160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Büro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86"/>
          <p:cNvSpPr/>
          <p:nvPr/>
        </p:nvSpPr>
        <p:spPr>
          <a:xfrm>
            <a:off x="7175880" y="3956040"/>
            <a:ext cx="187668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Heiz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87"/>
          <p:cNvSpPr/>
          <p:nvPr/>
        </p:nvSpPr>
        <p:spPr>
          <a:xfrm>
            <a:off x="2031840" y="5708520"/>
            <a:ext cx="2881440" cy="91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9966"/>
            </a:solidFill>
            <a:miter/>
          </a:ln>
          <a:effectLst>
            <a:outerShdw dist="107932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7600 Büro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2500 Vorste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an 2800 (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88"/>
          <p:cNvSpPr/>
          <p:nvPr/>
        </p:nvSpPr>
        <p:spPr>
          <a:xfrm>
            <a:off x="733320" y="4923000"/>
            <a:ext cx="8326440" cy="5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Arial"/>
              </a:rPr>
              <a:t>Erfassung auf Aufwandsko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9"/>
          <p:cNvSpPr/>
          <p:nvPr/>
        </p:nvSpPr>
        <p:spPr>
          <a:xfrm>
            <a:off x="731520" y="5716440"/>
            <a:ext cx="114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Beispiel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892"/>
          <p:cNvSpPr/>
          <p:nvPr/>
        </p:nvSpPr>
        <p:spPr>
          <a:xfrm>
            <a:off x="1096920" y="3997440"/>
            <a:ext cx="907920" cy="8823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93"/>
          <p:cNvSpPr/>
          <p:nvPr/>
        </p:nvSpPr>
        <p:spPr>
          <a:xfrm>
            <a:off x="3246480" y="4444920"/>
            <a:ext cx="907920" cy="4302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94"/>
          <p:cNvSpPr/>
          <p:nvPr/>
        </p:nvSpPr>
        <p:spPr>
          <a:xfrm>
            <a:off x="5711760" y="3997440"/>
            <a:ext cx="908280" cy="89352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95"/>
          <p:cNvSpPr/>
          <p:nvPr/>
        </p:nvSpPr>
        <p:spPr>
          <a:xfrm>
            <a:off x="7643880" y="4454640"/>
            <a:ext cx="907920" cy="4302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97"/>
          <p:cNvSpPr/>
          <p:nvPr/>
        </p:nvSpPr>
        <p:spPr>
          <a:xfrm>
            <a:off x="5943600" y="5578560"/>
            <a:ext cx="39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Weitere Kon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5340 Verpackungsmaterial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5450 Reinigungsmaterial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5600 Heizöl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99" descr="p74z040"/>
          <p:cNvPicPr/>
          <p:nvPr/>
        </p:nvPicPr>
        <p:blipFill>
          <a:blip r:embed="rId1"/>
          <a:stretch/>
        </p:blipFill>
        <p:spPr>
          <a:xfrm>
            <a:off x="4699080" y="1063800"/>
            <a:ext cx="2381040" cy="1809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01" descr="44547"/>
          <p:cNvPicPr/>
          <p:nvPr/>
        </p:nvPicPr>
        <p:blipFill>
          <a:blip r:embed="rId2"/>
          <a:stretch/>
        </p:blipFill>
        <p:spPr>
          <a:xfrm>
            <a:off x="7318440" y="870120"/>
            <a:ext cx="2562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03" descr="00097462"/>
          <p:cNvPicPr/>
          <p:nvPr/>
        </p:nvPicPr>
        <p:blipFill>
          <a:blip r:embed="rId3"/>
          <a:stretch/>
        </p:blipFill>
        <p:spPr>
          <a:xfrm>
            <a:off x="0" y="955800"/>
            <a:ext cx="2857680" cy="2381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05" descr="foooolije"/>
          <p:cNvPicPr/>
          <p:nvPr/>
        </p:nvPicPr>
        <p:blipFill>
          <a:blip r:embed="rId4"/>
          <a:stretch/>
        </p:blipFill>
        <p:spPr>
          <a:xfrm>
            <a:off x="2859120" y="1219320"/>
            <a:ext cx="1542960" cy="1879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07" descr="gross"/>
          <p:cNvPicPr/>
          <p:nvPr/>
        </p:nvPicPr>
        <p:blipFill>
          <a:blip r:embed="rId5"/>
          <a:stretch/>
        </p:blipFill>
        <p:spPr>
          <a:xfrm>
            <a:off x="1533600" y="1935000"/>
            <a:ext cx="1657440" cy="1362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08"/>
          <p:cNvSpPr/>
          <p:nvPr/>
        </p:nvSpPr>
        <p:spPr>
          <a:xfrm>
            <a:off x="789120" y="777960"/>
            <a:ext cx="57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eispiele: Büro-, Verpackungs-, Reinigungs- &amp; Heiz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08"/>
          <p:cNvSpPr/>
          <p:nvPr/>
        </p:nvSpPr>
        <p:spPr>
          <a:xfrm>
            <a:off x="314640" y="142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sonstigem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1552680" y="941400"/>
            <a:ext cx="577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Anpassung des Vorratskonto am 31.12. - 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 rot="19800000">
            <a:off x="8629920" y="1107720"/>
            <a:ext cx="105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66"/>
                </a:solidFill>
                <a:latin typeface="Arial"/>
              </a:rPr>
              <a:t>Fal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 rot="19800000">
            <a:off x="299520" y="1209600"/>
            <a:ext cx="104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66"/>
                </a:solidFill>
                <a:latin typeface="Arial"/>
              </a:rPr>
              <a:t>Fal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99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466560" y="5261040"/>
            <a:ext cx="429120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9966"/>
            </a:solidFill>
            <a:miter/>
          </a:ln>
          <a:effectLst>
            <a:outerShdw dist="107932" dir="2700000" blurRad="0" rotWithShape="0">
              <a:srgbClr val="33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rat Heizöl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Heizölverbrauch 1.5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5484960" y="5261040"/>
            <a:ext cx="418932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9966"/>
            </a:solidFill>
            <a:miter/>
          </a:ln>
          <a:effectLst>
            <a:outerShdw dist="107932" dir="2700000" blurRad="0" rotWithShape="0">
              <a:srgbClr val="33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izölverbrauch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Vorrat Heizöl  5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3003480" y="4584600"/>
            <a:ext cx="974880" cy="52092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7851600" y="4610160"/>
            <a:ext cx="974880" cy="52056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9"/>
          <p:cNvSpPr/>
          <p:nvPr/>
        </p:nvSpPr>
        <p:spPr>
          <a:xfrm>
            <a:off x="744480" y="2700360"/>
            <a:ext cx="405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0"/>
          <p:cNvSpPr/>
          <p:nvPr/>
        </p:nvSpPr>
        <p:spPr>
          <a:xfrm>
            <a:off x="3862440" y="2700360"/>
            <a:ext cx="0" cy="19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1"/>
          <p:cNvSpPr/>
          <p:nvPr/>
        </p:nvSpPr>
        <p:spPr>
          <a:xfrm>
            <a:off x="2900520" y="2700360"/>
            <a:ext cx="0" cy="19098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3006720" y="2401920"/>
            <a:ext cx="48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3930840" y="240192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634320" y="229392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rat Heizö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568440" y="2728800"/>
            <a:ext cx="33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1.1.     EBK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    6.5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31.12. 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eizölverbrauch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1.5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1218960" y="1459080"/>
            <a:ext cx="30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ndbestand: € 8.0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(Endbestand &gt; Anfangsbest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5659560" y="2865600"/>
            <a:ext cx="405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8"/>
          <p:cNvSpPr/>
          <p:nvPr/>
        </p:nvSpPr>
        <p:spPr>
          <a:xfrm>
            <a:off x="8777160" y="2865600"/>
            <a:ext cx="0" cy="19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9"/>
          <p:cNvSpPr/>
          <p:nvPr/>
        </p:nvSpPr>
        <p:spPr>
          <a:xfrm>
            <a:off x="7815240" y="2865600"/>
            <a:ext cx="0" cy="1909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0"/>
          <p:cNvSpPr/>
          <p:nvPr/>
        </p:nvSpPr>
        <p:spPr>
          <a:xfrm>
            <a:off x="7921800" y="2567160"/>
            <a:ext cx="48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1"/>
          <p:cNvSpPr/>
          <p:nvPr/>
        </p:nvSpPr>
        <p:spPr>
          <a:xfrm>
            <a:off x="8845920" y="256716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2"/>
          <p:cNvSpPr/>
          <p:nvPr/>
        </p:nvSpPr>
        <p:spPr>
          <a:xfrm>
            <a:off x="5549400" y="245916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rat Heizö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5492880" y="2894040"/>
            <a:ext cx="41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1.1.     EBK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    6.5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31.12. 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Heizölverbrauch               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5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4"/>
          <p:cNvSpPr/>
          <p:nvPr/>
        </p:nvSpPr>
        <p:spPr>
          <a:xfrm>
            <a:off x="6171840" y="1474920"/>
            <a:ext cx="30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ndbestand: € 6.0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(Endbestand &lt; Anfangsbest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259920" y="5815080"/>
            <a:ext cx="94618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ährend des Jahres bleibt das jeweilige Vorratskonto unberührt! Die Buchungen erfol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uf entsprechenden Aufwandskonten. Am Jahresende wird das Vorratskonto auf den ne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nventurbestand „angepass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08"/>
          <p:cNvSpPr/>
          <p:nvPr/>
        </p:nvSpPr>
        <p:spPr>
          <a:xfrm>
            <a:off x="314640" y="14292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sonstigem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7T13:56:40Z</dcterms:created>
  <dc:creator>Mag. Helmut Bauer</dc:creator>
  <dc:description/>
  <cp:keywords/>
  <dc:language>en-US</dc:language>
  <cp:lastModifiedBy>hbauer</cp:lastModifiedBy>
  <cp:lastPrinted>1999-10-28T13:48:22Z</cp:lastPrinted>
  <dcterms:modified xsi:type="dcterms:W3CDTF">2010-01-15T08:05:22Z</dcterms:modified>
  <cp:revision>116</cp:revision>
  <dc:subject/>
  <dc:title>Kein Folientitel</dc:title>
</cp:coreProperties>
</file>