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TVSERIE.WAV" ContentType="audio/x-wav"/>
  <Override PartName="/ppt/media/image10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1680" y="9000"/>
            <a:ext cx="296208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866760" y="9000"/>
            <a:ext cx="296244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-31680" y="9453600"/>
            <a:ext cx="29620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386676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6A2FE5EB-02CF-41F3-8CE9-6CACDB55A528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Img"/>
          </p:nvPr>
        </p:nvSpPr>
        <p:spPr>
          <a:xfrm>
            <a:off x="887040" y="863640"/>
            <a:ext cx="502596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70356546-65DB-4112-A003-4135E74CA833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7400" y="863640"/>
            <a:ext cx="502596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191DC8E4-28F8-4584-AE3D-3AE09BAB6E80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42920" y="973080"/>
            <a:ext cx="4711680" cy="3264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EC70B76E-9C8E-43AB-8765-33E0607511C7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42920" y="973080"/>
            <a:ext cx="4711680" cy="3264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5BB5199D-2E9F-4706-858E-0C704E9661F7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42920" y="973080"/>
            <a:ext cx="4711680" cy="3264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EFFC776E-E9E8-462A-8C2B-C6A6718A11DA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42920" y="973080"/>
            <a:ext cx="4711680" cy="3264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48C80F14-04A0-44C9-9323-DE53A9150F94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7400" y="863640"/>
            <a:ext cx="502596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 der Tafel unbedingt das Konto 200 darstellen. Forderung im Soll - Abbuchung der Zahlung, verbleibender Rest wird durch Skontoverbuchung ausgegli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8A291813-CE90-42C9-A86B-8F76F45A93BD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7400" y="863640"/>
            <a:ext cx="502596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251540DC-BBEC-4BF9-8B7F-1DE821D4BF6D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7400" y="863640"/>
            <a:ext cx="502596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867120" y="9453600"/>
            <a:ext cx="296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5E5D0247-6AF7-42DD-9EEC-4354643D5FF9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7400" y="863640"/>
            <a:ext cx="502596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1FE-E46C-456E-9F5B-67108F35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596-59A1-484B-B314-B1E9ED1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2DA-CAA7-44F5-8641-5A992FD1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F98-47B2-4786-81D0-83502AC0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3272-3590-4010-8F87-8B9EE61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CCD-AD42-4787-9681-76C21C90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C113-63D2-4861-BC76-EDCBDE78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20B1-39A1-4B02-AD3E-B3B4C47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A5A-DDDA-4D3A-A6AD-0D96396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DA1F-20B9-47D3-B1BB-B685EBF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4AF-2E10-4B39-8A9B-4BE02B9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47A-E87A-4DD6-97D5-294EB85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734-1B4C-4106-84DE-A160EA9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32CC-20AA-482B-99A8-578B1CE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DF8-F1CD-4BC8-B2FF-9D2DBA4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968E-1570-4B9A-B55A-91B21E33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6B5-F603-42C4-A9E2-2090CDBE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4CB-F464-4052-8D3D-1DCF92F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E7E-CE5E-4AF0-A4A0-04D0DD4F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2FA-13C6-47F6-8223-F1C687B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7EA-C636-4261-85DC-AD7BFCE9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582-0355-4F68-9395-898353E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46A-0021-41BA-9CD3-DB0F265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421-D869-4D6B-AE67-51DE637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072-B23A-4BF8-B8B0-13C1F9E7D5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26360" y="6605640"/>
            <a:ext cx="2579760" cy="2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Folie </a:t>
            </a:r>
            <a:fld id="{E814353E-6279-448D-B510-F4E68B21A512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10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7326360" y="6605640"/>
            <a:ext cx="2579760" cy="2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Folie </a:t>
            </a:r>
            <a:fld id="{1AC48CD2-463E-454B-A731-3B0E7B1F02D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0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ck 12"/>
          <p:cNvSpPr/>
          <p:nvPr/>
        </p:nvSpPr>
        <p:spPr>
          <a:xfrm>
            <a:off x="0" y="0"/>
            <a:ext cx="9906120" cy="14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 10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F53-7832-405D-96AE-99811FCC71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26"/>
              </a:spcBef>
              <a:buClr>
                <a:srgbClr val="ff00ff"/>
              </a:buClr>
              <a:buSzPct val="75000"/>
              <a:buFont typeface="Arial"/>
              <a:buChar char="n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55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5520" indent="-209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12760">
              <a:spcBef>
                <a:spcPts val="451"/>
              </a:spcBef>
              <a:buClr>
                <a:srgbClr val="ff00ff"/>
              </a:buClr>
              <a:buSzPct val="65000"/>
              <a:buFont typeface="Arial"/>
              <a:buChar char="n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01880" indent="-212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01880" indent="-212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01880" indent="-212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326360" y="6605640"/>
            <a:ext cx="2579760" cy="2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Folie </a:t>
            </a:r>
            <a:fld id="{BB692A62-1972-433D-AABE-BA9D1F0D25D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381640" y="44280"/>
            <a:ext cx="4417920" cy="56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© bauer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9"/>
          <p:cNvGraphicFramePr/>
          <p:nvPr/>
        </p:nvGraphicFramePr>
        <p:xfrm>
          <a:off x="9455040" y="111240"/>
          <a:ext cx="257400" cy="2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55040" y="111240"/>
                    <a:ext cx="2574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0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ck 12"/>
          <p:cNvSpPr/>
          <p:nvPr/>
        </p:nvSpPr>
        <p:spPr>
          <a:xfrm>
            <a:off x="0" y="0"/>
            <a:ext cx="990612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8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101" name="Rechteck 15"/>
          <p:cNvSpPr/>
          <p:nvPr/>
        </p:nvSpPr>
        <p:spPr>
          <a:xfrm>
            <a:off x="7327800" y="6515280"/>
            <a:ext cx="257832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dt" idx="7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TVSERIE.WAV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2.png"/><Relationship Id="rId12" Type="http://schemas.openxmlformats.org/officeDocument/2006/relationships/audio" Target="../media/TVSERIE.WAV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audio" Target="../media/TVSERI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audio" Target="../media/TVSERIE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audio" Target="../media/TVSERI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260640" y="13320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des Rechnungsausgle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6"/>
          <p:cNvGraphicFramePr/>
          <p:nvPr/>
        </p:nvGraphicFramePr>
        <p:xfrm>
          <a:off x="4038480" y="547560"/>
          <a:ext cx="209412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47560"/>
                    <a:ext cx="20941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7"/>
          <p:cNvSpPr/>
          <p:nvPr/>
        </p:nvSpPr>
        <p:spPr>
          <a:xfrm>
            <a:off x="4322160" y="1065240"/>
            <a:ext cx="16268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to  4.0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+20%    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to    4.800,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5560" y="1717560"/>
            <a:ext cx="408924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0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.. Lieferantenkt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240" y="1192320"/>
            <a:ext cx="246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66"/>
                </a:solidFill>
                <a:latin typeface="Arial"/>
              </a:rPr>
              <a:t>Wir kauf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432680" y="286236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Zah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7000" y="3573360"/>
            <a:ext cx="43178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.. Lieferantenkont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2800 Bank...)  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6202440" y="1725480"/>
            <a:ext cx="3583080" cy="106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 Kundenkont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4000 HW-Erlöse    4.000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800,--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524360" y="1219320"/>
            <a:ext cx="238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Wir verkau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935680" y="3579840"/>
            <a:ext cx="38498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00 Kassa (2800 Bank...)  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 Kundenkonto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8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720" y="3051000"/>
            <a:ext cx="416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66"/>
                </a:solidFill>
                <a:latin typeface="Arial"/>
              </a:rPr>
              <a:t>Wir zahlen die 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167960" y="3157560"/>
            <a:ext cx="2737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er Kunde za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photo-money-17"/>
          <p:cNvPicPr/>
          <p:nvPr/>
        </p:nvPicPr>
        <p:blipFill>
          <a:blip r:embed="rId3"/>
          <a:srcRect l="0" t="0" r="28704" b="0"/>
          <a:stretch/>
        </p:blipFill>
        <p:spPr>
          <a:xfrm>
            <a:off x="4549680" y="3305160"/>
            <a:ext cx="1104840" cy="1162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2"/>
          <p:cNvSpPr/>
          <p:nvPr/>
        </p:nvSpPr>
        <p:spPr>
          <a:xfrm>
            <a:off x="3095280" y="4475160"/>
            <a:ext cx="414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Zahlung zu spät: Mahn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0" y="4894200"/>
            <a:ext cx="43178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301 Mahnspesen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…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5908680" y="4900680"/>
            <a:ext cx="38498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4890 Mahnspesenv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50040" y="4371840"/>
            <a:ext cx="22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66"/>
                </a:solidFill>
                <a:latin typeface="Arial"/>
              </a:rPr>
              <a:t>Mahnsp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7680960" y="4503600"/>
            <a:ext cx="222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Mahnsp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38160" y="6012000"/>
            <a:ext cx="43178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99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300 Verzugszinsenaufwand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…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946840" y="6018120"/>
            <a:ext cx="384948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8130 Verzugszinsener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48960" y="5527800"/>
            <a:ext cx="25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66"/>
                </a:solidFill>
                <a:latin typeface="Arial"/>
              </a:rPr>
              <a:t>Verzugszi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7410240" y="5621400"/>
            <a:ext cx="25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Verzugszi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50760" y="2857680"/>
            <a:ext cx="974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TVSERI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913200" y="9748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447920" y="2583000"/>
            <a:ext cx="523800" cy="2095200"/>
          </a:xfrm>
          <a:prstGeom prst="upArrow">
            <a:avLst>
              <a:gd name="adj1" fmla="val 50000"/>
              <a:gd name="adj2" fmla="val 199981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2341440" y="2604960"/>
            <a:ext cx="525600" cy="2095560"/>
          </a:xfrm>
          <a:prstGeom prst="downArrow">
            <a:avLst>
              <a:gd name="adj1" fmla="val 50000"/>
              <a:gd name="adj2" fmla="val 199367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2970360" y="3711600"/>
          <a:ext cx="7207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360" y="3711600"/>
                    <a:ext cx="720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 rot="16200000">
            <a:off x="740520" y="352980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6"/>
          <p:cNvSpPr/>
          <p:nvPr/>
        </p:nvSpPr>
        <p:spPr>
          <a:xfrm>
            <a:off x="4100400" y="1185840"/>
            <a:ext cx="1667160" cy="595440"/>
          </a:xfrm>
          <a:prstGeom prst="rightArrow">
            <a:avLst>
              <a:gd name="adj1" fmla="val 50000"/>
              <a:gd name="adj2" fmla="val 140006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87"/>
          <p:cNvSpPr/>
          <p:nvPr/>
        </p:nvSpPr>
        <p:spPr>
          <a:xfrm>
            <a:off x="3987720" y="1996920"/>
            <a:ext cx="1666800" cy="595440"/>
          </a:xfrm>
          <a:prstGeom prst="leftArrow">
            <a:avLst>
              <a:gd name="adj1" fmla="val 50000"/>
              <a:gd name="adj2" fmla="val 139951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52"/>
          <p:cNvSpPr/>
          <p:nvPr/>
        </p:nvSpPr>
        <p:spPr>
          <a:xfrm>
            <a:off x="5145120" y="3116160"/>
            <a:ext cx="36576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91 Forderungen V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4000 HW-Erlö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53"/>
          <p:cNvSpPr/>
          <p:nvPr/>
        </p:nvSpPr>
        <p:spPr>
          <a:xfrm>
            <a:off x="3413160" y="4708440"/>
            <a:ext cx="3649680" cy="106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800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79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vision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2791 Forderungen V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855"/>
          <p:cNvSpPr/>
          <p:nvPr/>
        </p:nvSpPr>
        <p:spPr>
          <a:xfrm>
            <a:off x="1868400" y="2665440"/>
            <a:ext cx="534960" cy="534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863" descr="mastercard"/>
          <p:cNvPicPr/>
          <p:nvPr/>
        </p:nvPicPr>
        <p:blipFill>
          <a:blip r:embed="rId3"/>
          <a:stretch/>
        </p:blipFill>
        <p:spPr>
          <a:xfrm>
            <a:off x="8385120" y="1550880"/>
            <a:ext cx="145728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1864"/>
          <p:cNvGraphicFramePr/>
          <p:nvPr/>
        </p:nvGraphicFramePr>
        <p:xfrm>
          <a:off x="8099280" y="755640"/>
          <a:ext cx="1462320" cy="98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Object 18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99280" y="755640"/>
                    <a:ext cx="14623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867"/>
          <p:cNvSpPr/>
          <p:nvPr/>
        </p:nvSpPr>
        <p:spPr>
          <a:xfrm>
            <a:off x="2933640" y="3390840"/>
            <a:ext cx="80028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69"/>
          <p:cNvGrpSpPr/>
          <p:nvPr/>
        </p:nvGrpSpPr>
        <p:grpSpPr>
          <a:xfrm>
            <a:off x="752400" y="1133640"/>
            <a:ext cx="2244960" cy="1388880"/>
            <a:chOff x="752400" y="1133640"/>
            <a:chExt cx="2244960" cy="1388880"/>
          </a:xfrm>
        </p:grpSpPr>
        <p:pic>
          <p:nvPicPr>
            <p:cNvPr id="187" name="Picture 1870" descr="lamron"/>
            <p:cNvPicPr/>
            <p:nvPr/>
          </p:nvPicPr>
          <p:blipFill>
            <a:blip r:embed="rId6"/>
            <a:srcRect l="0" t="3686" r="6007" b="10455"/>
            <a:stretch/>
          </p:blipFill>
          <p:spPr>
            <a:xfrm>
              <a:off x="752400" y="113364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871"/>
            <p:cNvSpPr/>
            <p:nvPr/>
          </p:nvSpPr>
          <p:spPr>
            <a:xfrm>
              <a:off x="2318040" y="115416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875"/>
          <p:cNvGrpSpPr/>
          <p:nvPr/>
        </p:nvGrpSpPr>
        <p:grpSpPr>
          <a:xfrm>
            <a:off x="6756480" y="819000"/>
            <a:ext cx="1525320" cy="1801800"/>
            <a:chOff x="6756480" y="819000"/>
            <a:chExt cx="1525320" cy="1801800"/>
          </a:xfrm>
        </p:grpSpPr>
        <p:pic>
          <p:nvPicPr>
            <p:cNvPr id="190" name="Picture 1876" descr="rentner-mit-einkaufswagen"/>
            <p:cNvPicPr/>
            <p:nvPr/>
          </p:nvPicPr>
          <p:blipFill>
            <a:blip r:embed="rId7"/>
            <a:stretch/>
          </p:blipFill>
          <p:spPr>
            <a:xfrm>
              <a:off x="6756480" y="819000"/>
              <a:ext cx="1325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877"/>
            <p:cNvSpPr/>
            <p:nvPr/>
          </p:nvSpPr>
          <p:spPr>
            <a:xfrm>
              <a:off x="7406280" y="2252520"/>
              <a:ext cx="87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879" descr="WMF_Visa_Karte"/>
          <p:cNvPicPr/>
          <p:nvPr/>
        </p:nvPicPr>
        <p:blipFill>
          <a:blip r:embed="rId8"/>
          <a:stretch/>
        </p:blipFill>
        <p:spPr>
          <a:xfrm>
            <a:off x="4971960" y="1952640"/>
            <a:ext cx="1763640" cy="121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81" descr="building_photo"/>
          <p:cNvPicPr/>
          <p:nvPr/>
        </p:nvPicPr>
        <p:blipFill>
          <a:blip r:embed="rId9"/>
          <a:stretch/>
        </p:blipFill>
        <p:spPr>
          <a:xfrm>
            <a:off x="1349280" y="4476600"/>
            <a:ext cx="2013120" cy="20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883" descr="visa_france_300dpi"/>
          <p:cNvPicPr/>
          <p:nvPr/>
        </p:nvPicPr>
        <p:blipFill>
          <a:blip r:embed="rId10"/>
          <a:srcRect l="0" t="0" r="0" b="30011"/>
          <a:stretch/>
        </p:blipFill>
        <p:spPr>
          <a:xfrm>
            <a:off x="2244600" y="4784760"/>
            <a:ext cx="72072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301680" y="1206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äufe mit Kredit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8" descr="bauerpoint.gif"/>
          <p:cNvPicPr/>
          <p:nvPr/>
        </p:nvPicPr>
        <p:blipFill>
          <a:blip r:embed="rId1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868"/>
          <p:cNvSpPr/>
          <p:nvPr/>
        </p:nvSpPr>
        <p:spPr>
          <a:xfrm>
            <a:off x="851040" y="6283440"/>
            <a:ext cx="829296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tonummer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27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derungen Mastercard | 2791 Forderungen VISA |  Forderungen Diners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2" name="TVSERI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4167360" y="10000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4468680" y="1300320"/>
            <a:ext cx="1667160" cy="595080"/>
          </a:xfrm>
          <a:prstGeom prst="rightArrow">
            <a:avLst>
              <a:gd name="adj1" fmla="val 50000"/>
              <a:gd name="adj2" fmla="val 140091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911760" y="1895400"/>
            <a:ext cx="1666800" cy="595440"/>
          </a:xfrm>
          <a:prstGeom prst="leftArrow">
            <a:avLst>
              <a:gd name="adj1" fmla="val 50000"/>
              <a:gd name="adj2" fmla="val 139951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567160" y="3535200"/>
            <a:ext cx="61452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8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bindlichkeiten Kreditkarten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2575080" y="5000760"/>
            <a:ext cx="616248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8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bindlichkeit Kreditkarten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2800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6670800" y="1336680"/>
            <a:ext cx="2244600" cy="1388880"/>
            <a:chOff x="6670800" y="1336680"/>
            <a:chExt cx="2244600" cy="1388880"/>
          </a:xfrm>
        </p:grpSpPr>
        <p:pic>
          <p:nvPicPr>
            <p:cNvPr id="205" name="Picture 21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6670800" y="133668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2"/>
            <p:cNvSpPr/>
            <p:nvPr/>
          </p:nvSpPr>
          <p:spPr>
            <a:xfrm>
              <a:off x="8236080" y="135720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6" descr="WMF_Visa_Karte"/>
          <p:cNvPicPr/>
          <p:nvPr/>
        </p:nvPicPr>
        <p:blipFill>
          <a:blip r:embed="rId2"/>
          <a:stretch/>
        </p:blipFill>
        <p:spPr>
          <a:xfrm>
            <a:off x="4692600" y="2028960"/>
            <a:ext cx="1763640" cy="1212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2"/>
          <p:cNvSpPr/>
          <p:nvPr/>
        </p:nvSpPr>
        <p:spPr>
          <a:xfrm>
            <a:off x="279000" y="3745080"/>
            <a:ext cx="119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kau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53440" y="1206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käufe mit Kredit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33" descr="Lieferant Kopie"/>
          <p:cNvPicPr/>
          <p:nvPr/>
        </p:nvPicPr>
        <p:blipFill>
          <a:blip r:embed="rId3"/>
          <a:stretch/>
        </p:blipFill>
        <p:spPr>
          <a:xfrm>
            <a:off x="1887480" y="1335240"/>
            <a:ext cx="1852560" cy="13903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37"/>
          <p:cNvSpPr/>
          <p:nvPr/>
        </p:nvSpPr>
        <p:spPr>
          <a:xfrm>
            <a:off x="1983240" y="225576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8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TVSERI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286560" y="15228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äufe mit Bankomat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862" descr=""/>
          <p:cNvPicPr/>
          <p:nvPr/>
        </p:nvPicPr>
        <p:blipFill>
          <a:blip r:embed="rId1"/>
          <a:stretch/>
        </p:blipFill>
        <p:spPr>
          <a:xfrm>
            <a:off x="6521400" y="906480"/>
            <a:ext cx="2824200" cy="31050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608"/>
          <p:cNvSpPr/>
          <p:nvPr/>
        </p:nvSpPr>
        <p:spPr>
          <a:xfrm>
            <a:off x="2911320" y="2747880"/>
            <a:ext cx="1667160" cy="595440"/>
          </a:xfrm>
          <a:prstGeom prst="rightArrow">
            <a:avLst>
              <a:gd name="adj1" fmla="val 50000"/>
              <a:gd name="adj2" fmla="val 140006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616"/>
          <p:cNvSpPr/>
          <p:nvPr/>
        </p:nvSpPr>
        <p:spPr>
          <a:xfrm>
            <a:off x="790560" y="3619440"/>
            <a:ext cx="55357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94 (2795) Forderungen Bankomatkarten (Qui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4000 HW-Erlö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617" descr=""/>
          <p:cNvPicPr/>
          <p:nvPr/>
        </p:nvPicPr>
        <p:blipFill>
          <a:blip r:embed="rId2"/>
          <a:srcRect l="0" t="0" r="85349" b="0"/>
          <a:stretch/>
        </p:blipFill>
        <p:spPr>
          <a:xfrm>
            <a:off x="3384720" y="1933560"/>
            <a:ext cx="704520" cy="736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618"/>
          <p:cNvSpPr/>
          <p:nvPr/>
        </p:nvSpPr>
        <p:spPr>
          <a:xfrm>
            <a:off x="790560" y="4794120"/>
            <a:ext cx="55213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94 (2795) Ford. Bankomatkarten (Qui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19"/>
          <p:cNvSpPr/>
          <p:nvPr/>
        </p:nvSpPr>
        <p:spPr>
          <a:xfrm>
            <a:off x="790560" y="5670720"/>
            <a:ext cx="55339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79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visionen Kredit- Bankomat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800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621"/>
          <p:cNvGrpSpPr/>
          <p:nvPr/>
        </p:nvGrpSpPr>
        <p:grpSpPr>
          <a:xfrm>
            <a:off x="396720" y="1857240"/>
            <a:ext cx="2244960" cy="1388880"/>
            <a:chOff x="396720" y="1857240"/>
            <a:chExt cx="2244960" cy="1388880"/>
          </a:xfrm>
        </p:grpSpPr>
        <p:pic>
          <p:nvPicPr>
            <p:cNvPr id="222" name="Picture 2622" descr="lamron"/>
            <p:cNvPicPr/>
            <p:nvPr/>
          </p:nvPicPr>
          <p:blipFill>
            <a:blip r:embed="rId3"/>
            <a:srcRect l="0" t="3686" r="6007" b="10455"/>
            <a:stretch/>
          </p:blipFill>
          <p:spPr>
            <a:xfrm>
              <a:off x="396720" y="185724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623"/>
            <p:cNvSpPr/>
            <p:nvPr/>
          </p:nvSpPr>
          <p:spPr>
            <a:xfrm>
              <a:off x="1962360" y="187776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629"/>
          <p:cNvGrpSpPr/>
          <p:nvPr/>
        </p:nvGrpSpPr>
        <p:grpSpPr>
          <a:xfrm>
            <a:off x="4711680" y="1644480"/>
            <a:ext cx="1525320" cy="1801800"/>
            <a:chOff x="4711680" y="1644480"/>
            <a:chExt cx="1525320" cy="1801800"/>
          </a:xfrm>
        </p:grpSpPr>
        <p:pic>
          <p:nvPicPr>
            <p:cNvPr id="225" name="Picture 2630" descr="rentner-mit-einkaufswagen"/>
            <p:cNvPicPr/>
            <p:nvPr/>
          </p:nvPicPr>
          <p:blipFill>
            <a:blip r:embed="rId4"/>
            <a:stretch/>
          </p:blipFill>
          <p:spPr>
            <a:xfrm>
              <a:off x="4711680" y="1644480"/>
              <a:ext cx="1325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2631"/>
            <p:cNvSpPr/>
            <p:nvPr/>
          </p:nvSpPr>
          <p:spPr>
            <a:xfrm>
              <a:off x="5361480" y="3078000"/>
              <a:ext cx="87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Grafik 8" descr="bauerpoint.gif"/>
          <p:cNvPicPr/>
          <p:nvPr/>
        </p:nvPicPr>
        <p:blipFill>
          <a:blip r:embed="rId5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16"/>
          <p:cNvSpPr/>
          <p:nvPr/>
        </p:nvSpPr>
        <p:spPr>
          <a:xfrm>
            <a:off x="6833160" y="59436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onatliche Gebü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6" name="TVSERI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9" descr="http://www.paylife.at/web/export/download/Downloads/MaestroKarte_medium.jpg"/>
          <p:cNvPicPr/>
          <p:nvPr/>
        </p:nvPicPr>
        <p:blipFill>
          <a:blip r:embed="rId1"/>
          <a:stretch/>
        </p:blipFill>
        <p:spPr>
          <a:xfrm>
            <a:off x="4737240" y="2278080"/>
            <a:ext cx="1778040" cy="1423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4167360" y="10000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4468680" y="1300320"/>
            <a:ext cx="1667160" cy="595080"/>
          </a:xfrm>
          <a:prstGeom prst="rightArrow">
            <a:avLst>
              <a:gd name="adj1" fmla="val 50000"/>
              <a:gd name="adj2" fmla="val 140091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911760" y="1895400"/>
            <a:ext cx="1666800" cy="595440"/>
          </a:xfrm>
          <a:prstGeom prst="leftArrow">
            <a:avLst>
              <a:gd name="adj1" fmla="val 50000"/>
              <a:gd name="adj2" fmla="val 139951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2567160" y="3535200"/>
            <a:ext cx="61452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9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bindlichkeiten Bankomat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575080" y="5000760"/>
            <a:ext cx="616248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19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bindlichkeit  Bankomatkarten    an   2800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6670800" y="1336680"/>
            <a:ext cx="2244600" cy="1388880"/>
            <a:chOff x="6670800" y="1336680"/>
            <a:chExt cx="2244600" cy="1388880"/>
          </a:xfrm>
        </p:grpSpPr>
        <p:pic>
          <p:nvPicPr>
            <p:cNvPr id="237" name="Picture 21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6670800" y="133668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22"/>
            <p:cNvSpPr/>
            <p:nvPr/>
          </p:nvSpPr>
          <p:spPr>
            <a:xfrm>
              <a:off x="8236080" y="135720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32"/>
          <p:cNvSpPr/>
          <p:nvPr/>
        </p:nvSpPr>
        <p:spPr>
          <a:xfrm>
            <a:off x="279000" y="3745080"/>
            <a:ext cx="119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kau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62800" y="12060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käufe mit Bankomat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33" descr="Lieferant Kopie"/>
          <p:cNvPicPr/>
          <p:nvPr/>
        </p:nvPicPr>
        <p:blipFill>
          <a:blip r:embed="rId3"/>
          <a:stretch/>
        </p:blipFill>
        <p:spPr>
          <a:xfrm>
            <a:off x="1887480" y="1335240"/>
            <a:ext cx="1852560" cy="1390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37"/>
          <p:cNvSpPr/>
          <p:nvPr/>
        </p:nvSpPr>
        <p:spPr>
          <a:xfrm>
            <a:off x="1983240" y="225576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Grafik 8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TVSERI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hteck 30"/>
          <p:cNvSpPr/>
          <p:nvPr/>
        </p:nvSpPr>
        <p:spPr>
          <a:xfrm>
            <a:off x="0" y="5359320"/>
            <a:ext cx="4280040" cy="14986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8116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Kundensk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7"/>
          <p:cNvSpPr/>
          <p:nvPr/>
        </p:nvSpPr>
        <p:spPr>
          <a:xfrm>
            <a:off x="182520" y="1273320"/>
            <a:ext cx="36594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.. Liefer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4000 HW-Erlö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78"/>
          <p:cNvSpPr/>
          <p:nvPr/>
        </p:nvSpPr>
        <p:spPr>
          <a:xfrm>
            <a:off x="0" y="708120"/>
            <a:ext cx="4021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Ausgangssit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Liefer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87"/>
          <p:cNvSpPr/>
          <p:nvPr/>
        </p:nvSpPr>
        <p:spPr>
          <a:xfrm>
            <a:off x="6516720" y="91116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88"/>
          <p:cNvSpPr/>
          <p:nvPr/>
        </p:nvSpPr>
        <p:spPr>
          <a:xfrm>
            <a:off x="6703920" y="1122480"/>
            <a:ext cx="1666800" cy="595080"/>
          </a:xfrm>
          <a:prstGeom prst="rightArrow">
            <a:avLst>
              <a:gd name="adj1" fmla="val 50000"/>
              <a:gd name="adj2" fmla="val 140061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89"/>
          <p:cNvGrpSpPr/>
          <p:nvPr/>
        </p:nvGrpSpPr>
        <p:grpSpPr>
          <a:xfrm>
            <a:off x="4143240" y="930240"/>
            <a:ext cx="2244960" cy="1388880"/>
            <a:chOff x="4143240" y="930240"/>
            <a:chExt cx="2244960" cy="1388880"/>
          </a:xfrm>
        </p:grpSpPr>
        <p:pic>
          <p:nvPicPr>
            <p:cNvPr id="252" name="Picture 390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4143240" y="93024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391"/>
            <p:cNvSpPr/>
            <p:nvPr/>
          </p:nvSpPr>
          <p:spPr>
            <a:xfrm>
              <a:off x="5708880" y="95076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92"/>
          <p:cNvGrpSpPr/>
          <p:nvPr/>
        </p:nvGrpSpPr>
        <p:grpSpPr>
          <a:xfrm>
            <a:off x="8229600" y="666720"/>
            <a:ext cx="1525320" cy="1801800"/>
            <a:chOff x="8229600" y="666720"/>
            <a:chExt cx="1525320" cy="1801800"/>
          </a:xfrm>
        </p:grpSpPr>
        <p:pic>
          <p:nvPicPr>
            <p:cNvPr id="255" name="Picture 393" descr="rentner-mit-einkaufswagen"/>
            <p:cNvPicPr/>
            <p:nvPr/>
          </p:nvPicPr>
          <p:blipFill>
            <a:blip r:embed="rId2"/>
            <a:stretch/>
          </p:blipFill>
          <p:spPr>
            <a:xfrm>
              <a:off x="8229600" y="666720"/>
              <a:ext cx="1325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94"/>
            <p:cNvSpPr/>
            <p:nvPr/>
          </p:nvSpPr>
          <p:spPr>
            <a:xfrm>
              <a:off x="8879400" y="2100240"/>
              <a:ext cx="87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afik 8" descr="bauerpoint.gif"/>
          <p:cNvPicPr/>
          <p:nvPr/>
        </p:nvPicPr>
        <p:blipFill>
          <a:blip r:embed="rId3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79"/>
          <p:cNvSpPr/>
          <p:nvPr/>
        </p:nvSpPr>
        <p:spPr>
          <a:xfrm>
            <a:off x="3537000" y="3416400"/>
            <a:ext cx="365904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00 (2800)    an   20..  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80"/>
          <p:cNvSpPr/>
          <p:nvPr/>
        </p:nvSpPr>
        <p:spPr>
          <a:xfrm>
            <a:off x="3535200" y="4025880"/>
            <a:ext cx="366264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410 Kundens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 20..  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81"/>
          <p:cNvSpPr/>
          <p:nvPr/>
        </p:nvSpPr>
        <p:spPr>
          <a:xfrm>
            <a:off x="3603600" y="2841480"/>
            <a:ext cx="3605400" cy="51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Netto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2"/>
          <p:cNvSpPr/>
          <p:nvPr/>
        </p:nvSpPr>
        <p:spPr>
          <a:xfrm flipH="1">
            <a:off x="3808440" y="2200320"/>
            <a:ext cx="1627200" cy="63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3"/>
          <p:cNvSpPr/>
          <p:nvPr/>
        </p:nvSpPr>
        <p:spPr>
          <a:xfrm>
            <a:off x="5435640" y="2200320"/>
            <a:ext cx="1662120" cy="609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84"/>
          <p:cNvSpPr/>
          <p:nvPr/>
        </p:nvSpPr>
        <p:spPr>
          <a:xfrm>
            <a:off x="5335560" y="2112840"/>
            <a:ext cx="198360" cy="198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85"/>
          <p:cNvSpPr/>
          <p:nvPr/>
        </p:nvSpPr>
        <p:spPr>
          <a:xfrm>
            <a:off x="7361280" y="3324240"/>
            <a:ext cx="2506680" cy="598320"/>
          </a:xfrm>
          <a:prstGeom prst="leftArrow">
            <a:avLst>
              <a:gd name="adj1" fmla="val 75009"/>
              <a:gd name="adj2" fmla="val 20945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Z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86"/>
          <p:cNvSpPr/>
          <p:nvPr/>
        </p:nvSpPr>
        <p:spPr>
          <a:xfrm>
            <a:off x="7354800" y="4125960"/>
            <a:ext cx="2506680" cy="598320"/>
          </a:xfrm>
          <a:prstGeom prst="leftArrow">
            <a:avLst>
              <a:gd name="adj1" fmla="val 75009"/>
              <a:gd name="adj2" fmla="val 20945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k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12760" y="5619600"/>
            <a:ext cx="38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3073320" y="561960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26360" y="5346720"/>
            <a:ext cx="188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..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2036880" y="5326200"/>
            <a:ext cx="18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6"/>
          <p:cNvSpPr/>
          <p:nvPr/>
        </p:nvSpPr>
        <p:spPr>
          <a:xfrm>
            <a:off x="2063880" y="5632560"/>
            <a:ext cx="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212040" y="5665680"/>
            <a:ext cx="3836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000 HW-Erlöse         2.0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270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ssa                                  192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410 Kundenskonti                          8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000,--      2.0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8"/>
          <p:cNvSpPr/>
          <p:nvPr/>
        </p:nvSpPr>
        <p:spPr>
          <a:xfrm>
            <a:off x="2082960" y="6421320"/>
            <a:ext cx="19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9"/>
          <p:cNvSpPr/>
          <p:nvPr/>
        </p:nvSpPr>
        <p:spPr>
          <a:xfrm>
            <a:off x="2082960" y="6691320"/>
            <a:ext cx="193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feld 31"/>
          <p:cNvSpPr/>
          <p:nvPr/>
        </p:nvSpPr>
        <p:spPr>
          <a:xfrm>
            <a:off x="7560" y="50418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0"/>
          <p:cNvGrpSpPr/>
          <p:nvPr/>
        </p:nvGrpSpPr>
        <p:grpSpPr>
          <a:xfrm>
            <a:off x="3784680" y="866880"/>
            <a:ext cx="2244600" cy="1388880"/>
            <a:chOff x="3784680" y="866880"/>
            <a:chExt cx="2244600" cy="1388880"/>
          </a:xfrm>
        </p:grpSpPr>
        <p:pic>
          <p:nvPicPr>
            <p:cNvPr id="276" name="Picture 31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3784680" y="86688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32"/>
            <p:cNvSpPr/>
            <p:nvPr/>
          </p:nvSpPr>
          <p:spPr>
            <a:xfrm>
              <a:off x="5349960" y="88740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3"/>
          <p:cNvSpPr/>
          <p:nvPr/>
        </p:nvSpPr>
        <p:spPr>
          <a:xfrm>
            <a:off x="6264360" y="1382760"/>
            <a:ext cx="35179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33.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73600" y="13320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Lieferantensk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6921720" y="617400"/>
            <a:ext cx="216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99"/>
                </a:solidFill>
                <a:latin typeface="Arial"/>
              </a:rPr>
              <a:t>Ausgangssi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99"/>
                </a:solidFill>
                <a:latin typeface="Arial"/>
              </a:rPr>
              <a:t>Lieferverbindlich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3164040" y="3365640"/>
            <a:ext cx="35179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.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2700 (28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3173400" y="4154400"/>
            <a:ext cx="35179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.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5880 Lieferantensko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4821120" y="2075040"/>
            <a:ext cx="198720" cy="198360"/>
          </a:xfrm>
          <a:prstGeom prst="ellipse">
            <a:avLst/>
          </a:prstGeom>
          <a:solidFill>
            <a:srgbClr val="cc0099"/>
          </a:solidFill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5"/>
          <p:cNvSpPr/>
          <p:nvPr/>
        </p:nvSpPr>
        <p:spPr>
          <a:xfrm>
            <a:off x="372960" y="3343320"/>
            <a:ext cx="2506680" cy="598320"/>
          </a:xfrm>
          <a:prstGeom prst="rightArrow">
            <a:avLst>
              <a:gd name="adj1" fmla="val 75009"/>
              <a:gd name="adj2" fmla="val 209496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Z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6"/>
          <p:cNvSpPr/>
          <p:nvPr/>
        </p:nvSpPr>
        <p:spPr>
          <a:xfrm>
            <a:off x="372960" y="4202280"/>
            <a:ext cx="2506680" cy="598320"/>
          </a:xfrm>
          <a:prstGeom prst="rightArrow">
            <a:avLst>
              <a:gd name="adj1" fmla="val 75009"/>
              <a:gd name="adj2" fmla="val 209496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k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7"/>
          <p:cNvSpPr/>
          <p:nvPr/>
        </p:nvSpPr>
        <p:spPr>
          <a:xfrm>
            <a:off x="1881360" y="1901880"/>
            <a:ext cx="1666800" cy="595080"/>
          </a:xfrm>
          <a:prstGeom prst="rightArrow">
            <a:avLst>
              <a:gd name="adj1" fmla="val 50000"/>
              <a:gd name="adj2" fmla="val 140061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2325600" y="161136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9" descr="Lieferant Kopie"/>
          <p:cNvPicPr/>
          <p:nvPr/>
        </p:nvPicPr>
        <p:blipFill>
          <a:blip r:embed="rId2"/>
          <a:stretch/>
        </p:blipFill>
        <p:spPr>
          <a:xfrm>
            <a:off x="114480" y="826920"/>
            <a:ext cx="1852560" cy="13906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3"/>
          <p:cNvSpPr/>
          <p:nvPr/>
        </p:nvSpPr>
        <p:spPr>
          <a:xfrm>
            <a:off x="146520" y="174780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3222720" y="2803680"/>
            <a:ext cx="3413160" cy="519120"/>
          </a:xfrm>
          <a:prstGeom prst="rect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etto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H="1">
            <a:off x="3294000" y="2162160"/>
            <a:ext cx="1627200" cy="63180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>
            <a:off x="4921200" y="2162160"/>
            <a:ext cx="1662120" cy="6094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19"/>
          <p:cNvSpPr/>
          <p:nvPr/>
        </p:nvSpPr>
        <p:spPr>
          <a:xfrm>
            <a:off x="0" y="5359320"/>
            <a:ext cx="4280040" cy="14986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12760" y="5619600"/>
            <a:ext cx="38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3073320" y="561960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29240" y="5346720"/>
            <a:ext cx="222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3..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2036880" y="5326200"/>
            <a:ext cx="18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2063880" y="5632560"/>
            <a:ext cx="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22840" y="5665680"/>
            <a:ext cx="38167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                           6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270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ssa                   588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880 Lieferantensk.         12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0,--       600,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>
            <a:off x="2082960" y="6421320"/>
            <a:ext cx="19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9"/>
          <p:cNvSpPr/>
          <p:nvPr/>
        </p:nvSpPr>
        <p:spPr>
          <a:xfrm>
            <a:off x="2082960" y="6691320"/>
            <a:ext cx="193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feld 28"/>
          <p:cNvSpPr/>
          <p:nvPr/>
        </p:nvSpPr>
        <p:spPr>
          <a:xfrm>
            <a:off x="7560" y="50418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2698920" y="4478400"/>
            <a:ext cx="421164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700 (2800)     an      20.  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700360" y="5075280"/>
            <a:ext cx="42116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410 Kundens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 20.   Kund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700360" y="5931000"/>
            <a:ext cx="42116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 4410  Kundens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924280" y="3730680"/>
            <a:ext cx="3625920" cy="51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rutto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 flipH="1">
            <a:off x="2957400" y="3089160"/>
            <a:ext cx="1627200" cy="63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680000" y="3089160"/>
            <a:ext cx="1752480" cy="635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4581360" y="3002040"/>
            <a:ext cx="198720" cy="198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7242120" y="4435560"/>
            <a:ext cx="2506680" cy="598320"/>
          </a:xfrm>
          <a:prstGeom prst="leftArrow">
            <a:avLst>
              <a:gd name="adj1" fmla="val 75009"/>
              <a:gd name="adj2" fmla="val 20945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Z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7242120" y="5176800"/>
            <a:ext cx="2506680" cy="598680"/>
          </a:xfrm>
          <a:prstGeom prst="leftArrow">
            <a:avLst>
              <a:gd name="adj1" fmla="val 75009"/>
              <a:gd name="adj2" fmla="val 209331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k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7242120" y="5942160"/>
            <a:ext cx="2506680" cy="598320"/>
          </a:xfrm>
          <a:prstGeom prst="leftArrow">
            <a:avLst>
              <a:gd name="adj1" fmla="val 75009"/>
              <a:gd name="adj2" fmla="val 20945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onatsen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228960" y="152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Kunden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87"/>
          <p:cNvSpPr/>
          <p:nvPr/>
        </p:nvSpPr>
        <p:spPr>
          <a:xfrm>
            <a:off x="131760" y="1654200"/>
            <a:ext cx="365904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0 Liefer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4000 HW-Erlö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500 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88"/>
          <p:cNvSpPr/>
          <p:nvPr/>
        </p:nvSpPr>
        <p:spPr>
          <a:xfrm>
            <a:off x="0" y="974880"/>
            <a:ext cx="4021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usgangssitu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For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89"/>
          <p:cNvSpPr/>
          <p:nvPr/>
        </p:nvSpPr>
        <p:spPr>
          <a:xfrm>
            <a:off x="6465960" y="129240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90"/>
          <p:cNvSpPr/>
          <p:nvPr/>
        </p:nvSpPr>
        <p:spPr>
          <a:xfrm>
            <a:off x="6653160" y="150336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391"/>
          <p:cNvGrpSpPr/>
          <p:nvPr/>
        </p:nvGrpSpPr>
        <p:grpSpPr>
          <a:xfrm>
            <a:off x="4092480" y="1311120"/>
            <a:ext cx="2244960" cy="1388880"/>
            <a:chOff x="4092480" y="1311120"/>
            <a:chExt cx="2244960" cy="1388880"/>
          </a:xfrm>
        </p:grpSpPr>
        <p:pic>
          <p:nvPicPr>
            <p:cNvPr id="319" name="Picture 392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4092480" y="131112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93"/>
            <p:cNvSpPr/>
            <p:nvPr/>
          </p:nvSpPr>
          <p:spPr>
            <a:xfrm>
              <a:off x="5658120" y="133164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94"/>
          <p:cNvGrpSpPr/>
          <p:nvPr/>
        </p:nvGrpSpPr>
        <p:grpSpPr>
          <a:xfrm>
            <a:off x="8178840" y="1047600"/>
            <a:ext cx="1525320" cy="1801800"/>
            <a:chOff x="8178840" y="1047600"/>
            <a:chExt cx="1525320" cy="1801800"/>
          </a:xfrm>
        </p:grpSpPr>
        <p:pic>
          <p:nvPicPr>
            <p:cNvPr id="322" name="Picture 395" descr="rentner-mit-einkaufswagen"/>
            <p:cNvPicPr/>
            <p:nvPr/>
          </p:nvPicPr>
          <p:blipFill>
            <a:blip r:embed="rId2"/>
            <a:stretch/>
          </p:blipFill>
          <p:spPr>
            <a:xfrm>
              <a:off x="8178840" y="1047600"/>
              <a:ext cx="1325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396"/>
            <p:cNvSpPr/>
            <p:nvPr/>
          </p:nvSpPr>
          <p:spPr>
            <a:xfrm>
              <a:off x="8828640" y="2481120"/>
              <a:ext cx="87552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u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754440" y="4421160"/>
            <a:ext cx="35179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270 (2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741840" y="5264280"/>
            <a:ext cx="35179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588 Lieferantensko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728880" y="6114960"/>
            <a:ext cx="35197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88 Lieferantensko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25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792600" y="3730680"/>
            <a:ext cx="3504960" cy="519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Brutto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 flipH="1">
            <a:off x="3768840" y="3089160"/>
            <a:ext cx="1627200" cy="63180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5491080" y="3089160"/>
            <a:ext cx="1752840" cy="63504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8"/>
          <p:cNvSpPr/>
          <p:nvPr/>
        </p:nvSpPr>
        <p:spPr>
          <a:xfrm>
            <a:off x="5392800" y="3002040"/>
            <a:ext cx="198360" cy="198360"/>
          </a:xfrm>
          <a:prstGeom prst="ellipse">
            <a:avLst/>
          </a:prstGeom>
          <a:solidFill>
            <a:srgbClr val="cc0099"/>
          </a:solidFill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984240" y="4389480"/>
            <a:ext cx="2506680" cy="598320"/>
          </a:xfrm>
          <a:prstGeom prst="rightArrow">
            <a:avLst>
              <a:gd name="adj1" fmla="val 75009"/>
              <a:gd name="adj2" fmla="val 209496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Z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984240" y="5291280"/>
            <a:ext cx="2506680" cy="598320"/>
          </a:xfrm>
          <a:prstGeom prst="rightArrow">
            <a:avLst>
              <a:gd name="adj1" fmla="val 75009"/>
              <a:gd name="adj2" fmla="val 209496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k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984240" y="6100920"/>
            <a:ext cx="2506680" cy="598320"/>
          </a:xfrm>
          <a:prstGeom prst="rightArrow">
            <a:avLst>
              <a:gd name="adj1" fmla="val 75009"/>
              <a:gd name="adj2" fmla="val 209496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onats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213600" y="1916280"/>
            <a:ext cx="351792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010 HW-Ein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    33.   Lieferantenk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246600" y="14616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Lieferantensk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6870960" y="1150920"/>
            <a:ext cx="216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99"/>
                </a:solidFill>
                <a:latin typeface="Arial"/>
              </a:rPr>
              <a:t>Ausgangssi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cc0099"/>
                </a:solidFill>
                <a:latin typeface="Arial"/>
              </a:rPr>
              <a:t>Lieferverbindlich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9"/>
          <p:cNvSpPr/>
          <p:nvPr/>
        </p:nvSpPr>
        <p:spPr>
          <a:xfrm>
            <a:off x="1952640" y="2448000"/>
            <a:ext cx="1666800" cy="595080"/>
          </a:xfrm>
          <a:prstGeom prst="rightArrow">
            <a:avLst>
              <a:gd name="adj1" fmla="val 50000"/>
              <a:gd name="adj2" fmla="val 140061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2397240" y="21574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1" descr="Lieferant Kopie"/>
          <p:cNvPicPr/>
          <p:nvPr/>
        </p:nvPicPr>
        <p:blipFill>
          <a:blip r:embed="rId1"/>
          <a:stretch/>
        </p:blipFill>
        <p:spPr>
          <a:xfrm>
            <a:off x="122400" y="1373040"/>
            <a:ext cx="18525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32"/>
          <p:cNvGrpSpPr/>
          <p:nvPr/>
        </p:nvGrpSpPr>
        <p:grpSpPr>
          <a:xfrm>
            <a:off x="3855960" y="1413000"/>
            <a:ext cx="2244960" cy="1388880"/>
            <a:chOff x="3855960" y="1413000"/>
            <a:chExt cx="2244960" cy="1388880"/>
          </a:xfrm>
        </p:grpSpPr>
        <p:pic>
          <p:nvPicPr>
            <p:cNvPr id="341" name="Picture 33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3855960" y="141300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4"/>
            <p:cNvSpPr/>
            <p:nvPr/>
          </p:nvSpPr>
          <p:spPr>
            <a:xfrm>
              <a:off x="5421600" y="143352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35"/>
          <p:cNvSpPr/>
          <p:nvPr/>
        </p:nvSpPr>
        <p:spPr>
          <a:xfrm>
            <a:off x="217800" y="229392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7T13:56:40Z</dcterms:created>
  <dc:creator>Mag. Helmut Bauer</dc:creator>
  <dc:description/>
  <cp:keywords/>
  <dc:language>en-US</dc:language>
  <cp:lastModifiedBy>Mag. Helmut Bauer</cp:lastModifiedBy>
  <cp:lastPrinted>1999-10-28T13:48:22Z</cp:lastPrinted>
  <dcterms:modified xsi:type="dcterms:W3CDTF">2010-09-07T12:31:52Z</dcterms:modified>
  <cp:revision>121</cp:revision>
  <dc:subject/>
  <dc:title>Kein Folientitel</dc:title>
</cp:coreProperties>
</file>