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2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bomb.wav" ContentType="audio/x-wav"/>
  <Override PartName="/ppt/media/image28.png" ContentType="image/png"/>
  <Override PartName="/ppt/media/image7.jpeg" ContentType="image/jpeg"/>
  <Override PartName="/ppt/media/image12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13.jpeg" ContentType="image/jpeg"/>
  <Override PartName="/ppt/media/image14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907588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6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5E2E-02D5-4521-915E-6046EE02401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F7EF-CBF8-4988-BF47-4F1862676DB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887400" y="865080"/>
            <a:ext cx="5024520" cy="34797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rläutern, wann was geschieht - heute: 1. BS bei Eintreffen des Bankauszuges zweiter 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unbedingt zeigen, daß beide BS zusammen "Kassa an Bank" bzw. "Bank an Kassa" ergib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E9E2-98C3-4FDB-BB04-4903466030A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887400" y="865080"/>
            <a:ext cx="5024520" cy="3479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inzelne Konten an der Tafel anführe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82F1-08FB-46BF-8DB4-CD55967A0E7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887400" y="865080"/>
            <a:ext cx="5024520" cy="3479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unbedingt an der Tafel die Konten aufzeichnen und ein konkretes Beispiel durchspiel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10AA-B689-4A70-8D6A-9A5AA68EEA3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887400" y="865080"/>
            <a:ext cx="5024520" cy="34797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erst Situation darstellen - UN hat zwei Konten je eines bei Bank A und eines bei Bank B - Geld wird nun transferiert - mit Stift verdeutlichen - zwei Auszüge werden übersandt und entsprechend verbuc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AC34-35CD-44BC-90BE-5CEBDF2C08C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887400" y="865080"/>
            <a:ext cx="5024520" cy="34797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rläutern, wann was geschieht - heute: 1. BS bei Eintreffen des Bankauszuges zweiter 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unbedingt zeigen, daß beide BS zusammen "Kassa an Bank" bzw. "Bank an Kassa" ergib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EC6A-FF00-4660-9455-3D0B9390D9A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887400" y="865080"/>
            <a:ext cx="5024520" cy="34797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rläutern, wann was geschieht - heute: 1. BS bei Eintreffen des Bankauszuges zweiter 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unbedingt zeigen, daß beide BS zusammen "Kassa an Bank" bzw. "Bank an Kassa" ergib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0267-668D-46B6-B7FD-2DFEA46AA68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887400" y="865080"/>
            <a:ext cx="5024520" cy="34797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olie erklären - Unterschied zwischen LKW und PKW - liegt hauptsächlich in der Steuer. Zweite Folie überlegen und Buchungssätze noch einmal besprech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5593-8A5F-4F83-A115-02041760A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03F8-D219-43BD-8F0C-3CD6E203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8B9F-C87B-43AD-9EC9-5D9DE6BC2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CFC5-5B7E-4BC9-BFA7-E5159887C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72C9-8606-47E4-A67A-D3196C183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CE2B-3FB5-490C-8128-7415C4D7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2721-0515-4F9E-AF81-AF0D63A9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22CD-3E31-4B6B-B586-A845F796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A8CB-EE20-4CBC-A7F8-7E095060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FA0D-A417-417A-B7DD-2024FB37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102C4-77B7-4166-980A-3B3DF637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E4E3-5D30-476A-A95E-1F0512CE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A652-41CC-4D9B-A09C-594264E8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C00E-10FC-4DFA-AF34-DBC8B231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CE2B-B393-434D-9F32-7FB9A69B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1955-DF54-47A3-9EDF-2F11EFE3A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77DA-8B60-46F2-9CC2-5C7BEA73F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4F7C-EC10-4C25-BAFC-82B795C9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EF5B-5374-400E-A6A5-F5E18760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178B-2175-4E18-AAD3-7B11D0E4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5D7E-B7C8-433B-AFAA-5C465323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054C-D13D-46BA-9590-AFF93C67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482C-BF7F-48C3-A2AB-21CAAEB8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3027-5E9F-425E-B72F-66485914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BFD0-8383-464F-BABA-6786838D5A6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91"/>
          <p:cNvSpPr/>
          <p:nvPr/>
        </p:nvSpPr>
        <p:spPr>
          <a:xfrm>
            <a:off x="111240" y="85680"/>
            <a:ext cx="9685080" cy="48420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Grafik 8" descr="bauerpoint.gif"/>
          <p:cNvPicPr/>
          <p:nvPr/>
        </p:nvPicPr>
        <p:blipFill>
          <a:blip r:embed="rId2"/>
          <a:stretch/>
        </p:blipFill>
        <p:spPr>
          <a:xfrm>
            <a:off x="8537400" y="109440"/>
            <a:ext cx="1202040" cy="432000"/>
          </a:xfrm>
          <a:prstGeom prst="rect">
            <a:avLst/>
          </a:prstGeom>
          <a:ln w="0">
            <a:noFill/>
          </a:ln>
        </p:spPr>
      </p:pic>
      <p:sp>
        <p:nvSpPr>
          <p:cNvPr id="43" name="Rechteck 8"/>
          <p:cNvSpPr/>
          <p:nvPr/>
        </p:nvSpPr>
        <p:spPr>
          <a:xfrm>
            <a:off x="0" y="0"/>
            <a:ext cx="9906120" cy="1036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347B-B709-4DF0-96ED-B5AC7C4BC73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hyperlink" Target="http://www.euro.ecb.int/de/section/euro0/specific.AT.html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www.euro.ecb.int/de/section/euro0/specific.AT.html" TargetMode="External"/><Relationship Id="rId7" Type="http://schemas.openxmlformats.org/officeDocument/2006/relationships/image" Target="../media/image5.png"/><Relationship Id="rId8" Type="http://schemas.openxmlformats.org/officeDocument/2006/relationships/hyperlink" Target="http://www.euro.ecb.int/de/section/euro0/specific.AT.html" TargetMode="External"/><Relationship Id="rId9" Type="http://schemas.openxmlformats.org/officeDocument/2006/relationships/image" Target="../media/image4.jpeg"/><Relationship Id="rId10" Type="http://schemas.openxmlformats.org/officeDocument/2006/relationships/hyperlink" Target="http://www.euro.ecb.int/de/section/euro0/specific.AT.html" TargetMode="External"/><Relationship Id="rId11" Type="http://schemas.openxmlformats.org/officeDocument/2006/relationships/image" Target="../media/image5.png"/><Relationship Id="rId12" Type="http://schemas.openxmlformats.org/officeDocument/2006/relationships/image" Target="../media/image2.jpeg"/><Relationship Id="rId13" Type="http://schemas.openxmlformats.org/officeDocument/2006/relationships/image" Target="../media/image3.png"/><Relationship Id="rId14" Type="http://schemas.openxmlformats.org/officeDocument/2006/relationships/audio" Target="../media/bomb.wav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hyperlink" Target="http://www.euro.ecb.int/de/section/euro0/specific.AT.html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www.euro.ecb.int/de/section/euro0/specific.AT.html" TargetMode="External"/><Relationship Id="rId7" Type="http://schemas.openxmlformats.org/officeDocument/2006/relationships/image" Target="../media/image5.pn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audio" Target="../media/bomb.wav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.pn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4"/>
          <p:cNvSpPr/>
          <p:nvPr/>
        </p:nvSpPr>
        <p:spPr>
          <a:xfrm>
            <a:off x="3328920" y="2260440"/>
            <a:ext cx="1559160" cy="422280"/>
          </a:xfrm>
          <a:prstGeom prst="rightArrow">
            <a:avLst>
              <a:gd name="adj1" fmla="val 50000"/>
              <a:gd name="adj2" fmla="val 184629"/>
            </a:avLst>
          </a:prstGeom>
          <a:gradFill rotWithShape="0">
            <a:gsLst>
              <a:gs pos="0">
                <a:srgbClr val="ffffff"/>
              </a:gs>
              <a:gs pos="100000">
                <a:srgbClr val="99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3313080" y="1301760"/>
            <a:ext cx="1558800" cy="423720"/>
          </a:xfrm>
          <a:prstGeom prst="rightArrow">
            <a:avLst>
              <a:gd name="adj1" fmla="val 50000"/>
              <a:gd name="adj2" fmla="val 183959"/>
            </a:avLst>
          </a:prstGeom>
          <a:gradFill rotWithShape="0">
            <a:gsLst>
              <a:gs pos="0">
                <a:srgbClr val="ffffff"/>
              </a:gs>
              <a:gs pos="100000">
                <a:srgbClr val="99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2155320" y="1311120"/>
            <a:ext cx="122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bheb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5105520" y="1219320"/>
            <a:ext cx="4626000" cy="64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999933"/>
            </a:solidFill>
            <a:miter/>
          </a:ln>
          <a:effectLst>
            <a:outerShdw dist="38183" dir="2700000" blurRad="0" rotWithShape="0">
              <a:srgbClr val="92d05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700 Kass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 2870 (3170) Barverkehr mit Ban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5130720" y="2243160"/>
            <a:ext cx="4600800" cy="66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999933"/>
            </a:solidFill>
            <a:miter/>
          </a:ln>
          <a:effectLst>
            <a:outerShdw dist="38183" dir="2700000" blurRad="0" rotWithShape="0">
              <a:srgbClr val="92d05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870 (3170) Barverkehr mit Ban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 2800 (3110) Bank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5129280" y="3909960"/>
            <a:ext cx="4587840" cy="64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999933"/>
            </a:solidFill>
            <a:miter/>
          </a:ln>
          <a:effectLst>
            <a:outerShdw dist="38183" dir="2700000" blurRad="0" rotWithShape="0">
              <a:srgbClr val="92d05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870 (3170) Barverkehr mit Ban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 2700 Kas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5165640" y="5100480"/>
            <a:ext cx="4565880" cy="69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999933"/>
            </a:solidFill>
            <a:miter/>
          </a:ln>
          <a:effectLst>
            <a:outerShdw dist="38183" dir="2700000" blurRad="0" rotWithShape="0">
              <a:srgbClr val="92d05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800 (3110) Bank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 2870 (3170) Barverkehr mit Ban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8" descr="sparkasse"/>
          <p:cNvPicPr/>
          <p:nvPr/>
        </p:nvPicPr>
        <p:blipFill>
          <a:blip r:embed="rId1"/>
          <a:srcRect l="0" t="0" r="25087" b="0"/>
          <a:stretch/>
        </p:blipFill>
        <p:spPr>
          <a:xfrm>
            <a:off x="257040" y="1214280"/>
            <a:ext cx="1836720" cy="2132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9"/>
          <p:cNvSpPr/>
          <p:nvPr/>
        </p:nvSpPr>
        <p:spPr>
          <a:xfrm>
            <a:off x="218520" y="120600"/>
            <a:ext cx="35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bhebungen und Einzahl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091"/>
          <p:cNvSpPr/>
          <p:nvPr/>
        </p:nvSpPr>
        <p:spPr>
          <a:xfrm>
            <a:off x="111240" y="85680"/>
            <a:ext cx="9685080" cy="48420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Grafik 8" descr="bauerpoint.gif"/>
          <p:cNvPicPr/>
          <p:nvPr/>
        </p:nvPicPr>
        <p:blipFill>
          <a:blip r:embed="rId2"/>
          <a:stretch/>
        </p:blipFill>
        <p:spPr>
          <a:xfrm>
            <a:off x="8537400" y="109440"/>
            <a:ext cx="1202040" cy="432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2117880" y="2268360"/>
            <a:ext cx="151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ntoauszu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3"/>
          <a:stretch/>
        </p:blipFill>
        <p:spPr>
          <a:xfrm rot="21259800">
            <a:off x="2325600" y="2595240"/>
            <a:ext cx="997200" cy="780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6" descr="Wolfgang Amadeus Mozart - Rückseite der österr. 1-Euro-Münz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338560" y="1623960"/>
            <a:ext cx="539640" cy="539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Wolfgang Amadeus Mozart - Rückseite der österr. 1-Euro-Münz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722680" y="1612800"/>
            <a:ext cx="539640" cy="54000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4"/>
          <p:cNvSpPr/>
          <p:nvPr/>
        </p:nvSpPr>
        <p:spPr>
          <a:xfrm rot="10800000">
            <a:off x="2224080" y="3938400"/>
            <a:ext cx="1558800" cy="422280"/>
          </a:xfrm>
          <a:prstGeom prst="rightArrow">
            <a:avLst>
              <a:gd name="adj1" fmla="val 50000"/>
              <a:gd name="adj2" fmla="val 184586"/>
            </a:avLst>
          </a:prstGeom>
          <a:gradFill rotWithShape="0">
            <a:gsLst>
              <a:gs pos="0">
                <a:srgbClr val="ffffff"/>
              </a:gs>
              <a:gs pos="100000">
                <a:srgbClr val="99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6" descr="Wolfgang Amadeus Mozart - Rückseite der österr. 1-Euro-Münz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805120" y="4329000"/>
            <a:ext cx="539640" cy="540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6" descr="Wolfgang Amadeus Mozart - Rückseite der österr. 1-Euro-Münze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189240" y="4317840"/>
            <a:ext cx="539640" cy="540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8" descr="sparkasse"/>
          <p:cNvPicPr/>
          <p:nvPr/>
        </p:nvPicPr>
        <p:blipFill>
          <a:blip r:embed="rId12"/>
          <a:srcRect l="0" t="0" r="25087" b="0"/>
          <a:stretch/>
        </p:blipFill>
        <p:spPr>
          <a:xfrm>
            <a:off x="285840" y="3878280"/>
            <a:ext cx="1838160" cy="21319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3741840" y="3960720"/>
            <a:ext cx="131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zahl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703680" y="5191200"/>
            <a:ext cx="151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ntoauszu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3"/>
          <a:stretch/>
        </p:blipFill>
        <p:spPr>
          <a:xfrm rot="21259800">
            <a:off x="2655720" y="5641920"/>
            <a:ext cx="995400" cy="77940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4"/>
          <p:cNvSpPr/>
          <p:nvPr/>
        </p:nvSpPr>
        <p:spPr>
          <a:xfrm rot="10800000">
            <a:off x="2211120" y="5168520"/>
            <a:ext cx="1560600" cy="422280"/>
          </a:xfrm>
          <a:prstGeom prst="rightArrow">
            <a:avLst>
              <a:gd name="adj1" fmla="val 50000"/>
              <a:gd name="adj2" fmla="val 184800"/>
            </a:avLst>
          </a:prstGeom>
          <a:gradFill rotWithShape="0">
            <a:gsLst>
              <a:gs pos="0">
                <a:srgbClr val="ffffff"/>
              </a:gs>
              <a:gs pos="100000">
                <a:srgbClr val="99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4" name="bomb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5"/>
          <p:cNvSpPr/>
          <p:nvPr/>
        </p:nvSpPr>
        <p:spPr>
          <a:xfrm>
            <a:off x="4658040" y="1690560"/>
            <a:ext cx="181260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000 od. 6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6"/>
          <p:cNvSpPr/>
          <p:nvPr/>
        </p:nvSpPr>
        <p:spPr>
          <a:xfrm>
            <a:off x="6908760" y="1571760"/>
            <a:ext cx="0" cy="2762280"/>
          </a:xfrm>
          <a:prstGeom prst="line">
            <a:avLst/>
          </a:prstGeom>
          <a:ln w="25560">
            <a:solidFill>
              <a:srgbClr val="ff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7"/>
          <p:cNvSpPr/>
          <p:nvPr/>
        </p:nvSpPr>
        <p:spPr>
          <a:xfrm>
            <a:off x="6950160" y="2025720"/>
            <a:ext cx="2771280" cy="12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600 Vblk. Krankenka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540 Vblk. Finanzam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850 Vblk. Mitarbe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25"/>
          <p:cNvSpPr/>
          <p:nvPr/>
        </p:nvSpPr>
        <p:spPr>
          <a:xfrm>
            <a:off x="5227920" y="1023840"/>
            <a:ext cx="3521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Soll</a:t>
            </a: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99"/>
                </a:solidFill>
                <a:latin typeface="Arial"/>
              </a:rPr>
              <a:t>       Haben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26"/>
          <p:cNvSpPr/>
          <p:nvPr/>
        </p:nvSpPr>
        <p:spPr>
          <a:xfrm>
            <a:off x="3383280" y="4518000"/>
            <a:ext cx="1160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V-D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m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27"/>
          <p:cNvSpPr/>
          <p:nvPr/>
        </p:nvSpPr>
        <p:spPr>
          <a:xfrm>
            <a:off x="4557600" y="4605480"/>
            <a:ext cx="595440" cy="428400"/>
          </a:xfrm>
          <a:prstGeom prst="rightArrow">
            <a:avLst>
              <a:gd name="adj1" fmla="val 50000"/>
              <a:gd name="adj2" fmla="val 69502"/>
            </a:avLst>
          </a:prstGeom>
          <a:gradFill rotWithShape="0">
            <a:gsLst>
              <a:gs pos="0">
                <a:srgbClr val="ffffff"/>
              </a:gs>
              <a:gs pos="100000">
                <a:srgbClr val="ff33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28"/>
          <p:cNvSpPr/>
          <p:nvPr/>
        </p:nvSpPr>
        <p:spPr>
          <a:xfrm>
            <a:off x="4543560" y="5067360"/>
            <a:ext cx="595080" cy="428400"/>
          </a:xfrm>
          <a:prstGeom prst="rightArrow">
            <a:avLst>
              <a:gd name="adj1" fmla="val 50000"/>
              <a:gd name="adj2" fmla="val 69460"/>
            </a:avLst>
          </a:prstGeom>
          <a:gradFill rotWithShape="0">
            <a:gsLst>
              <a:gs pos="0">
                <a:srgbClr val="ffffff"/>
              </a:gs>
              <a:gs pos="100000">
                <a:srgbClr val="ff33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29"/>
          <p:cNvSpPr/>
          <p:nvPr/>
        </p:nvSpPr>
        <p:spPr>
          <a:xfrm>
            <a:off x="4552920" y="5553000"/>
            <a:ext cx="596880" cy="428760"/>
          </a:xfrm>
          <a:prstGeom prst="rightArrow">
            <a:avLst>
              <a:gd name="adj1" fmla="val 50000"/>
              <a:gd name="adj2" fmla="val 69611"/>
            </a:avLst>
          </a:prstGeom>
          <a:gradFill rotWithShape="0">
            <a:gsLst>
              <a:gs pos="0">
                <a:srgbClr val="ffffff"/>
              </a:gs>
              <a:gs pos="100000">
                <a:srgbClr val="ff33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30"/>
          <p:cNvSpPr/>
          <p:nvPr/>
        </p:nvSpPr>
        <p:spPr>
          <a:xfrm>
            <a:off x="4538520" y="6039000"/>
            <a:ext cx="595440" cy="428400"/>
          </a:xfrm>
          <a:prstGeom prst="rightArrow">
            <a:avLst>
              <a:gd name="adj1" fmla="val 50000"/>
              <a:gd name="adj2" fmla="val 69502"/>
            </a:avLst>
          </a:prstGeom>
          <a:gradFill rotWithShape="0">
            <a:gsLst>
              <a:gs pos="0">
                <a:srgbClr val="ffffff"/>
              </a:gs>
              <a:gs pos="100000">
                <a:srgbClr val="ff33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31"/>
          <p:cNvSpPr/>
          <p:nvPr/>
        </p:nvSpPr>
        <p:spPr>
          <a:xfrm>
            <a:off x="6923160" y="4572000"/>
            <a:ext cx="0" cy="188136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32"/>
          <p:cNvSpPr/>
          <p:nvPr/>
        </p:nvSpPr>
        <p:spPr>
          <a:xfrm>
            <a:off x="5448960" y="4419720"/>
            <a:ext cx="2214720" cy="2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560 (6500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660 (6600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5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670 (6610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5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680 (6620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6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282960" y="1528920"/>
            <a:ext cx="3612600" cy="179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ruttolohn oder Geha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Sozialversicherung (SVD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Lohnsteuer (L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zahlungsbet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36"/>
          <p:cNvSpPr/>
          <p:nvPr/>
        </p:nvSpPr>
        <p:spPr>
          <a:xfrm>
            <a:off x="3408480" y="1860480"/>
            <a:ext cx="1209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37"/>
          <p:cNvSpPr/>
          <p:nvPr/>
        </p:nvSpPr>
        <p:spPr>
          <a:xfrm>
            <a:off x="4049640" y="2271600"/>
            <a:ext cx="2651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38"/>
          <p:cNvSpPr/>
          <p:nvPr/>
        </p:nvSpPr>
        <p:spPr>
          <a:xfrm>
            <a:off x="2881440" y="2629080"/>
            <a:ext cx="380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41"/>
          <p:cNvSpPr/>
          <p:nvPr/>
        </p:nvSpPr>
        <p:spPr>
          <a:xfrm>
            <a:off x="2963880" y="3151080"/>
            <a:ext cx="3803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0"/>
          <p:cNvSpPr/>
          <p:nvPr/>
        </p:nvSpPr>
        <p:spPr>
          <a:xfrm flipV="1">
            <a:off x="262080" y="2919240"/>
            <a:ext cx="3278160" cy="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42"/>
          <p:cNvSpPr/>
          <p:nvPr/>
        </p:nvSpPr>
        <p:spPr>
          <a:xfrm>
            <a:off x="258840" y="120600"/>
            <a:ext cx="44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buchung von Löhnen und Gehält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44" descr="gehalt_neu"/>
          <p:cNvPicPr/>
          <p:nvPr/>
        </p:nvPicPr>
        <p:blipFill>
          <a:blip r:embed="rId1"/>
          <a:stretch/>
        </p:blipFill>
        <p:spPr>
          <a:xfrm>
            <a:off x="7746840" y="4560840"/>
            <a:ext cx="1819440" cy="181944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6"/>
          <p:cNvSpPr/>
          <p:nvPr/>
        </p:nvSpPr>
        <p:spPr>
          <a:xfrm>
            <a:off x="519480" y="3990960"/>
            <a:ext cx="5373000" cy="45972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Lohn- &amp; Gehaltsabhängige Abga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091"/>
          <p:cNvSpPr/>
          <p:nvPr/>
        </p:nvSpPr>
        <p:spPr>
          <a:xfrm>
            <a:off x="111240" y="85680"/>
            <a:ext cx="9685080" cy="48420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Grafik 8" descr="bauerpoint.gif"/>
          <p:cNvPicPr/>
          <p:nvPr/>
        </p:nvPicPr>
        <p:blipFill>
          <a:blip r:embed="rId2"/>
          <a:stretch/>
        </p:blipFill>
        <p:spPr>
          <a:xfrm>
            <a:off x="8537400" y="109440"/>
            <a:ext cx="1202040" cy="432000"/>
          </a:xfrm>
          <a:prstGeom prst="rect">
            <a:avLst/>
          </a:prstGeom>
          <a:ln w="0">
            <a:noFill/>
          </a:ln>
        </p:spPr>
      </p:pic>
      <p:sp>
        <p:nvSpPr>
          <p:cNvPr id="247" name="Wolke 25"/>
          <p:cNvSpPr/>
          <p:nvPr/>
        </p:nvSpPr>
        <p:spPr>
          <a:xfrm>
            <a:off x="873000" y="4818240"/>
            <a:ext cx="2306880" cy="1431720"/>
          </a:xfrm>
          <a:prstGeom prst="pie">
            <a:avLst/>
          </a:prstGeom>
          <a:solidFill>
            <a:srgbClr val="ff66cc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r>
              <a:rPr b="0" lang="de-AT" sz="1600" spc="-1" strike="noStrike">
                <a:solidFill>
                  <a:srgbClr val="ffffff"/>
                </a:solidFill>
                <a:latin typeface="Arial"/>
                <a:ea typeface="Arial"/>
              </a:rPr>
              <a:t>diese sind noch zusätzlich zu bezahle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46"/>
          <p:cNvSpPr/>
          <p:nvPr/>
        </p:nvSpPr>
        <p:spPr>
          <a:xfrm>
            <a:off x="291600" y="934920"/>
            <a:ext cx="3016800" cy="45972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Gehaltsabrech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/>
          <p:cNvSpPr/>
          <p:nvPr/>
        </p:nvSpPr>
        <p:spPr>
          <a:xfrm>
            <a:off x="3703680" y="3022560"/>
            <a:ext cx="812880" cy="720720"/>
          </a:xfrm>
          <a:prstGeom prst="down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13"/>
          <p:cNvSpPr/>
          <p:nvPr/>
        </p:nvSpPr>
        <p:spPr>
          <a:xfrm>
            <a:off x="2103480" y="1851120"/>
            <a:ext cx="1571760" cy="812880"/>
          </a:xfrm>
          <a:prstGeom prst="leftArrow">
            <a:avLst>
              <a:gd name="adj1" fmla="val 50000"/>
              <a:gd name="adj2" fmla="val 96669"/>
            </a:avLst>
          </a:prstGeom>
          <a:gradFill rotWithShape="0">
            <a:gsLst>
              <a:gs pos="0">
                <a:srgbClr val="99663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14"/>
          <p:cNvSpPr/>
          <p:nvPr/>
        </p:nvSpPr>
        <p:spPr>
          <a:xfrm flipH="1">
            <a:off x="5800680" y="1900080"/>
            <a:ext cx="1573200" cy="812880"/>
          </a:xfrm>
          <a:prstGeom prst="leftArrow">
            <a:avLst>
              <a:gd name="adj1" fmla="val 50000"/>
              <a:gd name="adj2" fmla="val 96758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6"/>
          <p:cNvSpPr/>
          <p:nvPr/>
        </p:nvSpPr>
        <p:spPr>
          <a:xfrm>
            <a:off x="7491960" y="3090960"/>
            <a:ext cx="1748520" cy="51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ilfsstof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8"/>
          <p:cNvSpPr/>
          <p:nvPr/>
        </p:nvSpPr>
        <p:spPr>
          <a:xfrm>
            <a:off x="573120" y="5316480"/>
            <a:ext cx="4259160" cy="91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cc99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100 Rohstoffverbrauch (54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500 V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 330.. Lieferantenkto (2700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9"/>
          <p:cNvSpPr/>
          <p:nvPr/>
        </p:nvSpPr>
        <p:spPr>
          <a:xfrm>
            <a:off x="5974200" y="4361040"/>
            <a:ext cx="2362680" cy="51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triebsstof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0"/>
          <p:cNvSpPr/>
          <p:nvPr/>
        </p:nvSpPr>
        <p:spPr>
          <a:xfrm>
            <a:off x="5460840" y="5318280"/>
            <a:ext cx="4140360" cy="91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ccc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300 Hilfsstoffverbrau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500 Vorsteu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 33.. Lieferantkto. (2700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30" descr="holzkiste_isoliert"/>
          <p:cNvPicPr/>
          <p:nvPr/>
        </p:nvPicPr>
        <p:blipFill>
          <a:blip r:embed="rId1"/>
          <a:stretch/>
        </p:blipFill>
        <p:spPr>
          <a:xfrm>
            <a:off x="3846600" y="1452600"/>
            <a:ext cx="2135160" cy="15904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2" descr="bild1-titel"/>
          <p:cNvPicPr/>
          <p:nvPr/>
        </p:nvPicPr>
        <p:blipFill>
          <a:blip r:embed="rId2"/>
          <a:stretch/>
        </p:blipFill>
        <p:spPr>
          <a:xfrm>
            <a:off x="279360" y="1573200"/>
            <a:ext cx="1790640" cy="22525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4" descr="Schrauben"/>
          <p:cNvPicPr/>
          <p:nvPr/>
        </p:nvPicPr>
        <p:blipFill>
          <a:blip r:embed="rId3"/>
          <a:srcRect l="11189" t="4911" r="9434" b="8778"/>
          <a:stretch/>
        </p:blipFill>
        <p:spPr>
          <a:xfrm>
            <a:off x="7405560" y="1467000"/>
            <a:ext cx="2328840" cy="16063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6" descr="Ölkanne 1 l vom Fachversand für Gastronomie Artikel"/>
          <p:cNvPicPr/>
          <p:nvPr/>
        </p:nvPicPr>
        <p:blipFill>
          <a:blip r:embed="rId4"/>
          <a:stretch/>
        </p:blipFill>
        <p:spPr>
          <a:xfrm>
            <a:off x="4595760" y="3608280"/>
            <a:ext cx="1336680" cy="9590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8" descr="saege"/>
          <p:cNvPicPr/>
          <p:nvPr/>
        </p:nvPicPr>
        <p:blipFill>
          <a:blip r:embed="rId5"/>
          <a:stretch/>
        </p:blipFill>
        <p:spPr>
          <a:xfrm>
            <a:off x="3384720" y="3855960"/>
            <a:ext cx="1449360" cy="69552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15"/>
          <p:cNvSpPr/>
          <p:nvPr/>
        </p:nvSpPr>
        <p:spPr>
          <a:xfrm>
            <a:off x="675720" y="3648240"/>
            <a:ext cx="1708920" cy="51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ohstof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39"/>
          <p:cNvSpPr/>
          <p:nvPr/>
        </p:nvSpPr>
        <p:spPr>
          <a:xfrm>
            <a:off x="4501800" y="915840"/>
            <a:ext cx="1411920" cy="519120"/>
          </a:xfrm>
          <a:prstGeom prst="rect">
            <a:avLst/>
          </a:prstGeom>
          <a:solidFill>
            <a:srgbClr val="85f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duk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42"/>
          <p:cNvSpPr/>
          <p:nvPr/>
        </p:nvSpPr>
        <p:spPr>
          <a:xfrm>
            <a:off x="284040" y="120600"/>
            <a:ext cx="42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buchung von Roh- und Hilfsstoff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091"/>
          <p:cNvSpPr/>
          <p:nvPr/>
        </p:nvSpPr>
        <p:spPr>
          <a:xfrm>
            <a:off x="111240" y="85680"/>
            <a:ext cx="9685080" cy="48420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Grafik 8" descr="bauerpoint.gif"/>
          <p:cNvPicPr/>
          <p:nvPr/>
        </p:nvPicPr>
        <p:blipFill>
          <a:blip r:embed="rId6"/>
          <a:stretch/>
        </p:blipFill>
        <p:spPr>
          <a:xfrm>
            <a:off x="8537400" y="109440"/>
            <a:ext cx="1202040" cy="4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AutoShape 2"/>
          <p:cNvSpPr/>
          <p:nvPr/>
        </p:nvSpPr>
        <p:spPr>
          <a:xfrm>
            <a:off x="3487680" y="3182760"/>
            <a:ext cx="2814840" cy="635040"/>
          </a:xfrm>
          <a:prstGeom prst="downArrow">
            <a:avLst>
              <a:gd name="adj1" fmla="val 75009"/>
              <a:gd name="adj2" fmla="val 50005"/>
            </a:avLst>
          </a:prstGeom>
          <a:gradFill rotWithShape="0">
            <a:gsLst>
              <a:gs pos="0">
                <a:srgbClr val="ffffff"/>
              </a:gs>
              <a:gs pos="100000">
                <a:srgbClr val="99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2531520" y="3832200"/>
            <a:ext cx="47113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990099"/>
                </a:solidFill>
                <a:latin typeface="Arial"/>
              </a:rPr>
              <a:t>Verbuchung des Differenzbetrag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468360" y="4389480"/>
            <a:ext cx="3686040" cy="52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dbestand 31.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458640" y="5303880"/>
            <a:ext cx="3705480" cy="52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fangsbestand 1.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204840" y="6056280"/>
            <a:ext cx="4349520" cy="57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9966"/>
            </a:solidFill>
            <a:miter/>
          </a:ln>
          <a:effectLst>
            <a:outerShdw dist="107932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400 (1500) Unfertige- Fertige Erzeugni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4500 Bestandsverände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0"/>
          <p:cNvSpPr/>
          <p:nvPr/>
        </p:nvSpPr>
        <p:spPr>
          <a:xfrm>
            <a:off x="5091120" y="6039000"/>
            <a:ext cx="4584600" cy="57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9966"/>
            </a:solidFill>
            <a:miter/>
          </a:ln>
          <a:effectLst>
            <a:outerShdw dist="107932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500 Bestandsverände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67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1400 (1500) Unfertige- Fertige  Erzeugni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1181880" y="4881600"/>
            <a:ext cx="2146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öß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ls 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12"/>
          <p:cNvSpPr/>
          <p:nvPr/>
        </p:nvSpPr>
        <p:spPr>
          <a:xfrm>
            <a:off x="5597640" y="4275000"/>
            <a:ext cx="3684600" cy="52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dbestand 31.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13"/>
          <p:cNvSpPr/>
          <p:nvPr/>
        </p:nvSpPr>
        <p:spPr>
          <a:xfrm>
            <a:off x="5586480" y="5189400"/>
            <a:ext cx="3705120" cy="52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fangsbestand 1.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6283440" y="4795920"/>
            <a:ext cx="2160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lein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ls 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6"/>
          <p:cNvSpPr/>
          <p:nvPr/>
        </p:nvSpPr>
        <p:spPr>
          <a:xfrm>
            <a:off x="340200" y="120600"/>
            <a:ext cx="57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buchung von unfertigen und Fertigerzeugnis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1091"/>
          <p:cNvSpPr/>
          <p:nvPr/>
        </p:nvSpPr>
        <p:spPr>
          <a:xfrm>
            <a:off x="111240" y="85680"/>
            <a:ext cx="9685080" cy="48420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Grafik 8" descr="bauerpoint.gif"/>
          <p:cNvPicPr/>
          <p:nvPr/>
        </p:nvPicPr>
        <p:blipFill>
          <a:blip r:embed="rId1"/>
          <a:stretch/>
        </p:blipFill>
        <p:spPr>
          <a:xfrm>
            <a:off x="8537400" y="109440"/>
            <a:ext cx="1202040" cy="4320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7" descr="http://www.franziska-koessl.de/photos/work/halb_fertig.jpg"/>
          <p:cNvPicPr/>
          <p:nvPr/>
        </p:nvPicPr>
        <p:blipFill>
          <a:blip r:embed="rId2"/>
          <a:stretch/>
        </p:blipFill>
        <p:spPr>
          <a:xfrm>
            <a:off x="5479920" y="846000"/>
            <a:ext cx="1624320" cy="1624320"/>
          </a:xfrm>
          <a:prstGeom prst="rect">
            <a:avLst/>
          </a:prstGeom>
          <a:ln w="0">
            <a:noFill/>
          </a:ln>
        </p:spPr>
      </p:pic>
      <p:sp>
        <p:nvSpPr>
          <p:cNvPr id="280" name="Rechteck 16"/>
          <p:cNvSpPr/>
          <p:nvPr/>
        </p:nvSpPr>
        <p:spPr>
          <a:xfrm>
            <a:off x="223920" y="878040"/>
            <a:ext cx="4952880" cy="2040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alberzeugniss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1400 - unfertige Produkte) u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ertigerzeugniss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1500) werden am Beginn der Rechnungsperiode auf dem jeweiligem Bestands-konto verbucht. Während der Rechnungsperiode findet keinerlei Verbuchung statt. Am Ende der Rechnungsperiode wird der Unterschiedsbetrag zwischen dem Anfangs- und Endbestand auf das Konto 4500 Bestandsveränderungen übertrag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Picture 19" descr="http://www.schoder.at/shop/images/gitarre.jpg"/>
          <p:cNvPicPr/>
          <p:nvPr/>
        </p:nvPicPr>
        <p:blipFill>
          <a:blip r:embed="rId3"/>
          <a:stretch/>
        </p:blipFill>
        <p:spPr>
          <a:xfrm>
            <a:off x="7091280" y="1733400"/>
            <a:ext cx="2459160" cy="1587600"/>
          </a:xfrm>
          <a:prstGeom prst="rect">
            <a:avLst/>
          </a:prstGeom>
          <a:ln w="0">
            <a:noFill/>
          </a:ln>
        </p:spPr>
      </p:pic>
      <p:sp>
        <p:nvSpPr>
          <p:cNvPr id="282" name="Textfeld 18"/>
          <p:cNvSpPr/>
          <p:nvPr/>
        </p:nvSpPr>
        <p:spPr>
          <a:xfrm>
            <a:off x="7107120" y="763560"/>
            <a:ext cx="202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Verdana"/>
              </a:rPr>
              <a:t>Unfertige Erzeugni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feld 19"/>
          <p:cNvSpPr/>
          <p:nvPr/>
        </p:nvSpPr>
        <p:spPr>
          <a:xfrm>
            <a:off x="7995600" y="2963880"/>
            <a:ext cx="181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Verdana"/>
              </a:rPr>
              <a:t>Fertige Erzeugni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291240" y="122400"/>
            <a:ext cx="42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buchung von Roh- und Hilfsstoff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>
            <a:off x="5029200" y="1181160"/>
            <a:ext cx="0" cy="5371920"/>
          </a:xfrm>
          <a:prstGeom prst="line">
            <a:avLst/>
          </a:prstGeom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660240" y="933480"/>
            <a:ext cx="3621600" cy="677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buchung der Einkäu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 der Klas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5544720" y="933480"/>
            <a:ext cx="3621600" cy="677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buchung der Einkäu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 der Klas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539640" y="2217600"/>
            <a:ext cx="3861000" cy="82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cccc"/>
            </a:solidFill>
            <a:miter/>
          </a:ln>
          <a:effectLst>
            <a:outerShdw dist="107932" dir="2700000" blurRad="0" rotWithShape="0">
              <a:srgbClr val="00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100 Rohstoffvorr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500 V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33.. Lieferantenkto (2700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9"/>
          <p:cNvSpPr/>
          <p:nvPr/>
        </p:nvSpPr>
        <p:spPr>
          <a:xfrm>
            <a:off x="1468440" y="181440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käu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0"/>
          <p:cNvSpPr/>
          <p:nvPr/>
        </p:nvSpPr>
        <p:spPr>
          <a:xfrm>
            <a:off x="1173960" y="3351240"/>
            <a:ext cx="2619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mittlu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terialverbrau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1"/>
          <p:cNvSpPr/>
          <p:nvPr/>
        </p:nvSpPr>
        <p:spPr>
          <a:xfrm>
            <a:off x="868320" y="4194000"/>
            <a:ext cx="290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aldo Konto Rohstoffvorr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dbestand laut Invent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terial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2"/>
          <p:cNvSpPr/>
          <p:nvPr/>
        </p:nvSpPr>
        <p:spPr>
          <a:xfrm>
            <a:off x="988920" y="4762440"/>
            <a:ext cx="2963880" cy="0"/>
          </a:xfrm>
          <a:prstGeom prst="line">
            <a:avLst/>
          </a:prstGeom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3"/>
          <p:cNvSpPr/>
          <p:nvPr/>
        </p:nvSpPr>
        <p:spPr>
          <a:xfrm>
            <a:off x="539640" y="5265720"/>
            <a:ext cx="3861000" cy="57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cccc"/>
            </a:solidFill>
            <a:miter/>
          </a:ln>
          <a:effectLst>
            <a:outerShdw dist="107932" dir="2700000" blurRad="0" rotWithShape="0">
              <a:srgbClr val="00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5100 Rohstoff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1100 Rohstoffvorr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4"/>
          <p:cNvSpPr/>
          <p:nvPr/>
        </p:nvSpPr>
        <p:spPr>
          <a:xfrm>
            <a:off x="5424480" y="2209680"/>
            <a:ext cx="3860640" cy="82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cccc"/>
            </a:solidFill>
            <a:miter/>
          </a:ln>
          <a:effectLst>
            <a:outerShdw dist="107932" dir="2700000" blurRad="0" rotWithShape="0">
              <a:srgbClr val="00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5100 Rohstoff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500 V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33.. Lieferantenkto (2700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6351480" y="181764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käu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6485040" y="3351240"/>
            <a:ext cx="1738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pass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to 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7"/>
          <p:cNvSpPr/>
          <p:nvPr/>
        </p:nvSpPr>
        <p:spPr>
          <a:xfrm>
            <a:off x="6295680" y="4156200"/>
            <a:ext cx="1934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fangsbest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dbest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+ /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18"/>
          <p:cNvSpPr/>
          <p:nvPr/>
        </p:nvSpPr>
        <p:spPr>
          <a:xfrm>
            <a:off x="6273720" y="4724280"/>
            <a:ext cx="2200320" cy="0"/>
          </a:xfrm>
          <a:prstGeom prst="line">
            <a:avLst/>
          </a:prstGeom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9"/>
          <p:cNvSpPr/>
          <p:nvPr/>
        </p:nvSpPr>
        <p:spPr>
          <a:xfrm>
            <a:off x="5576760" y="5094360"/>
            <a:ext cx="3861000" cy="57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cccc"/>
            </a:solidFill>
            <a:miter/>
          </a:ln>
          <a:effectLst>
            <a:outerShdw dist="107932" dir="2700000" blurRad="0" rotWithShape="0">
              <a:srgbClr val="00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5100 Rohstoff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1100 Rohstoffvorr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20"/>
          <p:cNvSpPr/>
          <p:nvPr/>
        </p:nvSpPr>
        <p:spPr>
          <a:xfrm>
            <a:off x="5576760" y="6046920"/>
            <a:ext cx="3861000" cy="57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cccc"/>
            </a:solidFill>
            <a:miter/>
          </a:ln>
          <a:effectLst>
            <a:outerShdw dist="107932" dir="2700000" blurRad="0" rotWithShape="0">
              <a:srgbClr val="00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100 Rohstoffvorr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5100 Rohstoff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21"/>
          <p:cNvSpPr/>
          <p:nvPr/>
        </p:nvSpPr>
        <p:spPr>
          <a:xfrm>
            <a:off x="5158440" y="509904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22"/>
          <p:cNvSpPr/>
          <p:nvPr/>
        </p:nvSpPr>
        <p:spPr>
          <a:xfrm>
            <a:off x="5227920" y="597528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091"/>
          <p:cNvSpPr/>
          <p:nvPr/>
        </p:nvSpPr>
        <p:spPr>
          <a:xfrm>
            <a:off x="111240" y="85680"/>
            <a:ext cx="9685080" cy="48420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Grafik 8" descr="bauerpoint.gif"/>
          <p:cNvPicPr/>
          <p:nvPr/>
        </p:nvPicPr>
        <p:blipFill>
          <a:blip r:embed="rId1"/>
          <a:stretch/>
        </p:blipFill>
        <p:spPr>
          <a:xfrm>
            <a:off x="8537400" y="109440"/>
            <a:ext cx="1202040" cy="4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4"/>
          <p:cNvSpPr/>
          <p:nvPr/>
        </p:nvSpPr>
        <p:spPr>
          <a:xfrm>
            <a:off x="187200" y="119160"/>
            <a:ext cx="26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reditoren - Debito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091"/>
          <p:cNvSpPr/>
          <p:nvPr/>
        </p:nvSpPr>
        <p:spPr>
          <a:xfrm>
            <a:off x="111240" y="85680"/>
            <a:ext cx="9685080" cy="48420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Grafik 8" descr="bauerpoint.gif"/>
          <p:cNvPicPr/>
          <p:nvPr/>
        </p:nvPicPr>
        <p:blipFill>
          <a:blip r:embed="rId1"/>
          <a:stretch/>
        </p:blipFill>
        <p:spPr>
          <a:xfrm>
            <a:off x="8537400" y="109440"/>
            <a:ext cx="1202040" cy="4320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"/>
          <p:cNvPicPr/>
          <p:nvPr/>
        </p:nvPicPr>
        <p:blipFill>
          <a:blip r:embed="rId2"/>
          <a:stretch/>
        </p:blipFill>
        <p:spPr>
          <a:xfrm>
            <a:off x="592200" y="1266840"/>
            <a:ext cx="8639280" cy="3095640"/>
          </a:xfrm>
          <a:prstGeom prst="rect">
            <a:avLst/>
          </a:prstGeom>
          <a:ln w="0">
            <a:noFill/>
          </a:ln>
        </p:spPr>
      </p:pic>
      <p:sp>
        <p:nvSpPr>
          <p:cNvPr id="309" name="Textfeld 25"/>
          <p:cNvSpPr/>
          <p:nvPr/>
        </p:nvSpPr>
        <p:spPr>
          <a:xfrm>
            <a:off x="750600" y="4325760"/>
            <a:ext cx="29955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ffc000"/>
                </a:solidFill>
                <a:latin typeface="Verdana"/>
              </a:rPr>
              <a:t>Kreditor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Konto: 33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feld 26"/>
          <p:cNvSpPr/>
          <p:nvPr/>
        </p:nvSpPr>
        <p:spPr>
          <a:xfrm>
            <a:off x="6211440" y="4341960"/>
            <a:ext cx="2826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ffc000"/>
                </a:solidFill>
                <a:latin typeface="Verdana"/>
              </a:rPr>
              <a:t>Debitor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Konto: 20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10"/>
          <p:cNvSpPr/>
          <p:nvPr/>
        </p:nvSpPr>
        <p:spPr>
          <a:xfrm>
            <a:off x="3728880" y="2035080"/>
            <a:ext cx="2822760" cy="1575000"/>
          </a:xfrm>
          <a:prstGeom prst="leftArrow">
            <a:avLst>
              <a:gd name="adj1" fmla="val 50000"/>
              <a:gd name="adj2" fmla="val 75406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38200"/>
                <a:tab algn="l" pos="1076400"/>
                <a:tab algn="l" pos="1614600"/>
                <a:tab algn="l" pos="2152800"/>
                <a:tab algn="l" pos="2690640"/>
                <a:tab algn="l" pos="3228840"/>
                <a:tab algn="l" pos="3767040"/>
                <a:tab algn="l" pos="4305240"/>
                <a:tab algn="l" pos="4843440"/>
                <a:tab algn="l" pos="5381640"/>
                <a:tab algn="l" pos="5919840"/>
                <a:tab algn="l" pos="6458040"/>
                <a:tab algn="l" pos="6996240"/>
                <a:tab algn="l" pos="7534440"/>
                <a:tab algn="l" pos="8072280"/>
                <a:tab algn="l" pos="8610480"/>
                <a:tab algn="l" pos="9148680"/>
                <a:tab algn="l" pos="9686880"/>
                <a:tab algn="l" pos="10225080"/>
                <a:tab algn="l" pos="107632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Überweis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5433840" y="5054760"/>
            <a:ext cx="4402440" cy="66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ffc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880 Schwebende Geldbeweg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 2800 Volks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42840" y="5052960"/>
            <a:ext cx="5241960" cy="64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ffc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801 Sparka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 2880 Schwebende Geldbeweg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6721560" y="4405320"/>
            <a:ext cx="2171520" cy="461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38200"/>
                <a:tab algn="l" pos="1076400"/>
                <a:tab algn="l" pos="1614600"/>
                <a:tab algn="l" pos="2152800"/>
                <a:tab algn="l" pos="2690640"/>
                <a:tab algn="l" pos="3228840"/>
                <a:tab algn="l" pos="3767040"/>
                <a:tab algn="l" pos="4305240"/>
                <a:tab algn="l" pos="4843440"/>
                <a:tab algn="l" pos="5381640"/>
                <a:tab algn="l" pos="5919840"/>
                <a:tab algn="l" pos="6458040"/>
                <a:tab algn="l" pos="6996240"/>
                <a:tab algn="l" pos="7534440"/>
                <a:tab algn="l" pos="8072280"/>
                <a:tab algn="l" pos="8610480"/>
                <a:tab algn="l" pos="9148680"/>
                <a:tab algn="l" pos="9686880"/>
                <a:tab algn="l" pos="10225080"/>
                <a:tab algn="l" pos="107632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Kontoausz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6"/>
          <p:cNvSpPr/>
          <p:nvPr/>
        </p:nvSpPr>
        <p:spPr>
          <a:xfrm>
            <a:off x="1127160" y="4343400"/>
            <a:ext cx="2171520" cy="461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38200"/>
                <a:tab algn="l" pos="1076400"/>
                <a:tab algn="l" pos="1614600"/>
                <a:tab algn="l" pos="2152800"/>
                <a:tab algn="l" pos="2690640"/>
                <a:tab algn="l" pos="3228840"/>
                <a:tab algn="l" pos="3767040"/>
                <a:tab algn="l" pos="4305240"/>
                <a:tab algn="l" pos="4843440"/>
                <a:tab algn="l" pos="5381640"/>
                <a:tab algn="l" pos="5919840"/>
                <a:tab algn="l" pos="6458040"/>
                <a:tab algn="l" pos="6996240"/>
                <a:tab algn="l" pos="7534440"/>
                <a:tab algn="l" pos="8072280"/>
                <a:tab algn="l" pos="8610480"/>
                <a:tab algn="l" pos="9148680"/>
                <a:tab algn="l" pos="9686880"/>
                <a:tab algn="l" pos="10225080"/>
                <a:tab algn="l" pos="107632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Kontoausz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7"/>
          <p:cNvSpPr/>
          <p:nvPr/>
        </p:nvSpPr>
        <p:spPr>
          <a:xfrm>
            <a:off x="3090960" y="6035760"/>
            <a:ext cx="3708360" cy="579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ank B  an  Bank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20" descr="sparkasse"/>
          <p:cNvPicPr/>
          <p:nvPr/>
        </p:nvPicPr>
        <p:blipFill>
          <a:blip r:embed="rId1"/>
          <a:srcRect l="0" t="0" r="25087" b="0"/>
          <a:stretch/>
        </p:blipFill>
        <p:spPr>
          <a:xfrm>
            <a:off x="1057320" y="1382760"/>
            <a:ext cx="2454120" cy="2847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2" descr="volksbank"/>
          <p:cNvPicPr/>
          <p:nvPr/>
        </p:nvPicPr>
        <p:blipFill>
          <a:blip r:embed="rId2"/>
          <a:stretch/>
        </p:blipFill>
        <p:spPr>
          <a:xfrm>
            <a:off x="6791400" y="1409760"/>
            <a:ext cx="2046240" cy="29192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3"/>
          <p:cNvSpPr/>
          <p:nvPr/>
        </p:nvSpPr>
        <p:spPr>
          <a:xfrm>
            <a:off x="316440" y="120600"/>
            <a:ext cx="645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Überweisungen auf Konten innerhalb der eigenen Ban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091"/>
          <p:cNvSpPr/>
          <p:nvPr/>
        </p:nvSpPr>
        <p:spPr>
          <a:xfrm>
            <a:off x="111240" y="85680"/>
            <a:ext cx="9685080" cy="48420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Grafik 8" descr="bauerpoint.gif"/>
          <p:cNvPicPr/>
          <p:nvPr/>
        </p:nvPicPr>
        <p:blipFill>
          <a:blip r:embed="rId3"/>
          <a:stretch/>
        </p:blipFill>
        <p:spPr>
          <a:xfrm>
            <a:off x="8537400" y="109440"/>
            <a:ext cx="1202040" cy="432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Wolfgang Amadeus Mozart - Rückseite der österr. 1-Euro-Münz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76800" y="3289320"/>
            <a:ext cx="539640" cy="539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Wolfgang Amadeus Mozart - Rückseite der österr. 1-Euro-Münz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560920" y="3278160"/>
            <a:ext cx="540000" cy="539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6" descr="http://t1.gstatic.com/images?q=tbn:7i89j9dsCFINnM:http://www.europahaus-klagenfurt.at/Logo%2520Volksbank.jpg"/>
          <p:cNvPicPr/>
          <p:nvPr/>
        </p:nvPicPr>
        <p:blipFill>
          <a:blip r:embed="rId8"/>
          <a:stretch/>
        </p:blipFill>
        <p:spPr>
          <a:xfrm>
            <a:off x="6746760" y="922320"/>
            <a:ext cx="2075040" cy="374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8" descr="Vollbild anzeigen"/>
          <p:cNvPicPr/>
          <p:nvPr/>
        </p:nvPicPr>
        <p:blipFill>
          <a:blip r:embed="rId9"/>
          <a:stretch/>
        </p:blipFill>
        <p:spPr>
          <a:xfrm>
            <a:off x="1628640" y="712800"/>
            <a:ext cx="1162080" cy="762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10" name="bomb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9"/>
          <p:cNvSpPr/>
          <p:nvPr/>
        </p:nvSpPr>
        <p:spPr>
          <a:xfrm>
            <a:off x="223200" y="120600"/>
            <a:ext cx="28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eispiele für Konditio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rcRect l="24850" t="21969" r="26120" b="16325"/>
          <a:stretch/>
        </p:blipFill>
        <p:spPr>
          <a:xfrm>
            <a:off x="219240" y="655560"/>
            <a:ext cx="5976720" cy="60181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091"/>
          <p:cNvSpPr/>
          <p:nvPr/>
        </p:nvSpPr>
        <p:spPr>
          <a:xfrm>
            <a:off x="111240" y="85680"/>
            <a:ext cx="9685080" cy="48420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Grafik 8" descr="bauerpoint.gif"/>
          <p:cNvPicPr/>
          <p:nvPr/>
        </p:nvPicPr>
        <p:blipFill>
          <a:blip r:embed="rId2"/>
          <a:stretch/>
        </p:blipFill>
        <p:spPr>
          <a:xfrm>
            <a:off x="8537400" y="109440"/>
            <a:ext cx="1202040" cy="432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bomb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8" descr="sparkasse"/>
          <p:cNvPicPr/>
          <p:nvPr/>
        </p:nvPicPr>
        <p:blipFill>
          <a:blip r:embed="rId1"/>
          <a:srcRect l="0" t="0" r="25087" b="0"/>
          <a:stretch/>
        </p:blipFill>
        <p:spPr>
          <a:xfrm>
            <a:off x="7026120" y="3301920"/>
            <a:ext cx="1871640" cy="21733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9"/>
          <p:cNvSpPr/>
          <p:nvPr/>
        </p:nvSpPr>
        <p:spPr>
          <a:xfrm>
            <a:off x="255240" y="120600"/>
            <a:ext cx="30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bschlussposten - Beispi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222120" y="736560"/>
            <a:ext cx="6104160" cy="4776840"/>
          </a:xfrm>
          <a:prstGeom prst="rect">
            <a:avLst/>
          </a:prstGeom>
          <a:ln w="0">
            <a:noFill/>
          </a:ln>
        </p:spPr>
      </p:pic>
      <p:cxnSp>
        <p:nvCxnSpPr>
          <p:cNvPr id="137" name="Gerade Verbindung mit Pfeil 14"/>
          <p:cNvCxnSpPr/>
          <p:nvPr/>
        </p:nvCxnSpPr>
        <p:spPr>
          <a:xfrm>
            <a:off x="6210000" y="1924200"/>
            <a:ext cx="586440" cy="216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138" name="Gerade Verbindung mit Pfeil 15"/>
          <p:cNvCxnSpPr/>
          <p:nvPr/>
        </p:nvCxnSpPr>
        <p:spPr>
          <a:xfrm>
            <a:off x="6211800" y="2117880"/>
            <a:ext cx="2674080" cy="1152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139" name="Gerade Verbindung mit Pfeil 16"/>
          <p:cNvCxnSpPr/>
          <p:nvPr/>
        </p:nvCxnSpPr>
        <p:spPr>
          <a:xfrm>
            <a:off x="6214680" y="2338560"/>
            <a:ext cx="586440" cy="216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140" name="Gerade Verbindung mit Pfeil 17"/>
          <p:cNvCxnSpPr/>
          <p:nvPr/>
        </p:nvCxnSpPr>
        <p:spPr>
          <a:xfrm>
            <a:off x="6216480" y="2505240"/>
            <a:ext cx="588240" cy="216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sp>
        <p:nvSpPr>
          <p:cNvPr id="141" name="Textfeld 18"/>
          <p:cNvSpPr/>
          <p:nvPr/>
        </p:nvSpPr>
        <p:spPr>
          <a:xfrm>
            <a:off x="6867360" y="1706400"/>
            <a:ext cx="17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Habenzin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feld 20"/>
          <p:cNvSpPr/>
          <p:nvPr/>
        </p:nvSpPr>
        <p:spPr>
          <a:xfrm>
            <a:off x="8917920" y="191124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K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feld 21"/>
          <p:cNvSpPr/>
          <p:nvPr/>
        </p:nvSpPr>
        <p:spPr>
          <a:xfrm>
            <a:off x="6891480" y="2252520"/>
            <a:ext cx="28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Spesen und Gebüh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091"/>
          <p:cNvSpPr/>
          <p:nvPr/>
        </p:nvSpPr>
        <p:spPr>
          <a:xfrm>
            <a:off x="111240" y="85680"/>
            <a:ext cx="9685080" cy="48420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Grafik 8" descr="bauerpoint.gif"/>
          <p:cNvPicPr/>
          <p:nvPr/>
        </p:nvPicPr>
        <p:blipFill>
          <a:blip r:embed="rId3"/>
          <a:stretch/>
        </p:blipFill>
        <p:spPr>
          <a:xfrm>
            <a:off x="8537400" y="109440"/>
            <a:ext cx="1202040" cy="432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4" name="bomb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7" descr="Neue_frau_kontoauszug_links"/>
          <p:cNvPicPr/>
          <p:nvPr/>
        </p:nvPicPr>
        <p:blipFill>
          <a:blip r:embed="rId1"/>
          <a:stretch/>
        </p:blipFill>
        <p:spPr>
          <a:xfrm>
            <a:off x="5945040" y="1932120"/>
            <a:ext cx="3527640" cy="385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7" name="Rectangle 2"/>
          <p:cNvSpPr/>
          <p:nvPr/>
        </p:nvSpPr>
        <p:spPr>
          <a:xfrm>
            <a:off x="84240" y="1728720"/>
            <a:ext cx="4757760" cy="66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cc6600"/>
            </a:solidFill>
            <a:miter/>
          </a:ln>
          <a:effectLst>
            <a:outerShdw dist="38183" dir="2700000" blurRad="0" rotWithShape="0">
              <a:srgbClr val="cc66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800 (3110) 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 8100 Zinserträge a. Bankguthab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4959720" y="1895400"/>
            <a:ext cx="2402640" cy="45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uthabenzin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4957200" y="3117960"/>
            <a:ext cx="794520" cy="45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84240" y="2967120"/>
            <a:ext cx="4757760" cy="69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cc6600"/>
            </a:solidFill>
            <a:miter/>
          </a:ln>
          <a:effectLst>
            <a:outerShdw dist="38183" dir="2700000" blurRad="0" rotWithShape="0">
              <a:srgbClr val="cc66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8100 Zinserträge aus Bankguthab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 2800 (3110) 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4960800" y="4376880"/>
            <a:ext cx="1994040" cy="45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uldzin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84240" y="4238640"/>
            <a:ext cx="4757760" cy="69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cc6600"/>
            </a:solidFill>
            <a:miter/>
          </a:ln>
          <a:effectLst>
            <a:outerShdw dist="38183" dir="2700000" blurRad="0" rotWithShape="0">
              <a:srgbClr val="cc66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8280 Zinsaufwand für Bankkre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 2800 (3110) 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84240" y="5786280"/>
            <a:ext cx="4757760" cy="69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cc6600"/>
            </a:solidFill>
            <a:miter/>
          </a:ln>
          <a:effectLst>
            <a:outerShdw dist="38183" dir="2700000" blurRad="0" rotWithShape="0">
              <a:srgbClr val="cc66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7790 Spesen d. Geldverkeh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 2800 (3110) 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58280" y="5897520"/>
            <a:ext cx="3556080" cy="45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visionen, Gebühren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8"/>
          <p:cNvSpPr/>
          <p:nvPr/>
        </p:nvSpPr>
        <p:spPr>
          <a:xfrm>
            <a:off x="239400" y="120600"/>
            <a:ext cx="38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buchung von Abschlusspos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091"/>
          <p:cNvSpPr/>
          <p:nvPr/>
        </p:nvSpPr>
        <p:spPr>
          <a:xfrm>
            <a:off x="111240" y="85680"/>
            <a:ext cx="9685080" cy="48420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Grafik 8" descr="bauerpoint.gif"/>
          <p:cNvPicPr/>
          <p:nvPr/>
        </p:nvPicPr>
        <p:blipFill>
          <a:blip r:embed="rId2"/>
          <a:stretch/>
        </p:blipFill>
        <p:spPr>
          <a:xfrm>
            <a:off x="8537400" y="109440"/>
            <a:ext cx="1202040" cy="432000"/>
          </a:xfrm>
          <a:prstGeom prst="rect">
            <a:avLst/>
          </a:prstGeom>
          <a:ln w="0">
            <a:noFill/>
          </a:ln>
        </p:spPr>
      </p:pic>
      <p:sp>
        <p:nvSpPr>
          <p:cNvPr id="158" name="Textfeld 13"/>
          <p:cNvSpPr/>
          <p:nvPr/>
        </p:nvSpPr>
        <p:spPr>
          <a:xfrm>
            <a:off x="195120" y="900000"/>
            <a:ext cx="38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Grundlage: Kontoauszu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5343480" y="952560"/>
            <a:ext cx="47520" cy="59040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00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4595760" y="952560"/>
            <a:ext cx="47520" cy="59040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00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86400" y="128520"/>
            <a:ext cx="59198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ff3300"/>
                </a:solidFill>
                <a:latin typeface="Arial"/>
              </a:rPr>
              <a:t>Verbuchung von Kraftfahrzeug-Betriebskos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11160" y="2357280"/>
            <a:ext cx="9882000" cy="493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00ffff"/>
              </a:gs>
              <a:gs pos="100000">
                <a:srgbClr val="ff33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853920" y="2376360"/>
            <a:ext cx="2600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astkraftw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5517000" y="2408400"/>
            <a:ext cx="3574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KW, Kombi, Motorrä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3"/>
          <p:cNvSpPr/>
          <p:nvPr/>
        </p:nvSpPr>
        <p:spPr>
          <a:xfrm>
            <a:off x="11160" y="2914560"/>
            <a:ext cx="9882000" cy="493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00ffff"/>
              </a:gs>
              <a:gs pos="100000">
                <a:srgbClr val="ff33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8"/>
          <p:cNvSpPr/>
          <p:nvPr/>
        </p:nvSpPr>
        <p:spPr>
          <a:xfrm>
            <a:off x="4338360" y="3381480"/>
            <a:ext cx="1297440" cy="106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parat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nmeld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reibsto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9"/>
          <p:cNvSpPr/>
          <p:nvPr/>
        </p:nvSpPr>
        <p:spPr>
          <a:xfrm>
            <a:off x="4210200" y="4867200"/>
            <a:ext cx="1480320" cy="57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ersich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ers. 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21"/>
          <p:cNvSpPr/>
          <p:nvPr/>
        </p:nvSpPr>
        <p:spPr>
          <a:xfrm>
            <a:off x="4352760" y="5830920"/>
            <a:ext cx="1270080" cy="82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FZ 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KW &gt;3,5 Tonn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22"/>
          <p:cNvSpPr/>
          <p:nvPr/>
        </p:nvSpPr>
        <p:spPr>
          <a:xfrm>
            <a:off x="4695480" y="693720"/>
            <a:ext cx="5234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9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23"/>
          <p:cNvSpPr/>
          <p:nvPr/>
        </p:nvSpPr>
        <p:spPr>
          <a:xfrm>
            <a:off x="87480" y="3400560"/>
            <a:ext cx="3941640" cy="84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7330 LKW-Betriebsaufw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500 V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2700 Kassa (3220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4"/>
          <p:cNvSpPr/>
          <p:nvPr/>
        </p:nvSpPr>
        <p:spPr>
          <a:xfrm>
            <a:off x="5761080" y="3376440"/>
            <a:ext cx="3957480" cy="82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7320 PKW- und Kom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triebsaufw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2700 Kassa (2800, 3190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84240" y="4713120"/>
            <a:ext cx="3941640" cy="84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7335 Versicherungsaufwand L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7331 Motorbezog. Vers.-Steuer L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2700 Kassa (2800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26"/>
          <p:cNvSpPr/>
          <p:nvPr/>
        </p:nvSpPr>
        <p:spPr>
          <a:xfrm>
            <a:off x="5803920" y="4732200"/>
            <a:ext cx="3957480" cy="84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7325 Vers. Aufwand PKW/Kom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7321 Motorbez. Versicherungs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2700 Kassa (3220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27"/>
          <p:cNvSpPr/>
          <p:nvPr/>
        </p:nvSpPr>
        <p:spPr>
          <a:xfrm>
            <a:off x="87480" y="5923080"/>
            <a:ext cx="3941640" cy="57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7332 Kraftfahrzeugsteuer  L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2700 Kassa (2800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29" descr="20040224-lkw"/>
          <p:cNvPicPr/>
          <p:nvPr/>
        </p:nvPicPr>
        <p:blipFill>
          <a:blip r:embed="rId1"/>
          <a:srcRect l="0" t="13033" r="22130" b="9590"/>
          <a:stretch/>
        </p:blipFill>
        <p:spPr>
          <a:xfrm>
            <a:off x="1285920" y="995400"/>
            <a:ext cx="1789200" cy="1317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1" descr="Misc-Smart%20Car%20in%20Helsinki%20B"/>
          <p:cNvPicPr/>
          <p:nvPr/>
        </p:nvPicPr>
        <p:blipFill>
          <a:blip r:embed="rId2"/>
          <a:srcRect l="14267" t="20643" r="15262" b="10332"/>
          <a:stretch/>
        </p:blipFill>
        <p:spPr>
          <a:xfrm>
            <a:off x="5557680" y="1035000"/>
            <a:ext cx="1758960" cy="1190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3" descr="passat%20kombi"/>
          <p:cNvPicPr/>
          <p:nvPr/>
        </p:nvPicPr>
        <p:blipFill>
          <a:blip r:embed="rId3"/>
          <a:srcRect l="8257" t="9880" r="9345" b="16710"/>
          <a:stretch/>
        </p:blipFill>
        <p:spPr>
          <a:xfrm>
            <a:off x="7483320" y="1028880"/>
            <a:ext cx="2300400" cy="120312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091"/>
          <p:cNvSpPr/>
          <p:nvPr/>
        </p:nvSpPr>
        <p:spPr>
          <a:xfrm>
            <a:off x="111240" y="85680"/>
            <a:ext cx="9685080" cy="48420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Grafik 8" descr="bauerpoint.gif"/>
          <p:cNvPicPr/>
          <p:nvPr/>
        </p:nvPicPr>
        <p:blipFill>
          <a:blip r:embed="rId4"/>
          <a:stretch/>
        </p:blipFill>
        <p:spPr>
          <a:xfrm>
            <a:off x="8537400" y="109440"/>
            <a:ext cx="1202040" cy="432000"/>
          </a:xfrm>
          <a:prstGeom prst="rect">
            <a:avLst/>
          </a:prstGeom>
          <a:ln w="0">
            <a:noFill/>
          </a:ln>
        </p:spPr>
      </p:pic>
      <p:sp>
        <p:nvSpPr>
          <p:cNvPr id="180" name="Textfeld 25"/>
          <p:cNvSpPr/>
          <p:nvPr/>
        </p:nvSpPr>
        <p:spPr>
          <a:xfrm>
            <a:off x="6636960" y="6045120"/>
            <a:ext cx="25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Keine Vorsteue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7"/>
          <p:cNvSpPr/>
          <p:nvPr/>
        </p:nvSpPr>
        <p:spPr>
          <a:xfrm>
            <a:off x="243360" y="120600"/>
            <a:ext cx="36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teueraufkommen in Österre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091"/>
          <p:cNvSpPr/>
          <p:nvPr/>
        </p:nvSpPr>
        <p:spPr>
          <a:xfrm>
            <a:off x="111240" y="85680"/>
            <a:ext cx="9685080" cy="48420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Grafik 8" descr="bauerpoint.gif"/>
          <p:cNvPicPr/>
          <p:nvPr/>
        </p:nvPicPr>
        <p:blipFill>
          <a:blip r:embed="rId1"/>
          <a:stretch/>
        </p:blipFill>
        <p:spPr>
          <a:xfrm>
            <a:off x="8537400" y="109440"/>
            <a:ext cx="1202040" cy="432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"/>
          <p:cNvPicPr/>
          <p:nvPr/>
        </p:nvPicPr>
        <p:blipFill>
          <a:blip r:embed="rId2"/>
          <a:srcRect l="8061" t="34917" r="64851" b="12409"/>
          <a:stretch/>
        </p:blipFill>
        <p:spPr>
          <a:xfrm>
            <a:off x="450720" y="792000"/>
            <a:ext cx="3697560" cy="57531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"/>
          <p:cNvPicPr/>
          <p:nvPr/>
        </p:nvPicPr>
        <p:blipFill>
          <a:blip r:embed="rId3"/>
          <a:srcRect l="55505" t="35821" r="5858" b="12409"/>
          <a:stretch/>
        </p:blipFill>
        <p:spPr>
          <a:xfrm>
            <a:off x="4146480" y="887400"/>
            <a:ext cx="5245200" cy="5622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grundstueck_02_02b"/>
          <p:cNvPicPr/>
          <p:nvPr/>
        </p:nvPicPr>
        <p:blipFill>
          <a:blip r:embed="rId1"/>
          <a:srcRect l="17775" t="14585" r="29790" b="14372"/>
          <a:stretch/>
        </p:blipFill>
        <p:spPr>
          <a:xfrm>
            <a:off x="8018640" y="752400"/>
            <a:ext cx="1295280" cy="1316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steuern"/>
          <p:cNvPicPr/>
          <p:nvPr/>
        </p:nvPicPr>
        <p:blipFill>
          <a:blip r:embed="rId2"/>
          <a:stretch/>
        </p:blipFill>
        <p:spPr>
          <a:xfrm>
            <a:off x="5867280" y="708120"/>
            <a:ext cx="1138320" cy="13381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pl-no-privat"/>
          <p:cNvPicPr/>
          <p:nvPr/>
        </p:nvPicPr>
        <p:blipFill>
          <a:blip r:embed="rId3">
            <a:lum bright="12000"/>
          </a:blip>
          <a:srcRect l="0" t="0" r="54874" b="56820"/>
          <a:stretch/>
        </p:blipFill>
        <p:spPr>
          <a:xfrm>
            <a:off x="3235320" y="728640"/>
            <a:ext cx="1779480" cy="1278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Fenster zum schliessen anklicken"/>
          <p:cNvPicPr/>
          <p:nvPr/>
        </p:nvPicPr>
        <p:blipFill>
          <a:blip r:embed="rId4"/>
          <a:srcRect l="26238" t="29782" r="7378" b="27918"/>
          <a:stretch/>
        </p:blipFill>
        <p:spPr>
          <a:xfrm>
            <a:off x="546120" y="723960"/>
            <a:ext cx="2360520" cy="11286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789120" y="1798560"/>
            <a:ext cx="1915920" cy="558720"/>
          </a:xfrm>
          <a:prstGeom prst="rect">
            <a:avLst/>
          </a:prstGeom>
          <a:solidFill>
            <a:srgbClr val="d6d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triebssteu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3164040" y="1797120"/>
            <a:ext cx="1915920" cy="558720"/>
          </a:xfrm>
          <a:prstGeom prst="rect">
            <a:avLst/>
          </a:prstGeom>
          <a:solidFill>
            <a:srgbClr val="d6d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vatsteu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5427720" y="1795320"/>
            <a:ext cx="1917720" cy="559080"/>
          </a:xfrm>
          <a:prstGeom prst="rect">
            <a:avLst/>
          </a:prstGeom>
          <a:solidFill>
            <a:srgbClr val="d6d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trieb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urchlaufsteu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7746840" y="1793880"/>
            <a:ext cx="1916280" cy="558720"/>
          </a:xfrm>
          <a:prstGeom prst="rect">
            <a:avLst/>
          </a:prstGeom>
          <a:solidFill>
            <a:srgbClr val="d6d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ktivierungspf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eu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0"/>
          <p:cNvSpPr/>
          <p:nvPr/>
        </p:nvSpPr>
        <p:spPr>
          <a:xfrm rot="16200000">
            <a:off x="-622800" y="3056400"/>
            <a:ext cx="1915920" cy="559080"/>
          </a:xfrm>
          <a:prstGeom prst="rect">
            <a:avLst/>
          </a:prstGeom>
          <a:solidFill>
            <a:srgbClr val="d6d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rkm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1"/>
          <p:cNvSpPr/>
          <p:nvPr/>
        </p:nvSpPr>
        <p:spPr>
          <a:xfrm rot="16200000">
            <a:off x="-797400" y="5320080"/>
            <a:ext cx="2265480" cy="559080"/>
          </a:xfrm>
          <a:prstGeom prst="rect">
            <a:avLst/>
          </a:prstGeom>
          <a:solidFill>
            <a:srgbClr val="d6d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buch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690840" y="2631960"/>
            <a:ext cx="1659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euerlich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bzugsfähig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s Aufw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bu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3"/>
          <p:cNvSpPr/>
          <p:nvPr/>
        </p:nvSpPr>
        <p:spPr>
          <a:xfrm>
            <a:off x="3009600" y="2637000"/>
            <a:ext cx="22680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euerlich nich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bzugsfähig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icht als Aufwand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erbuch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4"/>
          <p:cNvSpPr/>
          <p:nvPr/>
        </p:nvSpPr>
        <p:spPr>
          <a:xfrm>
            <a:off x="5377320" y="2631960"/>
            <a:ext cx="1929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bindlichkei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gegenüber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Finanza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5"/>
          <p:cNvSpPr/>
          <p:nvPr/>
        </p:nvSpPr>
        <p:spPr>
          <a:xfrm>
            <a:off x="7716240" y="2638440"/>
            <a:ext cx="18964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buchung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auf Bestands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ko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6"/>
          <p:cNvSpPr/>
          <p:nvPr/>
        </p:nvSpPr>
        <p:spPr>
          <a:xfrm>
            <a:off x="696960" y="4457880"/>
            <a:ext cx="2297160" cy="60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9999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7100 Grund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2700 Kassa (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7"/>
          <p:cNvSpPr/>
          <p:nvPr/>
        </p:nvSpPr>
        <p:spPr>
          <a:xfrm>
            <a:off x="685800" y="5867280"/>
            <a:ext cx="2263680" cy="84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9999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7332 KFZ-Steuer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2700 Kassa (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8"/>
          <p:cNvSpPr/>
          <p:nvPr/>
        </p:nvSpPr>
        <p:spPr>
          <a:xfrm>
            <a:off x="2992320" y="5229360"/>
            <a:ext cx="2287800" cy="60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9999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9600 Priv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2700 Kassa (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9"/>
          <p:cNvSpPr/>
          <p:nvPr/>
        </p:nvSpPr>
        <p:spPr>
          <a:xfrm>
            <a:off x="5288040" y="4422600"/>
            <a:ext cx="2287440" cy="60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9999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200 Gehä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3540 Vblk. F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20"/>
          <p:cNvSpPr/>
          <p:nvPr/>
        </p:nvSpPr>
        <p:spPr>
          <a:xfrm>
            <a:off x="7535880" y="5265720"/>
            <a:ext cx="2289240" cy="60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9999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0200 Unb. Grund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 2700 Kassa (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21"/>
          <p:cNvSpPr/>
          <p:nvPr/>
        </p:nvSpPr>
        <p:spPr>
          <a:xfrm>
            <a:off x="269280" y="120600"/>
            <a:ext cx="44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erkmale und Verbuchung von Steu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091"/>
          <p:cNvSpPr/>
          <p:nvPr/>
        </p:nvSpPr>
        <p:spPr>
          <a:xfrm>
            <a:off x="111240" y="85680"/>
            <a:ext cx="9685080" cy="48420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Grafik 8" descr="bauerpoint.gif"/>
          <p:cNvPicPr/>
          <p:nvPr/>
        </p:nvPicPr>
        <p:blipFill>
          <a:blip r:embed="rId5"/>
          <a:stretch/>
        </p:blipFill>
        <p:spPr>
          <a:xfrm>
            <a:off x="8537400" y="109440"/>
            <a:ext cx="1202040" cy="432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279360" y="1303200"/>
            <a:ext cx="6634080" cy="1347840"/>
          </a:xfrm>
          <a:prstGeom prst="rect">
            <a:avLst/>
          </a:prstGeom>
          <a:noFill/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874960" y="1614600"/>
            <a:ext cx="3714840" cy="64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9999"/>
            </a:solidFill>
            <a:miter/>
          </a:ln>
          <a:effectLst>
            <a:outerShdw dist="38183" dir="2700000" blurRad="0" rotWithShape="0">
              <a:srgbClr val="ff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7780 Kammeruml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 2700 Kassa (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430920" y="1674720"/>
            <a:ext cx="1650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Zahl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2881440" y="3610080"/>
            <a:ext cx="3717720" cy="64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9999"/>
            </a:solidFill>
            <a:miter/>
          </a:ln>
          <a:effectLst>
            <a:outerShdw dist="38183" dir="2700000" blurRad="0" rotWithShape="0">
              <a:srgbClr val="ff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7780 Kammeruml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 3540 Vblk. Finanzam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2881440" y="4905360"/>
            <a:ext cx="3703680" cy="64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9999"/>
            </a:solidFill>
            <a:miter/>
          </a:ln>
          <a:effectLst>
            <a:outerShdw dist="38183" dir="2700000" blurRad="0" rotWithShape="0">
              <a:srgbClr val="ff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540 Vblk. Finanzam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 2700 Kassa (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214920" y="3736800"/>
            <a:ext cx="245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Jahresabschlu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762120" y="4991040"/>
            <a:ext cx="1283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Zah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977400" y="3840120"/>
            <a:ext cx="8373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800" spc="-1" strike="noStrike">
                <a:solidFill>
                  <a:srgbClr val="009999"/>
                </a:solidFill>
                <a:latin typeface="Arial"/>
              </a:rPr>
              <a:t>+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85840" y="3481560"/>
            <a:ext cx="6634080" cy="2368440"/>
          </a:xfrm>
          <a:prstGeom prst="rect">
            <a:avLst/>
          </a:prstGeom>
          <a:noFill/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18" descr="Bild: Logo Wirtschaftskammer Österreich. Bildquelle: Wirtschaftskammer Österreich"/>
          <p:cNvPicPr/>
          <p:nvPr/>
        </p:nvPicPr>
        <p:blipFill>
          <a:blip r:embed="rId1"/>
          <a:stretch/>
        </p:blipFill>
        <p:spPr>
          <a:xfrm>
            <a:off x="7205760" y="654120"/>
            <a:ext cx="2454120" cy="17002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19"/>
          <p:cNvSpPr/>
          <p:nvPr/>
        </p:nvSpPr>
        <p:spPr>
          <a:xfrm>
            <a:off x="234000" y="12060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buchung der Kammeruml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0"/>
          <p:cNvSpPr/>
          <p:nvPr/>
        </p:nvSpPr>
        <p:spPr>
          <a:xfrm>
            <a:off x="448200" y="3095640"/>
            <a:ext cx="38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Zahlung </a:t>
            </a: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4. Quartal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im folgendem Jah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1"/>
          <p:cNvSpPr/>
          <p:nvPr/>
        </p:nvSpPr>
        <p:spPr>
          <a:xfrm>
            <a:off x="406080" y="950760"/>
            <a:ext cx="235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Zahlung 1. - 3. Quart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091"/>
          <p:cNvSpPr/>
          <p:nvPr/>
        </p:nvSpPr>
        <p:spPr>
          <a:xfrm>
            <a:off x="111240" y="85680"/>
            <a:ext cx="9685080" cy="48420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Grafik 8" descr="bauerpoint.gif"/>
          <p:cNvPicPr/>
          <p:nvPr/>
        </p:nvPicPr>
        <p:blipFill>
          <a:blip r:embed="rId2"/>
          <a:stretch/>
        </p:blipFill>
        <p:spPr>
          <a:xfrm>
            <a:off x="8537400" y="109440"/>
            <a:ext cx="1202040" cy="432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8" descr="http://portal.wko.at/doc/images/1429/1338103.JPG"/>
          <p:cNvPicPr/>
          <p:nvPr/>
        </p:nvPicPr>
        <p:blipFill>
          <a:blip r:embed="rId3"/>
          <a:stretch/>
        </p:blipFill>
        <p:spPr>
          <a:xfrm>
            <a:off x="7315200" y="4121280"/>
            <a:ext cx="2313000" cy="13190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0" descr="http://www.bmvbs.de/Bild/original_1061007/Investitionen-in-den-Bau-stabilisieren-die-Wirtschaft.jpg"/>
          <p:cNvPicPr/>
          <p:nvPr/>
        </p:nvPicPr>
        <p:blipFill>
          <a:blip r:embed="rId4"/>
          <a:stretch/>
        </p:blipFill>
        <p:spPr>
          <a:xfrm>
            <a:off x="7261200" y="2227320"/>
            <a:ext cx="2398680" cy="1805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3T16:37:41Z</dcterms:created>
  <dc:creator>Mag. Helmut Bauer</dc:creator>
  <dc:description/>
  <dc:language>en-US</dc:language>
  <cp:lastModifiedBy>Mag. Helmut Bauer</cp:lastModifiedBy>
  <dcterms:modified xsi:type="dcterms:W3CDTF">2010-09-07T12:34:32Z</dcterms:modified>
  <cp:revision>48</cp:revision>
  <dc:subject/>
  <dc:title>PowerPoint-Präsentation</dc:title>
</cp:coreProperties>
</file>