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29.wmf" ContentType="image/x-wmf"/>
  <Override PartName="/ppt/media/image27.wmf" ContentType="image/x-wmf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11.wmf" ContentType="image/x-wmf"/>
  <Override PartName="/ppt/media/image17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0.png" ContentType="image/png"/>
  <Override PartName="/ppt/media/image30.wmf" ContentType="image/x-wmf"/>
  <Override PartName="/ppt/media/image12.jpeg" ContentType="image/jpeg"/>
  <Override PartName="/ppt/media/image28.wmf" ContentType="image/x-wmf"/>
  <Override PartName="/ppt/media/image3.jpeg" ContentType="image/jpeg"/>
  <Override PartName="/ppt/media/image18.wmf" ContentType="image/x-wmf"/>
  <Override PartName="/ppt/media/image2.jpeg" ContentType="image/jpeg"/>
  <Override PartName="/ppt/media/image9.jpeg" ContentType="image/jpeg"/>
  <Override PartName="/ppt/media/image23.wmf" ContentType="image/x-wmf"/>
  <Override PartName="/ppt/media/image1.wmf" ContentType="image/x-wmf"/>
  <Override PartName="/ppt/media/image14.wmf" ContentType="image/x-wmf"/>
  <Override PartName="/ppt/media/image15.jpeg" ContentType="image/jpeg"/>
  <Override PartName="/ppt/media/image16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636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780000" y="0"/>
            <a:ext cx="291600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de-A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96600" y="764640"/>
            <a:ext cx="5305320" cy="36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866880" y="4665600"/>
            <a:ext cx="4883040" cy="4438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335880"/>
            <a:ext cx="2916360" cy="53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de-A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780000" y="9335880"/>
            <a:ext cx="2916000" cy="53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de-A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454E25-DFD1-437B-9949-6EE741EF4B17}" type="slidenum">
              <a:rPr b="0" lang="de-A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780000" y="9335880"/>
            <a:ext cx="2916000" cy="53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8FC612-4A4F-4F56-98FC-3BECF0E2A921}" type="slidenum">
              <a:rPr b="0" lang="de-A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9335880"/>
            <a:ext cx="2916360" cy="53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1636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780000" y="0"/>
            <a:ext cx="291600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835200" y="860400"/>
            <a:ext cx="4994280" cy="34574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887400" y="4687560"/>
            <a:ext cx="4888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A40-BF33-4494-9E81-8645E971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494-E5A9-4142-ACBC-DA7A3288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585-1C42-4DA6-B32B-922A3BC1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62E-2ED6-42AC-91FF-33E6107F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A636-EF5E-4A92-BAAF-DFCB6542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9E7-CCAA-4421-9F75-14F37C77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3383-1A51-4A17-B0A7-E7871F0D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23C-5048-42DF-92B9-A607016F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862-2739-4C08-952C-4A804006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ABB-2F0B-4618-9BC9-5D06E911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747-3B9C-40B2-8382-954CA04A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D96-5B73-44CD-9E0D-9CE58F5E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785D-205A-4CBF-BC45-2DB2F84C1B57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5381640" y="44280"/>
            <a:ext cx="4417920" cy="567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 bauerpoint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9455040" y="111240"/>
          <a:ext cx="257400" cy="2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55040" y="111240"/>
                    <a:ext cx="2574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5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2600" y="1476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 Teilbereiche des Rechnungswese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5381640" y="44280"/>
            <a:ext cx="4417920" cy="567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 bauerpoint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455040" y="111240"/>
          <a:ext cx="257400" cy="2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55040" y="111240"/>
                    <a:ext cx="2574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98280" y="3097080"/>
            <a:ext cx="194472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uchführ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112680" y="4853160"/>
            <a:ext cx="2016000" cy="151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ufzeichnungen der Geschäftsfäl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rmittlung des Gewinnes / Verlust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2655720" y="4829040"/>
            <a:ext cx="2016360" cy="151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rundlage für die Berechnung der Preis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5294160" y="4829040"/>
            <a:ext cx="2016360" cy="151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arstellung und Auswertung der Zahlen des Rechnungswesen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7854840" y="4829040"/>
            <a:ext cx="1944720" cy="151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lanung zukünftiger Ereignisse aufgrund der gewonnenen Zahl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905040" y="3989520"/>
            <a:ext cx="288720" cy="72072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2641680" y="3073320"/>
            <a:ext cx="1944720" cy="79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Kosten-rechn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5280120" y="3073320"/>
            <a:ext cx="194472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etrieblic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Verdana"/>
              </a:rPr>
              <a:t>Statist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7840800" y="3073320"/>
            <a:ext cx="194472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Planungs-rechn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3449520" y="3965400"/>
            <a:ext cx="289080" cy="721080"/>
          </a:xfrm>
          <a:prstGeom prst="downArrow">
            <a:avLst>
              <a:gd name="adj1" fmla="val 50000"/>
              <a:gd name="adj2" fmla="val 623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8718480" y="3965400"/>
            <a:ext cx="289080" cy="721080"/>
          </a:xfrm>
          <a:prstGeom prst="downArrow">
            <a:avLst>
              <a:gd name="adj1" fmla="val 50000"/>
              <a:gd name="adj2" fmla="val 623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6086520" y="3965400"/>
            <a:ext cx="288720" cy="721080"/>
          </a:xfrm>
          <a:prstGeom prst="downArrow">
            <a:avLst>
              <a:gd name="adj1" fmla="val 50000"/>
              <a:gd name="adj2" fmla="val 624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8280" y="836640"/>
            <a:ext cx="9695160" cy="20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51480" y="69840"/>
            <a:ext cx="46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riebsüberleitungsbogen zu Übung: 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 flipH="1">
            <a:off x="0" y="1971720"/>
            <a:ext cx="1387440" cy="3557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420920" y="1328760"/>
            <a:ext cx="8415360" cy="55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422360" y="1320840"/>
            <a:ext cx="0" cy="5253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081160" y="1320840"/>
            <a:ext cx="0" cy="5253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4275000" y="1320840"/>
            <a:ext cx="0" cy="5253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5745240" y="1320840"/>
            <a:ext cx="0" cy="5253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108920" y="1320840"/>
            <a:ext cx="0" cy="5253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8472600" y="1320840"/>
            <a:ext cx="0" cy="5253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9836280" y="1320840"/>
            <a:ext cx="0" cy="5253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419120" y="1440000"/>
            <a:ext cx="68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Kon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2153160" y="1438200"/>
            <a:ext cx="195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Aufwands-/Kostena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4286160" y="143820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Aufwendung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6245640" y="119376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7661520" y="12445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8784000" y="143820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Kost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1425600" y="231624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425600" y="276696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1425600" y="321804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1425600" y="366876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1425600" y="411948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425600" y="457056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1425600" y="502128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1425600" y="547200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425600" y="592308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1425600" y="637380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08440" y="127080"/>
            <a:ext cx="29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inzel- und Gemein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1897200" y="1231920"/>
            <a:ext cx="3609720" cy="12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Einzelko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5513400" y="1239840"/>
            <a:ext cx="3610080" cy="12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Gemeinko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3373560"/>
            <a:ext cx="3609720" cy="12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Kostenste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897200" y="5221440"/>
            <a:ext cx="7219800" cy="12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Kostenträ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6022800" y="3994200"/>
            <a:ext cx="0" cy="635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7880400" y="3994200"/>
            <a:ext cx="0" cy="635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8469360" y="3994200"/>
            <a:ext cx="0" cy="635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3121200" y="3498840"/>
            <a:ext cx="1143000" cy="1523880"/>
          </a:xfrm>
          <a:prstGeom prst="downArrow">
            <a:avLst>
              <a:gd name="adj1" fmla="val 50000"/>
              <a:gd name="adj2" fmla="val 33331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2394360" y="311472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irekte Zurechn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6846840" y="2546280"/>
            <a:ext cx="114300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6813720" y="4681440"/>
            <a:ext cx="114300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5927040" y="301140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indirekte Zurechn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 flipH="1">
            <a:off x="380880" y="1959120"/>
            <a:ext cx="1387440" cy="3557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659640" y="244440"/>
            <a:ext cx="2811240" cy="1433520"/>
          </a:xfrm>
          <a:prstGeom prst="irregularSeal2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lfsmaterial, Hilfslöhne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ehälter, LNK, GNK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1442880" y="433440"/>
            <a:ext cx="2811600" cy="1433520"/>
          </a:xfrm>
          <a:prstGeom prst="irregularSeal2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rtigungsmater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rtigungslöh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7980480" y="3614760"/>
            <a:ext cx="1925640" cy="981000"/>
          </a:xfrm>
          <a:prstGeom prst="irregularSeal2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terial,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ertigun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Verwaltung…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1604880" y="5272200"/>
            <a:ext cx="2649600" cy="1585800"/>
          </a:xfrm>
          <a:prstGeom prst="irregularSeal2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inzeln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duk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2560" y="141120"/>
            <a:ext cx="47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Überblick Kostenstellen- &amp; trägerrechn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1897200" y="1231920"/>
            <a:ext cx="3609720" cy="12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Einzelko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5513400" y="1239840"/>
            <a:ext cx="3610080" cy="12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Gemeinko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5511960" y="3373560"/>
            <a:ext cx="3609720" cy="12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Kostenste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1897200" y="5221440"/>
            <a:ext cx="7219800" cy="12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Kostenträ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6022800" y="3994200"/>
            <a:ext cx="0" cy="635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7880400" y="3994200"/>
            <a:ext cx="0" cy="635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8469360" y="3994200"/>
            <a:ext cx="0" cy="635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3121200" y="3498840"/>
            <a:ext cx="1143000" cy="1523880"/>
          </a:xfrm>
          <a:prstGeom prst="downArrow">
            <a:avLst>
              <a:gd name="adj1" fmla="val 50000"/>
              <a:gd name="adj2" fmla="val 33331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2394360" y="311472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irekte Zurechn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6846840" y="2546280"/>
            <a:ext cx="114300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6813720" y="4681440"/>
            <a:ext cx="114300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5927040" y="301140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indirekte Zurechn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 flipH="1">
            <a:off x="380880" y="1959120"/>
            <a:ext cx="1387440" cy="3557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533600" y="1008000"/>
            <a:ext cx="1004760" cy="1005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8558280" y="1969920"/>
            <a:ext cx="1347840" cy="11541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58520" y="1074600"/>
            <a:ext cx="77220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ter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8879040" y="1727280"/>
            <a:ext cx="79956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ehäl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5075280" y="3873600"/>
            <a:ext cx="1398600" cy="1049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047920" y="3675240"/>
            <a:ext cx="88020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rtigu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rcRect l="49386" t="13065" r="0" b="5864"/>
          <a:stretch/>
        </p:blipFill>
        <p:spPr>
          <a:xfrm>
            <a:off x="8159760" y="5452920"/>
            <a:ext cx="1467000" cy="1333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770320" y="5329080"/>
            <a:ext cx="75528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hran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32120" y="12708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ostenstel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49400" y="1171440"/>
            <a:ext cx="4925880" cy="3697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17360" y="1106640"/>
            <a:ext cx="169092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ispiel Fertigu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694480" y="890640"/>
            <a:ext cx="3463920" cy="29638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7643160" y="757080"/>
            <a:ext cx="206604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ispiel Verwaltu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338800" y="417024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6421320" y="4530600"/>
            <a:ext cx="1781280" cy="1781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8016840" y="539604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503120" y="4305240"/>
            <a:ext cx="211176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ispiel Material/Lag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9480" y="12708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riebsabrechnungsbo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219240" y="977760"/>
            <a:ext cx="8970840" cy="6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2112840" y="981000"/>
            <a:ext cx="0" cy="5877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354480" y="981000"/>
            <a:ext cx="0" cy="5877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3349800" y="1309680"/>
            <a:ext cx="5843520" cy="46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4199040" y="1314360"/>
            <a:ext cx="0" cy="5543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5181480" y="99216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Kostenstell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2220840" y="97956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Gesamt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85840" y="1096920"/>
            <a:ext cx="15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Kostenar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23920" y="960480"/>
            <a:ext cx="0" cy="58975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5030640" y="1314360"/>
            <a:ext cx="7920" cy="5543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5862600" y="1314360"/>
            <a:ext cx="0" cy="5543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6694560" y="1314360"/>
            <a:ext cx="0" cy="5543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7526160" y="1314360"/>
            <a:ext cx="0" cy="5543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8358120" y="1314360"/>
            <a:ext cx="0" cy="5543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9190080" y="1314360"/>
            <a:ext cx="0" cy="5543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222120" y="187812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225360" y="215280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242712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231840" y="2701800"/>
            <a:ext cx="8967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235080" y="2976480"/>
            <a:ext cx="8967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237960" y="325116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241200" y="352584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4440" y="380052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247680" y="4075200"/>
            <a:ext cx="8967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225360" y="434988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462456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9240" y="4898880"/>
            <a:ext cx="8967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235080" y="5173560"/>
            <a:ext cx="8967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25360" y="544824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572292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656480" y="279360"/>
            <a:ext cx="1963800" cy="10461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44440" y="598176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225360" y="624852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235080" y="6515280"/>
            <a:ext cx="8967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230040" y="678168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5536080" y="65556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twas mehr Tempo bitte..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32200" y="14112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atzkalku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1368360" y="11556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2802" t="21096" r="51191" b="31707"/>
          <a:stretch/>
        </p:blipFill>
        <p:spPr>
          <a:xfrm>
            <a:off x="258840" y="1025640"/>
            <a:ext cx="6953040" cy="53496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896160" y="804960"/>
            <a:ext cx="2423880" cy="29811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7021440" y="4433760"/>
            <a:ext cx="2498760" cy="21193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223240" y="865080"/>
            <a:ext cx="2241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on den Produktions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osten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6799680" y="6310440"/>
            <a:ext cx="21117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um Verkaufspre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68120" y="12708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ostenrechn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0" t="32835" r="28388" b="13063"/>
          <a:stretch/>
        </p:blipFill>
        <p:spPr>
          <a:xfrm>
            <a:off x="295200" y="932040"/>
            <a:ext cx="9033120" cy="51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8505720" y="0"/>
            <a:ext cx="1400400" cy="22096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27960" y="128520"/>
            <a:ext cx="42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Äquivalenzzahlenkalkulation - Vorl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816120" y="1596960"/>
            <a:ext cx="7888320" cy="68112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>
            <a:off x="816120" y="1598760"/>
            <a:ext cx="0" cy="31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2130480" y="1598760"/>
            <a:ext cx="0" cy="31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3444840" y="1598760"/>
            <a:ext cx="0" cy="31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4759200" y="1598760"/>
            <a:ext cx="0" cy="31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073920" y="1598760"/>
            <a:ext cx="0" cy="31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7388280" y="1598760"/>
            <a:ext cx="0" cy="31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8702640" y="1598760"/>
            <a:ext cx="0" cy="31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812880" y="2577960"/>
            <a:ext cx="78994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803160" y="2921040"/>
            <a:ext cx="78994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793800" y="3263760"/>
            <a:ext cx="78994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784080" y="3606840"/>
            <a:ext cx="78994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774720" y="3949560"/>
            <a:ext cx="78994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765000" y="4292640"/>
            <a:ext cx="78994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4635360"/>
            <a:ext cx="78994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6320" y="1411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ostenar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914400" y="1708200"/>
            <a:ext cx="2088720" cy="2082240"/>
            <a:chOff x="914400" y="1708200"/>
            <a:chExt cx="2088720" cy="2082240"/>
          </a:xfrm>
        </p:grpSpPr>
        <p:grpSp>
          <p:nvGrpSpPr>
            <p:cNvPr id="314" name=""/>
            <p:cNvGrpSpPr/>
            <p:nvPr/>
          </p:nvGrpSpPr>
          <p:grpSpPr>
            <a:xfrm>
              <a:off x="946080" y="1708200"/>
              <a:ext cx="2057040" cy="2058480"/>
              <a:chOff x="946080" y="1708200"/>
              <a:chExt cx="2057040" cy="2058480"/>
            </a:xfrm>
          </p:grpSpPr>
          <p:sp>
            <p:nvSpPr>
              <p:cNvPr id="315" name=""/>
              <p:cNvSpPr/>
              <p:nvPr/>
            </p:nvSpPr>
            <p:spPr>
              <a:xfrm>
                <a:off x="946080" y="1708200"/>
                <a:ext cx="0" cy="20570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946080" y="3765240"/>
                <a:ext cx="2057040" cy="14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1080720" y="37382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52440" y="37382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23800" y="37382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95160" y="37382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66520" y="37382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38240" y="37382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09600" y="37382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80960" y="37382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52320" y="37382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24040" y="37382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95400" y="37382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66760" y="37382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19080" y="3628800"/>
              <a:ext cx="56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14400" y="350028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14400" y="337176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14400" y="324288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14400" y="311436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14400" y="298584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14400" y="285732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14400" y="272880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14400" y="259992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14400" y="247140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14400" y="234288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221436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14400" y="208584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14400" y="195696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14400" y="182844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911160" y="4438800"/>
            <a:ext cx="2088720" cy="2082240"/>
            <a:chOff x="911160" y="4438800"/>
            <a:chExt cx="2088720" cy="2082240"/>
          </a:xfrm>
        </p:grpSpPr>
        <p:grpSp>
          <p:nvGrpSpPr>
            <p:cNvPr id="345" name=""/>
            <p:cNvGrpSpPr/>
            <p:nvPr/>
          </p:nvGrpSpPr>
          <p:grpSpPr>
            <a:xfrm>
              <a:off x="942840" y="4438800"/>
              <a:ext cx="2057040" cy="2058480"/>
              <a:chOff x="942840" y="4438800"/>
              <a:chExt cx="2057040" cy="2058480"/>
            </a:xfrm>
          </p:grpSpPr>
          <p:sp>
            <p:nvSpPr>
              <p:cNvPr id="346" name=""/>
              <p:cNvSpPr/>
              <p:nvPr/>
            </p:nvSpPr>
            <p:spPr>
              <a:xfrm>
                <a:off x="942840" y="4438800"/>
                <a:ext cx="0" cy="20570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942840" y="6495840"/>
                <a:ext cx="2057040" cy="14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1077480" y="64688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49200" y="64688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20560" y="64688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91920" y="64688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63280" y="64688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35000" y="64688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06360" y="64688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77720" y="64688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49080" y="64688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20800" y="64688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92160" y="64688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63520" y="6468840"/>
              <a:ext cx="0" cy="52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15840" y="6359400"/>
              <a:ext cx="56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11160" y="623088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11160" y="610236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11160" y="597348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11160" y="584496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11160" y="571644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11160" y="558792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11160" y="545940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11160" y="533052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11160" y="520200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11160" y="507348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1160" y="494496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1160" y="481644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11160" y="468756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11160" y="4559040"/>
              <a:ext cx="5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82520" y="974880"/>
            <a:ext cx="26035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Verdana"/>
              </a:rPr>
              <a:t>Fixkos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3800" y="154296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Kost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60560" y="437508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Kost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3043440" y="3613320"/>
            <a:ext cx="6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Stüc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3014640" y="6343560"/>
            <a:ext cx="6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Stüc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4245120" y="1881360"/>
            <a:ext cx="5471640" cy="4671000"/>
            <a:chOff x="4245120" y="1881360"/>
            <a:chExt cx="5471640" cy="4671000"/>
          </a:xfrm>
        </p:grpSpPr>
        <p:grpSp>
          <p:nvGrpSpPr>
            <p:cNvPr id="381" name=""/>
            <p:cNvGrpSpPr/>
            <p:nvPr/>
          </p:nvGrpSpPr>
          <p:grpSpPr>
            <a:xfrm>
              <a:off x="4328640" y="1881360"/>
              <a:ext cx="5388120" cy="4617000"/>
              <a:chOff x="4328640" y="1881360"/>
              <a:chExt cx="5388120" cy="4617000"/>
            </a:xfrm>
          </p:grpSpPr>
          <p:sp>
            <p:nvSpPr>
              <p:cNvPr id="382" name=""/>
              <p:cNvSpPr/>
              <p:nvPr/>
            </p:nvSpPr>
            <p:spPr>
              <a:xfrm>
                <a:off x="4329000" y="1881360"/>
                <a:ext cx="0" cy="46130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4328640" y="6494400"/>
                <a:ext cx="5388120" cy="39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4681440" y="6434640"/>
              <a:ext cx="0" cy="117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31440" y="6434640"/>
              <a:ext cx="0" cy="117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80000" y="6434640"/>
              <a:ext cx="0" cy="117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28920" y="6434640"/>
              <a:ext cx="0" cy="117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77840" y="6434640"/>
              <a:ext cx="0" cy="117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27480" y="6434640"/>
              <a:ext cx="0" cy="117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76400" y="6434640"/>
              <a:ext cx="0" cy="117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25320" y="6434640"/>
              <a:ext cx="0" cy="117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74240" y="6434640"/>
              <a:ext cx="0" cy="117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23880" y="6434640"/>
              <a:ext cx="0" cy="117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172800" y="6434640"/>
              <a:ext cx="0" cy="117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621720" y="6434640"/>
              <a:ext cx="0" cy="117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58080" y="6189120"/>
              <a:ext cx="1486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45120" y="5900760"/>
              <a:ext cx="149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45120" y="5612760"/>
              <a:ext cx="149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45120" y="5323680"/>
              <a:ext cx="149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45120" y="5035320"/>
              <a:ext cx="149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45120" y="4747320"/>
              <a:ext cx="149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45120" y="4458960"/>
              <a:ext cx="149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45120" y="4170960"/>
              <a:ext cx="149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45120" y="3881880"/>
              <a:ext cx="149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45120" y="3593520"/>
              <a:ext cx="149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45120" y="3305160"/>
              <a:ext cx="149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45120" y="3017160"/>
              <a:ext cx="149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45120" y="2728800"/>
              <a:ext cx="149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45120" y="2439720"/>
              <a:ext cx="149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45120" y="2151720"/>
              <a:ext cx="149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3596040" y="161280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Kost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9096480" y="6553080"/>
            <a:ext cx="6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Stüc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"/>
          <p:cNvSpPr/>
          <p:nvPr/>
        </p:nvSpPr>
        <p:spPr>
          <a:xfrm>
            <a:off x="3773520" y="985680"/>
            <a:ext cx="26035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Verdana"/>
              </a:rPr>
              <a:t>variable Kos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"/>
          <p:cNvSpPr/>
          <p:nvPr/>
        </p:nvSpPr>
        <p:spPr>
          <a:xfrm>
            <a:off x="182520" y="3917880"/>
            <a:ext cx="26035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Verdana"/>
              </a:rPr>
              <a:t>sprungfixe Kos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715080" y="71280"/>
            <a:ext cx="3105360" cy="38196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289800" y="14112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lkulations- &amp; Fertigungsverfah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">
            <a:hlinkClick r:id="rId2" action="ppaction://hlinksldjump"/>
          </p:cNvPr>
          <p:cNvSpPr/>
          <p:nvPr/>
        </p:nvSpPr>
        <p:spPr>
          <a:xfrm>
            <a:off x="752400" y="4645080"/>
            <a:ext cx="2514600" cy="106668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inzel-, Serienfertigung</a:t>
            </a:r>
            <a:br>
              <a:rPr sz="1200"/>
            </a:b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verschiedenartig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icht vergleichbare Produkte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"/>
          <p:cNvSpPr/>
          <p:nvPr/>
        </p:nvSpPr>
        <p:spPr>
          <a:xfrm>
            <a:off x="1285920" y="1063800"/>
            <a:ext cx="3733920" cy="380880"/>
          </a:xfrm>
          <a:prstGeom prst="rect">
            <a:avLst/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alkulationsverfah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">
            <a:hlinkClick r:id="rId3" action="ppaction://hlinksldjump"/>
          </p:cNvPr>
          <p:cNvSpPr/>
          <p:nvPr/>
        </p:nvSpPr>
        <p:spPr>
          <a:xfrm>
            <a:off x="1743120" y="6245280"/>
            <a:ext cx="4038480" cy="422280"/>
          </a:xfrm>
          <a:prstGeom prst="rect">
            <a:avLst/>
          </a:prstGeom>
          <a:solidFill>
            <a:srgbClr val="ddf5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ertigungsverfahr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"/>
          <p:cNvSpPr/>
          <p:nvPr/>
        </p:nvSpPr>
        <p:spPr>
          <a:xfrm>
            <a:off x="3495600" y="1901880"/>
            <a:ext cx="2819520" cy="380880"/>
          </a:xfrm>
          <a:prstGeom prst="rect">
            <a:avLst/>
          </a:prstGeom>
          <a:solidFill>
            <a:srgbClr val="a3c2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Divisionskalku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"/>
          <p:cNvSpPr/>
          <p:nvPr/>
        </p:nvSpPr>
        <p:spPr>
          <a:xfrm>
            <a:off x="6391440" y="1901880"/>
            <a:ext cx="3124080" cy="380880"/>
          </a:xfrm>
          <a:prstGeom prst="rect">
            <a:avLst/>
          </a:prstGeom>
          <a:solidFill>
            <a:srgbClr val="a3c2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Verdana"/>
              </a:rPr>
              <a:t>Kuppelproduktkalkul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"/>
          <p:cNvSpPr/>
          <p:nvPr/>
        </p:nvSpPr>
        <p:spPr>
          <a:xfrm>
            <a:off x="600120" y="1901880"/>
            <a:ext cx="2819520" cy="380880"/>
          </a:xfrm>
          <a:prstGeom prst="rect">
            <a:avLst/>
          </a:prstGeom>
          <a:solidFill>
            <a:srgbClr val="a3c2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Zuschlagskalku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"/>
          <p:cNvSpPr/>
          <p:nvPr/>
        </p:nvSpPr>
        <p:spPr>
          <a:xfrm>
            <a:off x="3571920" y="2739960"/>
            <a:ext cx="1295280" cy="12193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Verdana"/>
              </a:rPr>
              <a:t>Einfache</a:t>
            </a:r>
            <a:br>
              <a:rPr sz="1500"/>
            </a:br>
            <a:r>
              <a:rPr b="1" lang="de-DE" sz="1500" spc="-1" strike="noStrike">
                <a:solidFill>
                  <a:srgbClr val="000000"/>
                </a:solidFill>
                <a:latin typeface="Verdana"/>
              </a:rPr>
              <a:t>Divisions-</a:t>
            </a:r>
            <a:br>
              <a:rPr sz="1500"/>
            </a:br>
            <a:r>
              <a:rPr b="1" lang="de-DE" sz="1500" spc="-1" strike="noStrike">
                <a:solidFill>
                  <a:srgbClr val="000000"/>
                </a:solidFill>
                <a:latin typeface="Verdana"/>
              </a:rPr>
              <a:t>kalkul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"/>
          <p:cNvSpPr/>
          <p:nvPr/>
        </p:nvSpPr>
        <p:spPr>
          <a:xfrm>
            <a:off x="2124000" y="2739960"/>
            <a:ext cx="1295640" cy="12193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um-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arisch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Zuschlags-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kalkul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"/>
          <p:cNvSpPr/>
          <p:nvPr/>
        </p:nvSpPr>
        <p:spPr>
          <a:xfrm>
            <a:off x="676440" y="2739960"/>
            <a:ext cx="1295280" cy="12193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Verdana"/>
              </a:rPr>
              <a:t>differen-</a:t>
            </a:r>
            <a:br>
              <a:rPr sz="1500"/>
            </a:br>
            <a:r>
              <a:rPr b="1" lang="de-DE" sz="1500" spc="-1" strike="noStrike">
                <a:solidFill>
                  <a:srgbClr val="000000"/>
                </a:solidFill>
                <a:latin typeface="Verdana"/>
              </a:rPr>
              <a:t>zierende</a:t>
            </a:r>
            <a:br>
              <a:rPr sz="1500"/>
            </a:br>
            <a:r>
              <a:rPr b="1" lang="de-DE" sz="1500" spc="-1" strike="noStrike">
                <a:solidFill>
                  <a:srgbClr val="000000"/>
                </a:solidFill>
                <a:latin typeface="Verdana"/>
              </a:rPr>
              <a:t>Zuschlags-</a:t>
            </a:r>
            <a:br>
              <a:rPr sz="1500"/>
            </a:br>
            <a:r>
              <a:rPr b="1" lang="de-DE" sz="1500" spc="-1" strike="noStrike">
                <a:solidFill>
                  <a:srgbClr val="000000"/>
                </a:solidFill>
                <a:latin typeface="Verdana"/>
              </a:rPr>
              <a:t>kalkul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"/>
          <p:cNvSpPr/>
          <p:nvPr/>
        </p:nvSpPr>
        <p:spPr>
          <a:xfrm>
            <a:off x="5019840" y="2739960"/>
            <a:ext cx="1295280" cy="12193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Verdana"/>
              </a:rPr>
              <a:t>Stufen-</a:t>
            </a:r>
            <a:br>
              <a:rPr sz="1500"/>
            </a:br>
            <a:r>
              <a:rPr b="1" lang="de-DE" sz="1500" spc="-1" strike="noStrike">
                <a:solidFill>
                  <a:srgbClr val="000000"/>
                </a:solidFill>
                <a:latin typeface="Verdana"/>
              </a:rPr>
              <a:t>divisions-</a:t>
            </a:r>
            <a:br>
              <a:rPr sz="1500"/>
            </a:br>
            <a:r>
              <a:rPr b="1" lang="de-DE" sz="1500" spc="-1" strike="noStrike">
                <a:solidFill>
                  <a:srgbClr val="000000"/>
                </a:solidFill>
                <a:latin typeface="Verdana"/>
              </a:rPr>
              <a:t>kalkul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"/>
          <p:cNvSpPr/>
          <p:nvPr/>
        </p:nvSpPr>
        <p:spPr>
          <a:xfrm>
            <a:off x="6467400" y="2739960"/>
            <a:ext cx="1295640" cy="12193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Verdana"/>
              </a:rPr>
              <a:t>Äquivalenz-</a:t>
            </a:r>
            <a:br>
              <a:rPr sz="1500"/>
            </a:br>
            <a:r>
              <a:rPr b="1" lang="de-DE" sz="1500" spc="-1" strike="noStrike">
                <a:solidFill>
                  <a:srgbClr val="000000"/>
                </a:solidFill>
                <a:latin typeface="Verdana"/>
              </a:rPr>
              <a:t>zahlen-</a:t>
            </a:r>
            <a:br>
              <a:rPr sz="1500"/>
            </a:br>
            <a:r>
              <a:rPr b="1" lang="de-DE" sz="1500" spc="-1" strike="noStrike">
                <a:solidFill>
                  <a:srgbClr val="000000"/>
                </a:solidFill>
                <a:latin typeface="Verdana"/>
              </a:rPr>
              <a:t>kalkul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">
            <a:hlinkClick r:id="rId4" action="ppaction://hlinksldjump"/>
          </p:cNvPr>
          <p:cNvSpPr/>
          <p:nvPr/>
        </p:nvSpPr>
        <p:spPr>
          <a:xfrm>
            <a:off x="3724200" y="4645080"/>
            <a:ext cx="2438640" cy="106668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assenfertigu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einziges Produkt;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in- oder mehrstufig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ertigung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7991640" y="4568760"/>
            <a:ext cx="1295280" cy="11430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Verdana"/>
              </a:rPr>
              <a:t>Massen-</a:t>
            </a:r>
            <a:br>
              <a:rPr sz="1300"/>
            </a:br>
            <a:r>
              <a:rPr b="1" lang="de-DE" sz="1300" spc="-1" strike="noStrike">
                <a:solidFill>
                  <a:srgbClr val="000000"/>
                </a:solidFill>
                <a:latin typeface="Verdana"/>
              </a:rPr>
              <a:t>fertigu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(Haupt-, Neben-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produkte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6467400" y="4568760"/>
            <a:ext cx="1295640" cy="11430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Verdana"/>
              </a:rPr>
              <a:t>Sorten -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Verdana"/>
              </a:rPr>
              <a:t>fertigu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(artverwandte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Produkte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971360" y="1444680"/>
            <a:ext cx="11430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>
            <a:off x="3114720" y="1444680"/>
            <a:ext cx="1828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3114720" y="1444680"/>
            <a:ext cx="480060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285560" y="228276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1971720" y="2282760"/>
            <a:ext cx="8380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4181040" y="2282760"/>
            <a:ext cx="762120" cy="43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"/>
          <p:cNvSpPr/>
          <p:nvPr/>
        </p:nvSpPr>
        <p:spPr>
          <a:xfrm>
            <a:off x="4943520" y="2282760"/>
            <a:ext cx="7621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943520" y="2282760"/>
            <a:ext cx="22096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1285920" y="39592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2733840" y="39592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4181400" y="39592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5629320" y="39592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77240" y="39592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8677440" y="22827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971720" y="5711760"/>
            <a:ext cx="1828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800520" y="5711760"/>
            <a:ext cx="12193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723840" y="5711760"/>
            <a:ext cx="34290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3723840" y="5711760"/>
            <a:ext cx="487692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7692" t="13153" r="13753" b="0"/>
          <a:stretch/>
        </p:blipFill>
        <p:spPr>
          <a:xfrm>
            <a:off x="298440" y="968400"/>
            <a:ext cx="4032360" cy="4457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0480" y="15552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ostenrechnungsstuf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114800" y="4937040"/>
            <a:ext cx="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4937040"/>
            <a:ext cx="18288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943600" y="3132000"/>
            <a:ext cx="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3132000"/>
            <a:ext cx="18288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746840" y="1324080"/>
            <a:ext cx="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7746840" y="1324080"/>
            <a:ext cx="18288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4277880" y="4202280"/>
            <a:ext cx="137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Kosten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erfass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6163560" y="2432160"/>
            <a:ext cx="13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Kosten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verteil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7768800" y="620640"/>
            <a:ext cx="161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Kosten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zurechn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4335840" y="4915080"/>
            <a:ext cx="1140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Welc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Verdana"/>
              </a:rPr>
              <a:t>Koste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6234840" y="3214800"/>
            <a:ext cx="159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Wo </a:t>
            </a:r>
            <a:r>
              <a:rPr b="0" i="1" lang="en-US" sz="1800" spc="-1" strike="noStrike">
                <a:solidFill>
                  <a:srgbClr val="3333cc"/>
                </a:solidFill>
                <a:latin typeface="Verdana"/>
              </a:rPr>
              <a:t>si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Verdana"/>
              </a:rPr>
              <a:t>sie angefal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7922520" y="1409760"/>
            <a:ext cx="159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Wofür </a:t>
            </a:r>
            <a:r>
              <a:rPr b="0" i="1" lang="en-US" sz="1800" spc="-1" strike="noStrike">
                <a:solidFill>
                  <a:srgbClr val="3333cc"/>
                </a:solidFill>
                <a:latin typeface="Verdana"/>
              </a:rPr>
              <a:t>si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Verdana"/>
              </a:rPr>
              <a:t>sie angefal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Fruit and Veg Shop"/>
          <p:cNvPicPr/>
          <p:nvPr/>
        </p:nvPicPr>
        <p:blipFill>
          <a:blip r:embed="rId1"/>
          <a:stretch/>
        </p:blipFill>
        <p:spPr>
          <a:xfrm>
            <a:off x="0" y="0"/>
            <a:ext cx="18018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23000" y="114480"/>
            <a:ext cx="2494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 Absatzkalku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 rot="5400000">
            <a:off x="338040" y="329544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gressive Absatzkalk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2914560" y="880920"/>
            <a:ext cx="0" cy="5639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719360" y="1371600"/>
            <a:ext cx="990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+ v.h.</a:t>
            </a:r>
            <a:br>
              <a:rPr sz="1700"/>
            </a:b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+ i.h.</a:t>
            </a:r>
            <a:br>
              <a:rPr sz="1700"/>
            </a:b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+i.h.</a:t>
            </a:r>
            <a:br>
              <a:rPr sz="1700"/>
            </a:b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+i.h.</a:t>
            </a:r>
            <a:br>
              <a:rPr sz="1700"/>
            </a:b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+v.h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8621280" y="880920"/>
            <a:ext cx="1451520" cy="5639040"/>
            <a:chOff x="8621280" y="880920"/>
            <a:chExt cx="1451520" cy="5639040"/>
          </a:xfrm>
        </p:grpSpPr>
        <p:sp>
          <p:nvSpPr>
            <p:cNvPr id="455" name=""/>
            <p:cNvSpPr/>
            <p:nvPr/>
          </p:nvSpPr>
          <p:spPr>
            <a:xfrm rot="16200000">
              <a:off x="6673680" y="3348000"/>
              <a:ext cx="441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5050"/>
                  </a:solidFill>
                  <a:latin typeface="Verdana"/>
                </a:rPr>
                <a:t>retrograde </a:t>
              </a:r>
              <a:r>
                <a:rPr b="1" lang="en-US" sz="2000" spc="-1" strike="noStrike">
                  <a:solidFill>
                    <a:srgbClr val="3333cc"/>
                  </a:solidFill>
                  <a:latin typeface="Verdana"/>
                </a:rPr>
                <a:t>Absatzkalkula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8621280" y="880920"/>
              <a:ext cx="7200" cy="563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082080" y="1384200"/>
              <a:ext cx="990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- </a:t>
              </a: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a.h.</a:t>
              </a:r>
              <a:br>
                <a:rPr sz="1700"/>
              </a:br>
              <a:br>
                <a:rPr sz="1700"/>
              </a:br>
              <a:br>
                <a:rPr sz="1700"/>
              </a:b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br>
                <a:rPr sz="1700"/>
              </a:br>
              <a:br>
                <a:rPr sz="1700"/>
              </a:br>
              <a:br>
                <a:rPr sz="1700"/>
              </a:b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- </a:t>
              </a: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v.h.</a:t>
              </a:r>
              <a:br>
                <a:rPr sz="1700"/>
              </a:br>
              <a:br>
                <a:rPr sz="1700"/>
              </a:br>
              <a:br>
                <a:rPr sz="1700"/>
              </a:b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- </a:t>
              </a: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v.h.</a:t>
              </a:r>
              <a:br>
                <a:rPr sz="1700"/>
              </a:br>
              <a:br>
                <a:rPr sz="1700"/>
              </a:br>
              <a:br>
                <a:rPr sz="1700"/>
              </a:b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- </a:t>
              </a: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a.h.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924280" y="1163880"/>
            <a:ext cx="5790960" cy="5412960"/>
            <a:chOff x="2924280" y="1163880"/>
            <a:chExt cx="5790960" cy="5412960"/>
          </a:xfrm>
        </p:grpSpPr>
        <p:sp>
          <p:nvSpPr>
            <p:cNvPr id="459" name=""/>
            <p:cNvSpPr/>
            <p:nvPr/>
          </p:nvSpPr>
          <p:spPr>
            <a:xfrm>
              <a:off x="3305160" y="1490760"/>
              <a:ext cx="51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924280" y="1163880"/>
              <a:ext cx="5790960" cy="5412960"/>
              <a:chOff x="2924280" y="1163880"/>
              <a:chExt cx="5790960" cy="5412960"/>
            </a:xfrm>
          </p:grpSpPr>
          <p:sp>
            <p:nvSpPr>
              <p:cNvPr id="461" name=""/>
              <p:cNvSpPr/>
              <p:nvPr/>
            </p:nvSpPr>
            <p:spPr>
              <a:xfrm>
                <a:off x="2924280" y="1163880"/>
                <a:ext cx="5790960" cy="54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Verdana"/>
                  </a:rPr>
                  <a:t>     </a:t>
                </a:r>
                <a:r>
                  <a:rPr b="0" lang="de-DE" sz="1700" spc="-1" strike="noStrike">
                    <a:solidFill>
                      <a:srgbClr val="000000"/>
                    </a:solidFill>
                    <a:latin typeface="Verdana"/>
                  </a:rPr>
                  <a:t>Selbstkosten</a:t>
                </a:r>
                <a:br>
                  <a:rPr sz="1700"/>
                </a:br>
                <a:r>
                  <a:rPr b="1" lang="de-DE" sz="1700" spc="-1" strike="noStrike">
                    <a:solidFill>
                      <a:srgbClr val="000000"/>
                    </a:solidFill>
                    <a:latin typeface="Verdana"/>
                  </a:rPr>
                  <a:t>+</a:t>
                </a:r>
                <a:r>
                  <a:rPr b="0" lang="de-DE" sz="1700" spc="-1" strike="noStrike">
                    <a:solidFill>
                      <a:srgbClr val="000000"/>
                    </a:solidFill>
                    <a:latin typeface="Verdana"/>
                  </a:rPr>
                  <a:t>  Gewinn</a:t>
                </a:r>
                <a:br>
                  <a:rPr sz="1700"/>
                </a:br>
                <a:br>
                  <a:rPr sz="1700"/>
                </a:br>
                <a:r>
                  <a:rPr b="0" lang="de-DE" sz="1700" spc="-1" strike="noStrike">
                    <a:solidFill>
                      <a:srgbClr val="000000"/>
                    </a:solidFill>
                    <a:latin typeface="Verdana"/>
                  </a:rPr>
                  <a:t>    Nettoverkaufspreis</a:t>
                </a:r>
                <a:br>
                  <a:rPr sz="1700"/>
                </a:br>
                <a:r>
                  <a:rPr b="1" lang="de-DE" sz="1700" spc="-1" strike="noStrike">
                    <a:solidFill>
                      <a:srgbClr val="000000"/>
                    </a:solidFill>
                    <a:latin typeface="Verdana"/>
                  </a:rPr>
                  <a:t>+</a:t>
                </a:r>
                <a:r>
                  <a:rPr b="0" lang="de-DE" sz="1700" spc="-1" strike="noStrike">
                    <a:solidFill>
                      <a:srgbClr val="000000"/>
                    </a:solidFill>
                    <a:latin typeface="Verdana"/>
                  </a:rPr>
                  <a:t>  nominelle Sonderkosten</a:t>
                </a:r>
                <a:br>
                  <a:rPr sz="1700"/>
                </a:br>
                <a:br>
                  <a:rPr sz="1700"/>
                </a:br>
                <a:r>
                  <a:rPr b="0" lang="de-DE" sz="1700" spc="-1" strike="noStrike">
                    <a:solidFill>
                      <a:srgbClr val="000000"/>
                    </a:solidFill>
                    <a:latin typeface="Verdana"/>
                  </a:rPr>
                  <a:t>    Zwischensumme 1</a:t>
                </a:r>
                <a:br>
                  <a:rPr sz="1700"/>
                </a:br>
                <a:r>
                  <a:rPr b="1" lang="de-DE" sz="1700" spc="-1" strike="noStrike">
                    <a:solidFill>
                      <a:srgbClr val="000000"/>
                    </a:solidFill>
                    <a:latin typeface="Verdana"/>
                  </a:rPr>
                  <a:t>+</a:t>
                </a:r>
                <a:r>
                  <a:rPr b="0" lang="de-DE" sz="1700" spc="-1" strike="noStrike">
                    <a:solidFill>
                      <a:srgbClr val="000000"/>
                    </a:solidFill>
                    <a:latin typeface="Verdana"/>
                  </a:rPr>
                  <a:t>  Verkaufsprovision</a:t>
                </a:r>
                <a:br>
                  <a:rPr sz="1700"/>
                </a:br>
                <a:br>
                  <a:rPr sz="1700"/>
                </a:br>
                <a:r>
                  <a:rPr b="0" lang="de-DE" sz="1700" spc="-1" strike="noStrike">
                    <a:solidFill>
                      <a:srgbClr val="000000"/>
                    </a:solidFill>
                    <a:latin typeface="Verdana"/>
                  </a:rPr>
                  <a:t>    Zwischensumme 2 (Kassapreis)</a:t>
                </a:r>
                <a:br>
                  <a:rPr sz="1700"/>
                </a:br>
                <a:r>
                  <a:rPr b="1" lang="de-DE" sz="1700" spc="-1" strike="noStrike">
                    <a:solidFill>
                      <a:srgbClr val="000000"/>
                    </a:solidFill>
                    <a:latin typeface="Verdana"/>
                  </a:rPr>
                  <a:t>+</a:t>
                </a:r>
                <a:r>
                  <a:rPr b="0" lang="de-DE" sz="1700" spc="-1" strike="noStrike">
                    <a:solidFill>
                      <a:srgbClr val="000000"/>
                    </a:solidFill>
                    <a:latin typeface="Verdana"/>
                  </a:rPr>
                  <a:t>  Skonto</a:t>
                </a:r>
                <a:br>
                  <a:rPr sz="1700"/>
                </a:br>
                <a:br>
                  <a:rPr sz="1700"/>
                </a:br>
                <a:r>
                  <a:rPr b="0" lang="de-DE" sz="1700" spc="-1" strike="noStrike">
                    <a:solidFill>
                      <a:srgbClr val="000000"/>
                    </a:solidFill>
                    <a:latin typeface="Verdana"/>
                  </a:rPr>
                  <a:t>    Zwischensumme 3 (Zielpreis, rabattierter Preis)</a:t>
                </a:r>
                <a:br>
                  <a:rPr sz="1700"/>
                </a:br>
                <a:r>
                  <a:rPr b="1" lang="de-DE" sz="1700" spc="-1" strike="noStrike">
                    <a:solidFill>
                      <a:srgbClr val="000000"/>
                    </a:solidFill>
                    <a:latin typeface="Verdana"/>
                  </a:rPr>
                  <a:t>+</a:t>
                </a:r>
                <a:r>
                  <a:rPr b="0" lang="de-DE" sz="1700" spc="-1" strike="noStrike">
                    <a:solidFill>
                      <a:srgbClr val="000000"/>
                    </a:solidFill>
                    <a:latin typeface="Verdana"/>
                  </a:rPr>
                  <a:t>  Rabatt</a:t>
                </a:r>
                <a:br>
                  <a:rPr sz="1700"/>
                </a:br>
                <a:br>
                  <a:rPr sz="1700"/>
                </a:br>
                <a:r>
                  <a:rPr b="0" lang="de-DE" sz="1700" spc="-1" strike="noStrike">
                    <a:solidFill>
                      <a:srgbClr val="000000"/>
                    </a:solidFill>
                    <a:latin typeface="Verdana"/>
                  </a:rPr>
                  <a:t>    Bruttoverkaufspreis (Listenpreis) exklusive USt</a:t>
                </a:r>
                <a:br>
                  <a:rPr sz="1700"/>
                </a:br>
                <a:r>
                  <a:rPr b="1" lang="de-DE" sz="1700" spc="-1" strike="noStrike">
                    <a:solidFill>
                      <a:srgbClr val="000000"/>
                    </a:solidFill>
                    <a:latin typeface="Verdana"/>
                  </a:rPr>
                  <a:t>+</a:t>
                </a:r>
                <a:r>
                  <a:rPr b="0" lang="de-DE" sz="1700" spc="-1" strike="noStrike">
                    <a:solidFill>
                      <a:srgbClr val="000000"/>
                    </a:solidFill>
                    <a:latin typeface="Verdana"/>
                  </a:rPr>
                  <a:t>  USt</a:t>
                </a:r>
                <a:br>
                  <a:rPr sz="1700"/>
                </a:br>
                <a:br>
                  <a:rPr sz="1700"/>
                </a:br>
                <a:r>
                  <a:rPr b="0" lang="de-DE" sz="17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de-DE" sz="1700" spc="-1" strike="noStrike">
                    <a:solidFill>
                      <a:srgbClr val="000000"/>
                    </a:solidFill>
                    <a:latin typeface="Verdana"/>
                  </a:rPr>
                  <a:t>Bruttoverkaufspreis (Listenpreis) inkl. USt</a:t>
                </a:r>
                <a:endParaRPr b="0" lang="en-US" sz="17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305160" y="2252520"/>
                <a:ext cx="518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305160" y="3090960"/>
                <a:ext cx="518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305160" y="3852720"/>
                <a:ext cx="518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305160" y="4614840"/>
                <a:ext cx="518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305160" y="5376960"/>
                <a:ext cx="518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305160" y="6138720"/>
                <a:ext cx="518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77120" y="141120"/>
            <a:ext cx="32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instieg Teilkostenrechn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9" name="" descr="Exciting, Distinctive, Hilton"/>
          <p:cNvPicPr/>
          <p:nvPr/>
        </p:nvPicPr>
        <p:blipFill>
          <a:blip r:embed="rId1"/>
          <a:srcRect l="0" t="0" r="0" b="21332"/>
          <a:stretch/>
        </p:blipFill>
        <p:spPr>
          <a:xfrm>
            <a:off x="243000" y="1030320"/>
            <a:ext cx="9499320" cy="12063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241200" y="2351160"/>
            <a:ext cx="4467240" cy="30114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853160" y="2347920"/>
            <a:ext cx="43606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usgangssitu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Hot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 Betten – derzeit 15 beleg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obe Kostenstrukt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l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50,- pro Ta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A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.- pro Ta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nst. Fixkosten   115,- pro Ta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inigung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14,- pro Zimm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ühstüc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8,- pro Ga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is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55,- pro Nac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80440" y="127080"/>
            <a:ext cx="46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riebsabrechnungsbogen zu Teil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>
            <a:off x="206280" y="984240"/>
            <a:ext cx="8971200" cy="35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Betriebsabrechnungsbogen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"/>
          <p:cNvSpPr/>
          <p:nvPr/>
        </p:nvSpPr>
        <p:spPr>
          <a:xfrm>
            <a:off x="2087640" y="1349280"/>
            <a:ext cx="0" cy="5308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"/>
          <p:cNvSpPr/>
          <p:nvPr/>
        </p:nvSpPr>
        <p:spPr>
          <a:xfrm>
            <a:off x="3328920" y="1349280"/>
            <a:ext cx="0" cy="5308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"/>
          <p:cNvSpPr/>
          <p:nvPr/>
        </p:nvSpPr>
        <p:spPr>
          <a:xfrm>
            <a:off x="4173480" y="1336680"/>
            <a:ext cx="0" cy="5321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"/>
          <p:cNvSpPr/>
          <p:nvPr/>
        </p:nvSpPr>
        <p:spPr>
          <a:xfrm>
            <a:off x="2345760" y="1306440"/>
            <a:ext cx="7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Gesamt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kost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"/>
          <p:cNvSpPr/>
          <p:nvPr/>
        </p:nvSpPr>
        <p:spPr>
          <a:xfrm>
            <a:off x="425520" y="1351080"/>
            <a:ext cx="143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Kostenart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"/>
          <p:cNvSpPr/>
          <p:nvPr/>
        </p:nvSpPr>
        <p:spPr>
          <a:xfrm>
            <a:off x="198360" y="1328760"/>
            <a:ext cx="7920" cy="5329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"/>
          <p:cNvSpPr/>
          <p:nvPr/>
        </p:nvSpPr>
        <p:spPr>
          <a:xfrm>
            <a:off x="5005440" y="1336680"/>
            <a:ext cx="0" cy="5321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5837400" y="1336680"/>
            <a:ext cx="0" cy="5321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6669000" y="1336680"/>
            <a:ext cx="0" cy="5321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7500960" y="1336680"/>
            <a:ext cx="0" cy="5321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8332920" y="1336680"/>
            <a:ext cx="0" cy="5321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>
            <a:off x="9164520" y="1682640"/>
            <a:ext cx="0" cy="4975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196920" y="1717560"/>
            <a:ext cx="8967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3445560" y="1295280"/>
            <a:ext cx="66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Fix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kost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>
            <a:off x="4271040" y="1295280"/>
            <a:ext cx="66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pro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kost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8977320" y="736560"/>
            <a:ext cx="928800" cy="11113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87200" y="192888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187200" y="213984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"/>
          <p:cNvSpPr/>
          <p:nvPr/>
        </p:nvSpPr>
        <p:spPr>
          <a:xfrm>
            <a:off x="187200" y="235116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187200" y="256212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187200" y="277344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187200" y="298440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187200" y="319572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187200" y="340668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187200" y="361800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87200" y="382896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87200" y="404028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187200" y="425124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187200" y="446256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87200" y="467352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187200" y="488484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187200" y="509580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187200" y="530712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>
            <a:off x="187200" y="551808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>
            <a:off x="187200" y="572940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187200" y="594036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87200" y="615168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187200" y="633888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187200" y="6537240"/>
            <a:ext cx="8967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3" name=""/>
          <p:cNvGraphicFramePr/>
          <p:nvPr/>
        </p:nvGraphicFramePr>
        <p:xfrm>
          <a:off x="0" y="0"/>
          <a:ext cx="474336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743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507960" y="0"/>
            <a:ext cx="37083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winnschwellenanalyse - Break Even Poi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133960" y="12600"/>
          <a:ext cx="4743360" cy="68580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3960" y="12600"/>
                    <a:ext cx="4743360" cy="6858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2840" y="14940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 Plankostenrechn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465200" y="1639800"/>
            <a:ext cx="7267680" cy="804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rmittlung/ Vorgabe der Kosten für zukünftige Abrechnungsperiod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Kontrolle der Einhaltung bzw. der Erreichu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 rot="20941200">
            <a:off x="333000" y="1211040"/>
            <a:ext cx="2995560" cy="503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lankostenrechn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>
            <a:off x="1020600" y="4172040"/>
            <a:ext cx="3625920" cy="522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Kostenplanu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(Kostenstellen, Kostenträger, Betrieb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>
            <a:off x="4821120" y="4192560"/>
            <a:ext cx="1150920" cy="488880"/>
          </a:xfrm>
          <a:prstGeom prst="rightArrow">
            <a:avLst>
              <a:gd name="adj1" fmla="val 50000"/>
              <a:gd name="adj2" fmla="val 5885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6122880" y="4167360"/>
            <a:ext cx="3224160" cy="522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lankos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1020600" y="5065560"/>
            <a:ext cx="3625920" cy="522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Kostenkontrol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(Plankosten vs. Istkosten – Soll/Is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"/>
          <p:cNvSpPr/>
          <p:nvPr/>
        </p:nvSpPr>
        <p:spPr>
          <a:xfrm>
            <a:off x="4821120" y="5086440"/>
            <a:ext cx="1150920" cy="488880"/>
          </a:xfrm>
          <a:prstGeom prst="rightArrow">
            <a:avLst>
              <a:gd name="adj1" fmla="val 50000"/>
              <a:gd name="adj2" fmla="val 5885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"/>
          <p:cNvSpPr/>
          <p:nvPr/>
        </p:nvSpPr>
        <p:spPr>
          <a:xfrm>
            <a:off x="6122880" y="5060880"/>
            <a:ext cx="3224160" cy="522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bweichungs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"/>
          <p:cNvSpPr/>
          <p:nvPr/>
        </p:nvSpPr>
        <p:spPr>
          <a:xfrm>
            <a:off x="3186000" y="2664000"/>
            <a:ext cx="3735360" cy="1072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unkti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40200" y="120600"/>
            <a:ext cx="460584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Bewertung Halb- &amp; Fertigerzeugni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797040" y="566640"/>
            <a:ext cx="8383320" cy="55641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2516040" y="3038400"/>
            <a:ext cx="5222880" cy="374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rmittlung Herstellungskos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meinkostensumme (lt. BA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`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alk. Kos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bschreib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durchschnittl. Schadensfä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fwandssummen vs. Einzelkos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rmittlung Zuschlagssätze 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rrechnung der Herstellungskos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Exciting, Distinctive, Hilton"/>
          <p:cNvPicPr/>
          <p:nvPr/>
        </p:nvPicPr>
        <p:blipFill>
          <a:blip r:embed="rId1"/>
          <a:stretch/>
        </p:blipFill>
        <p:spPr>
          <a:xfrm>
            <a:off x="0" y="0"/>
            <a:ext cx="15336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1733040" y="135000"/>
            <a:ext cx="39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amt- &amp; Umsatzkostenverfah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9217080" y="0"/>
          <a:ext cx="689040" cy="71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17080" y="0"/>
                    <a:ext cx="6890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2309760" y="4429080"/>
            <a:ext cx="624852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MSATZKOSTENVERFAHR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>
            <a:off x="1090440" y="5019840"/>
            <a:ext cx="8686800" cy="167616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eriodenerlös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Herstellkosten der abgesetzten Produkte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Verwaltungs- und Vertriebsgemeinkoste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Betriebserfolg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(Betriebsgewinn oder -verlust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>
            <a:off x="1928880" y="6162840"/>
            <a:ext cx="617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>
            <a:off x="1042920" y="1542960"/>
            <a:ext cx="8686800" cy="236232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esamte abgegrenzte Periodenerträge (ohne Bestandsveränderunge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+/-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Bestandsveränderungen der unfertigen und fertigen Erzeugniss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(bewertet zu Herstellkoste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wischensumm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gesamte Periodenkosten (Einzel-, Gemein- und Sonderkoste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Betriebserfolg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(Betriebsgewinn oder -verlust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1881360" y="2533680"/>
            <a:ext cx="769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>
            <a:off x="1881360" y="3295800"/>
            <a:ext cx="769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2262240" y="1009800"/>
            <a:ext cx="624852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ESAMTKOSTENVERFAHR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12665" t="0" r="0" b="7784"/>
          <a:stretch/>
        </p:blipFill>
        <p:spPr>
          <a:xfrm>
            <a:off x="2728800" y="2112840"/>
            <a:ext cx="4632480" cy="3262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882800" y="5064120"/>
            <a:ext cx="2806560" cy="173664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rechn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lkulation 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i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10960" y="142920"/>
            <a:ext cx="34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fgaben der Kostenrechn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655560"/>
            <a:ext cx="2806920" cy="173664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ontrolle 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tschaftlichke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28520" y="2720880"/>
            <a:ext cx="2806920" cy="173700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haffung v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en für d. Plan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7099200" y="2749680"/>
            <a:ext cx="2806920" cy="173664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mittlung 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riebserfol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5772240" y="644400"/>
            <a:ext cx="2806560" cy="173700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wertung 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stände an Halb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d Fertigerzeug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5489640" y="5064120"/>
            <a:ext cx="2806560" cy="173664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reitstellung v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aten für die be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riebliche Plan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1320" y="128520"/>
            <a:ext cx="33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ysteme der Kostenrechn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066720" y="1089000"/>
            <a:ext cx="15174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700" spc="-1" strike="noStrike">
                <a:solidFill>
                  <a:srgbClr val="3333cc"/>
                </a:solidFill>
                <a:latin typeface="Verdana"/>
              </a:rPr>
              <a:t>}</a:t>
            </a:r>
            <a:endParaRPr b="0" lang="en-US" sz="27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7671600" y="3114720"/>
            <a:ext cx="204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Z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Vollkosten o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Teilkos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6040" y="2838600"/>
            <a:ext cx="2214720" cy="1895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33680" y="1616040"/>
            <a:ext cx="3808440" cy="94284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Verdana"/>
              </a:rPr>
              <a:t>Istkostenrechn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2533680" y="3267000"/>
            <a:ext cx="3808440" cy="94320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Normalkostenrechn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2533680" y="4917960"/>
            <a:ext cx="3808440" cy="94320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Plankostenrechn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8160" y="13644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zugskalku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722840" y="498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2678040" y="1517760"/>
            <a:ext cx="4284720" cy="345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Verdana"/>
              </a:rPr>
              <a:t>Bruttorechnungspre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3333cc"/>
                </a:solidFill>
                <a:uFillTx/>
                <a:latin typeface="Verdana"/>
              </a:rPr>
              <a:t>Rabatt (in %)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Verdana"/>
              </a:rPr>
              <a:t>rabattierter Preis: Zielpre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3333cc"/>
                </a:solidFill>
                <a:uFillTx/>
                <a:latin typeface="Verdana"/>
              </a:rPr>
              <a:t>Skonto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Verdana"/>
              </a:rPr>
              <a:t>Kassapre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3333cc"/>
                </a:solidFill>
                <a:uFillTx/>
                <a:latin typeface="Verdana"/>
              </a:rPr>
              <a:t>Bezugsspesen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Verdana"/>
              </a:rPr>
              <a:t>Einstandspre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2184480" y="1546200"/>
            <a:ext cx="0" cy="3456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448400" y="1546200"/>
            <a:ext cx="0" cy="3456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339920" y="98748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Verdana"/>
              </a:rPr>
              <a:t>progressi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6726240" y="511812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Verdana"/>
              </a:rPr>
              <a:t>retrogr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545760" y="2235240"/>
            <a:ext cx="11134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- v. 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- v. 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580760" y="2479680"/>
            <a:ext cx="10414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580760" y="3301920"/>
            <a:ext cx="10414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8237880" y="2228760"/>
            <a:ext cx="11134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+ i. 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+ i. 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7059600" y="2455920"/>
            <a:ext cx="10414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7059600" y="3278160"/>
            <a:ext cx="10414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80760" y="4124160"/>
            <a:ext cx="10414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1272600" y="38084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7031160" y="4135320"/>
            <a:ext cx="104112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8213760" y="385452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rcRect l="7692" t="13153" r="13753" b="9232"/>
          <a:stretch/>
        </p:blipFill>
        <p:spPr>
          <a:xfrm>
            <a:off x="4498920" y="4357800"/>
            <a:ext cx="23781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1640" y="12708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ilbereiche der Kostenrechn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87480" y="1351080"/>
            <a:ext cx="3084480" cy="79848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Kostenartenrechnu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3378240" y="1351080"/>
            <a:ext cx="3084480" cy="79848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Kostenstellenrechnu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6669000" y="1351080"/>
            <a:ext cx="3084480" cy="79848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Kostenträgerrechnu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2080" y="2203560"/>
            <a:ext cx="228708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elche Kos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sind angefall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Bsp.: Löhn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Mi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387960" y="2203560"/>
            <a:ext cx="244224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o sind d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Kosten angefall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Bsp.: Lager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Fertig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6651720" y="2235240"/>
            <a:ext cx="325440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ofür sind die Kosten angefall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Bsp.: Holzschrank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214720" cy="1895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581280" y="4697280"/>
            <a:ext cx="2455920" cy="1843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49386" t="13065" r="0" b="5864"/>
          <a:stretch/>
        </p:blipFill>
        <p:spPr>
          <a:xfrm>
            <a:off x="6969240" y="4694400"/>
            <a:ext cx="24127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9600" y="141120"/>
            <a:ext cx="37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stkostenrechnung zu Voll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3924" t="30231" r="3466" b="15864"/>
          <a:stretch/>
        </p:blipFill>
        <p:spPr>
          <a:xfrm>
            <a:off x="0" y="974880"/>
            <a:ext cx="9906120" cy="4324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00080" y="3616200"/>
            <a:ext cx="34462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86840" y="10800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lkulatorische Zin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3476520" y="1001880"/>
            <a:ext cx="6026400" cy="5025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ermögen laut Handelsbilanz (Buchwe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icht betriebsnotwendiges (neutrales Vermögen)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weit in der Handelsbilanz enthal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triebsnotwendiges Vermögen, soweit in d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delsbilanz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ich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nthal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+ 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mwertungen (Auflösung stiller Reserve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triebsnotwendiges Vermög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emdkapi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richtigtes Eigenkapi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icht zinsberechtigtes Vermög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insberechtigtes berichtigtes Eigenkapi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568440" y="1951200"/>
            <a:ext cx="2201760" cy="1739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rücksichtigung de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Zinse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ür das gesamte dem Unterneh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ur Verfügung stehend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Kapi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4425840"/>
            <a:ext cx="53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537000" y="5108400"/>
            <a:ext cx="53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3514680" y="5786280"/>
            <a:ext cx="536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16080" y="4230720"/>
            <a:ext cx="2893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94120" y="155520"/>
            <a:ext cx="46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riebsüberleitungsbogen zu Übung: 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 flipH="1">
            <a:off x="0" y="1971720"/>
            <a:ext cx="1387440" cy="3557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63680" y="1014480"/>
            <a:ext cx="8415360" cy="55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1365120" y="1006560"/>
            <a:ext cx="0" cy="5253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2023920" y="1006560"/>
            <a:ext cx="0" cy="5253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218120" y="1006560"/>
            <a:ext cx="0" cy="5253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688000" y="1006560"/>
            <a:ext cx="0" cy="5253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7051680" y="1006560"/>
            <a:ext cx="0" cy="5253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8415360" y="1006560"/>
            <a:ext cx="0" cy="5253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9779040" y="1006560"/>
            <a:ext cx="0" cy="5253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1362240" y="1125360"/>
            <a:ext cx="68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Kon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095920" y="1123920"/>
            <a:ext cx="195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Aufwands-/Kostena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4228920" y="112392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Aufwendung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6188400" y="87948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7547400" y="8874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8726760" y="112392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Kost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1368360" y="177624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1368360" y="200196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1368360" y="222732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368360" y="245268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1368360" y="267804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1368360" y="290340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368360" y="312912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1368360" y="335448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1368360" y="357984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1368360" y="380520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1368360" y="403056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1368360" y="425592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1368360" y="448164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1368360" y="470700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1368360" y="493236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368360" y="515772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1368360" y="538308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368360" y="560880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1368360" y="583416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1368360" y="605952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368360" y="6259680"/>
            <a:ext cx="8399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0T14:13:07Z</dcterms:created>
  <dc:creator>Mag. Helmut Bauer</dc:creator>
  <dc:description/>
  <dc:language>en-US</dc:language>
  <cp:lastModifiedBy>Mag. Helmut Bauer</cp:lastModifiedBy>
  <cp:lastPrinted>1999-05-25T13:46:24Z</cp:lastPrinted>
  <dcterms:modified xsi:type="dcterms:W3CDTF">2006-09-07T08:20:41Z</dcterms:modified>
  <cp:revision>119</cp:revision>
  <dc:subject/>
  <dc:title>Kein Folientitel</dc:title>
</cp:coreProperties>
</file>