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CA7D-2CDE-43C4-BFE6-7A25D4D54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A610-690C-487E-9B41-65EF56E4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AC79-EB99-45E3-90F8-16B8AE37B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56CD-6785-4959-B348-F98225BBD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6FCB-D8EB-410C-AF67-34DE1C94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6F08-761A-4EAA-BC1A-C39D39B8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0A16-35D8-4554-BDCD-D10BDB2C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1648-EDF5-4B08-9DD1-DA2F9F4E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6681-7785-4A2F-ACFC-A2AA5352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B5BC-B205-4854-BF1A-744B3E1F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89D6-6798-4799-B896-21F5FE1C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6A8C-25A9-475E-9DAC-99A50A32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0080" y="3962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376080" y="6651720"/>
            <a:ext cx="228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© Mag. Bauer – www.bauerpoint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12880" y="6076800"/>
            <a:ext cx="4781520" cy="5526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960" y="104760"/>
            <a:ext cx="56865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Berechnung der Einkommensteu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6200000">
            <a:off x="3051000" y="-2441520"/>
            <a:ext cx="247680" cy="6350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0"/>
          <a:ext cx="49356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935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302600" y="0"/>
            <a:ext cx="1841400" cy="1320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74880" y="971640"/>
            <a:ext cx="7121520" cy="55803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Einkünfte aus 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Einkunftsar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Veranlagungsfreibetrag für Arbeitnehmer (730,--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Sonderausga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Außergewöhnliche Belastunge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Einkommen gem. § 2 Abs. 2 EStG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 – davon EStG lt. Tar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Absetzbeträ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Steuer nach Abzug der Absetzbeträ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+ Steuer sonst. Bezüge (13./14.Bezu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Einkommensteuerschu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Anrechenbare Lohnsteu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Anrechenbare Kapitalertragsteu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Festgesetzte Einkommensteu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Vorauszahl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Abgabenschuld bzw. Gutschri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00640" y="88884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3333cc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98720" y="2876400"/>
            <a:ext cx="59623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98720" y="1771560"/>
            <a:ext cx="59623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79640" y="3600360"/>
            <a:ext cx="59626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98720" y="4324320"/>
            <a:ext cx="59623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0560" y="5429160"/>
            <a:ext cx="59626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0560" y="6134040"/>
            <a:ext cx="59626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50800" y="104760"/>
            <a:ext cx="42433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ie sieben Einkunftsar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3051000" y="-2460600"/>
            <a:ext cx="247680" cy="6350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0"/>
          <a:ext cx="49356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935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2548440" y="563400"/>
            <a:ext cx="305496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700" spc="-1" strike="noStrike">
                <a:solidFill>
                  <a:srgbClr val="ccffff"/>
                </a:solidFill>
                <a:latin typeface="Arial"/>
              </a:rPr>
              <a:t>7</a:t>
            </a:r>
            <a:endParaRPr b="0" lang="en-US" sz="40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98400" y="1305000"/>
            <a:ext cx="5609160" cy="487188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cc"/>
                </a:solidFill>
                <a:latin typeface="Arial"/>
              </a:rPr>
              <a:t>Land- und Forstwirtsch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6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cc"/>
                </a:solidFill>
                <a:latin typeface="Arial"/>
              </a:rPr>
              <a:t>Selbständige Arb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6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cc"/>
                </a:solidFill>
                <a:latin typeface="Arial"/>
              </a:rPr>
              <a:t>Gewerbebetri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6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cc"/>
                </a:solidFill>
                <a:latin typeface="Arial"/>
              </a:rPr>
              <a:t>Nichtselbständige Arb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6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cc"/>
                </a:solidFill>
                <a:latin typeface="Arial"/>
              </a:rPr>
              <a:t>Kapitalvermö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6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cc"/>
                </a:solidFill>
                <a:latin typeface="Arial"/>
              </a:rPr>
              <a:t>Vermietung und Verpacht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6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cc"/>
                </a:solidFill>
                <a:latin typeface="Arial"/>
              </a:rPr>
              <a:t>Sonstige Einkünf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50800" y="104760"/>
            <a:ext cx="42433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ie sieben Einkunftsar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3051000" y="-2460600"/>
            <a:ext cx="247680" cy="6350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0" y="0"/>
          <a:ext cx="49356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935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7342200" y="0"/>
            <a:ext cx="180180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900" spc="-1" strike="noStrike">
                <a:solidFill>
                  <a:srgbClr val="ccffff"/>
                </a:solidFill>
                <a:latin typeface="Arial"/>
              </a:rPr>
              <a:t>7</a:t>
            </a:r>
            <a:endParaRPr b="0" lang="en-US" sz="2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1251000"/>
            <a:ext cx="2840040" cy="4572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d- &amp; Forstwirtscha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4160" y="1177920"/>
            <a:ext cx="558720" cy="558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2063880"/>
            <a:ext cx="2840040" cy="4572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bständige Arbe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4160" y="1990800"/>
            <a:ext cx="558720" cy="558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2876400"/>
            <a:ext cx="2840040" cy="4572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werbebetrie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4160" y="2803680"/>
            <a:ext cx="558720" cy="558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3689280"/>
            <a:ext cx="2840040" cy="4572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ht selbständi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e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4160" y="3616200"/>
            <a:ext cx="558720" cy="559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4502160"/>
            <a:ext cx="2840040" cy="4572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pitalvermö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4160" y="4429080"/>
            <a:ext cx="558720" cy="558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5315040"/>
            <a:ext cx="2840040" cy="4572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mietu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 Verpach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4160" y="5241960"/>
            <a:ext cx="558720" cy="558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6127920"/>
            <a:ext cx="2840040" cy="4572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stige Einkünf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4160" y="6054840"/>
            <a:ext cx="558720" cy="558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27440" y="14652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08560" y="1154160"/>
            <a:ext cx="5325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Landwirtschaft, Forstwirtschaft, Weinbau, Gartenbau, Obstba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Tier-, Fischzucht, Bienenzucht… land- &amp; forstwirt. Nebenbetrie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(Sägewerk, Geflügelfarm, Schottergrub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17560" y="1909800"/>
            <a:ext cx="5225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eiberufliche Tätigkeiten: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z.B. Wissenschaftler, Künstler, Schriftsteller, Ärzte, Journalis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olmetscher, Notare usw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11800" y="2976480"/>
            <a:ext cx="438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elbständige nachhaltige Tätigkeit mit Gewinnabsic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8200" y="3624120"/>
            <a:ext cx="4995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ur wenn neben den lohnsteuerpflichtigen Einkünften au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ndere Einkünfte bezogen werden: Freibetrag: 730,-- jährli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09280" y="4335480"/>
            <a:ext cx="5324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ewinnanteile aus Aktien (Dividenden) Gesellschaftsanteile usw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tiller Gesellschafter, Zinsen… bestimmte Kapitalerträge si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teuerfrei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08200" y="5326200"/>
            <a:ext cx="503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Vermietung und Verpachtung von Grundstücken, Gebäude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ohnungen, Urheberrechte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7480" y="6113520"/>
            <a:ext cx="527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ewinne aus Spekulationsgeschäften, Einkünfte aus Leistun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Veräußerung einer Körpersch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91520" y="80964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inkünfte au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16120" y="7840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50440" y="104760"/>
            <a:ext cx="31539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onstige Einkünf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3051000" y="-2460600"/>
            <a:ext cx="247680" cy="6350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0"/>
          <a:ext cx="49356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935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496800" y="824040"/>
            <a:ext cx="79531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winne aus Spekulationsgeschäf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Einnahmen sind einkommenssteuerpflichtig wen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ücke weniger als 10 Jahre im Eigentum wa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ere Wirtschaftsgüter weniger als 1 Jahr im Eigentum war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ertpapiere, Beteiligungen, Forderungen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genommen von der Besteueru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äußerung von Eigenheimen und Eigentumswohnungen, wenn s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d. 2 Jahre als Hauptwohnsitz gedient hab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ispiel Sonstige Einkünf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. Huber erhält für die Vermittlung eines Immobiliengeschäftes v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äufer eine Provision von € 3.650,--; Mag. Huber verkaufte 2003 se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gentumswohnung, die ihm seit der Anschaffung vor zwei Jahren als Haup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hnsitz gedient hat und erzielt dabei einen Gewinn von 8.650,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ösu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mittlungsprovisio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650,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winn Eigentumswohnung: 0,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37760" y="-9360"/>
            <a:ext cx="4718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derausgaben - Übers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5680" y="1362240"/>
            <a:ext cx="249228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nten 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auernde Las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62200" y="1362240"/>
            <a:ext cx="432432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..wenn die im Gesetz angeführten Voraussetzun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geben si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57880" y="1362240"/>
            <a:ext cx="190512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beschränk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5680" y="804960"/>
            <a:ext cx="2492280" cy="45720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62200" y="804960"/>
            <a:ext cx="4324320" cy="45720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läuterung - Beding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157880" y="804960"/>
            <a:ext cx="1905120" cy="45720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zugsfähigk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5680" y="1962000"/>
            <a:ext cx="249228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eiträge 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ersicherungsprämi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62200" y="1962000"/>
            <a:ext cx="432432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reiwillige Kranken- Unfall oder Pensionsversicher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ebensversicherung; freiw. Witwen-, Waisen-, Versorgungs-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terbekasse; Pensionskass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57880" y="1962000"/>
            <a:ext cx="190512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heit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öchstbetr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5680" y="2562120"/>
            <a:ext cx="249228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Ausgaben Wohnraum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beschaffung/-sanie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62200" y="2562120"/>
            <a:ext cx="432432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htjährig gebundene Beiträge zur Schaffung von Wohnraum; Beträge z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richtung von Eigenheim (auch Grundstück, Bauparzelle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nierung von Wohnraum; Rückzahlung von Darlehen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57880" y="2562120"/>
            <a:ext cx="190512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heit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öchstbetr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5680" y="3162240"/>
            <a:ext cx="249228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enusssche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estimmte junge Akti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62200" y="3162240"/>
            <a:ext cx="432432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olle Zahlung der Anschaffungskosten; Hinterlegung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iner Bank über 10 Jahre; Gilt auch für Wandelschuldver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chreibungen und Partizipationsschein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57880" y="3162240"/>
            <a:ext cx="190512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heit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öchstbetr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5680" y="3762360"/>
            <a:ext cx="249228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eiträge an Kirchen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&amp; Religionsgemeinschaf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62200" y="3762360"/>
            <a:ext cx="432432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erkannte Kirchen und Religionsgemeinschaf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157880" y="3762360"/>
            <a:ext cx="190512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öchste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5,-- jährli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5680" y="4362480"/>
            <a:ext cx="249228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teuerberatungskos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62200" y="4362480"/>
            <a:ext cx="432432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berufsrechtlich befugte Person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57880" y="4362480"/>
            <a:ext cx="190512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beschränk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5680" y="4962600"/>
            <a:ext cx="249228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penden zu Forschungs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zwec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62200" y="4962600"/>
            <a:ext cx="432432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soweit sie nicht aus dem Betriebsvermögen stammen; zusammen mit dem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uwendungen aus Betriebsvermögen max. 10 % des Gesamtbetra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r Einkünfte aus dem Vorjah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157880" y="4962600"/>
            <a:ext cx="190512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öchstens 1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. Gesamteinkünfte Vorjah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5680" y="5562720"/>
            <a:ext cx="249228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erlu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62200" y="5562720"/>
            <a:ext cx="432432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..aus den drei betrieblichen Einkunftsarten, die in einem vora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gangenen Jahr entstanden si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157880" y="5562720"/>
            <a:ext cx="190512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beschränk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2019240" y="-1486080"/>
            <a:ext cx="152280" cy="419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40" y="0"/>
          <a:ext cx="398520" cy="47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0"/>
                    <a:ext cx="3985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139680" y="6148440"/>
            <a:ext cx="900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inheitlicher Höchstbetrag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 2.920,-- jährlich; Dieser Betrag erhöht sich, wenn dem Steuerpflichtigen der Alleinverdiener-absetzbetrag oder der Alleinerzieherabsetzbetrag zusteht und/oder um 1.460,-- bei mindestens drei Kinder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39200" y="-9360"/>
            <a:ext cx="5211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ßergewöhnliche Belast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84160" y="968400"/>
            <a:ext cx="6774120" cy="170640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e muss aussergewöhnlich s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e muss zwangsläufig erwach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e muss die wirtschaftliche Leistungsfähigkei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wesentlich beeinträcht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2019240" y="-1486080"/>
            <a:ext cx="152280" cy="419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240" y="0"/>
          <a:ext cx="398520" cy="47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0"/>
                    <a:ext cx="3985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884160" y="2813040"/>
            <a:ext cx="1738440" cy="53172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89200" y="3394080"/>
            <a:ext cx="330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rankheitskos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ufsausbildung von Kind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tastrophenschä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hinder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36320" y="-9360"/>
            <a:ext cx="4302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etzbeträge - Übers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0080" y="1519200"/>
            <a:ext cx="249372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Allgemein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Steuerabsetzbetrag (AStA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76600" y="1519200"/>
            <a:ext cx="432432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72200" y="1519200"/>
            <a:ext cx="190512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0080" y="905040"/>
            <a:ext cx="2493720" cy="45720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76600" y="905040"/>
            <a:ext cx="4324320" cy="45720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läuterung - Beding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72200" y="905040"/>
            <a:ext cx="1905120" cy="45720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ö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0080" y="2019240"/>
            <a:ext cx="2493720" cy="573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lleinverdienerabsetz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etrag (AVA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76600" y="2019240"/>
            <a:ext cx="4324320" cy="573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072200" y="2019240"/>
            <a:ext cx="1905120" cy="573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0080" y="2647800"/>
            <a:ext cx="2493720" cy="573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lleinerzieherabsetzbetr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(AEA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76600" y="2647800"/>
            <a:ext cx="4324320" cy="573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72200" y="2647800"/>
            <a:ext cx="1905120" cy="573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0080" y="3262320"/>
            <a:ext cx="2493720" cy="573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Kinderabsetzbetr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(KA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76600" y="3262320"/>
            <a:ext cx="4324320" cy="573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72200" y="3262320"/>
            <a:ext cx="1905120" cy="573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0080" y="3862440"/>
            <a:ext cx="2493720" cy="573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Unterhaltsabsetz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etrag (UA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76600" y="3862440"/>
            <a:ext cx="4324320" cy="573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72200" y="3862440"/>
            <a:ext cx="1905120" cy="573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0080" y="4491000"/>
            <a:ext cx="2493720" cy="573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erkehrsabsetzbetr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(VA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76600" y="4491000"/>
            <a:ext cx="4324320" cy="573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72200" y="4491000"/>
            <a:ext cx="1905120" cy="573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0080" y="5105520"/>
            <a:ext cx="2493720" cy="573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rbeitnehmerabsetz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etrag (ANA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76600" y="5105520"/>
            <a:ext cx="4324320" cy="573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72200" y="5105520"/>
            <a:ext cx="1905120" cy="573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0080" y="5719680"/>
            <a:ext cx="2493720" cy="573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ensionistenabsetz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etrag (PA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676600" y="5719680"/>
            <a:ext cx="4324320" cy="573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72200" y="5719680"/>
            <a:ext cx="1905120" cy="573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6200000">
            <a:off x="2019240" y="-1486080"/>
            <a:ext cx="152280" cy="419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" y="0"/>
          <a:ext cx="398520" cy="47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0"/>
                    <a:ext cx="3985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3T15:02:56Z</dcterms:created>
  <dc:creator>Mag. Helmut Bauer</dc:creator>
  <dc:description/>
  <dc:language>en-US</dc:language>
  <cp:lastModifiedBy>Mag. Helmut Bauer</cp:lastModifiedBy>
  <cp:lastPrinted>1999-10-16T09:55:29Z</cp:lastPrinted>
  <dcterms:modified xsi:type="dcterms:W3CDTF">2006-09-07T08:39:19Z</dcterms:modified>
  <cp:revision>59</cp:revision>
  <dc:subject/>
  <dc:title>Kein Folientitel</dc:title>
</cp:coreProperties>
</file>