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A03-B80C-4FE9-91F9-E3AAC6A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C65-1EE4-4765-9645-9E0310B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9E6-50E1-4ED6-8C64-7F244A49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694-AD82-4622-A273-7FA06CB4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E7C-81DE-41A3-A963-16D7EC8D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0D65-7C5D-4FD9-AD17-430FCCB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69B4-1EB6-4BC0-977D-87399B54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EA2-83B8-46F8-8AFF-80E9CA2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37F2-D6E0-4FA9-BFFF-4BDC3C4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558-994D-4F00-978E-E4A3929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4DBF-CA72-4B6A-845F-F94C71D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1E1-FCDF-46DE-A0D9-2FA2752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4510-32E2-41E8-B94C-D002905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9FA6-654D-45DB-A603-0EF7673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B51C-7E22-4C15-AA37-C6EA620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992A-7176-4602-B613-97FBB99D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AEFB-E2DA-4F8B-B854-C4C48BD5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8A8-C547-4599-B9ED-9D5E5E9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9F8-5037-4E35-AA78-96A9BD6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561-3D77-4029-9853-0CD37E0F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286-653B-476B-987B-BB7A4C4D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E34-6FA6-481F-BB1B-4249E7A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55B-8BA4-4E60-BBAD-45FB703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9FE-A786-4A7B-9C7B-1FA1BCE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DF3-D7E1-46F4-8553-D20C5ACAC0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E923-E93B-48D2-BFF5-76910B5CB1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SKONTO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ühe Bez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Abzug des Skon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hnt sich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729080" cy="128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Lieferant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788000" y="1413000"/>
          <a:ext cx="4032000" cy="253188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936720"/>
                <a:gridCol w="86328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3… Lieferant Wiffz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8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944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84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hlungsbeding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kauf auf 30 Tage Ziel,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halb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T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er Abzug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4076640"/>
            <a:ext cx="28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pr. Schu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% Skonto            -  48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hlungsbetrag    2.352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26160" y="4268880"/>
            <a:ext cx="1725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00 * 2 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18520" y="4309920"/>
            <a:ext cx="228600" cy="343080"/>
          </a:xfrm>
          <a:custGeom>
            <a:avLst/>
            <a:gdLst>
              <a:gd name="textAreaLeft" fmla="*/ 30600 w 228600"/>
              <a:gd name="textAreaRight" fmla="*/ 198000 w 228600"/>
              <a:gd name="textAreaTop" fmla="*/ 59760 h 343080"/>
              <a:gd name="textAreaBottom" fmla="*/ 2487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41101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12.7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r überweisen dem Lieferanten Wiffzack unsere offene Schuld unter Abzug von 2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57340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3…. Lieferant Wiffzack   /  2800 Bank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.352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2332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35640" y="23320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29440" y="2332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352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Lieferant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284720" y="1413000"/>
          <a:ext cx="4534920" cy="2487600"/>
        </p:xfrm>
        <a:graphic>
          <a:graphicData uri="http://schemas.openxmlformats.org/drawingml/2006/table">
            <a:tbl>
              <a:tblPr/>
              <a:tblGrid>
                <a:gridCol w="728280"/>
                <a:gridCol w="1782000"/>
                <a:gridCol w="1053720"/>
                <a:gridCol w="97092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3… Lieferant Wiffz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356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2944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84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hlungsbeding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kauf auf 30 Tage Ziel,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halb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T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er Abzug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076640"/>
            <a:ext cx="28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pr. Schu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% Skonto            -  48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hlungsbetrag    2.352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26160" y="4268880"/>
            <a:ext cx="1725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00 * 2 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18520" y="4309920"/>
            <a:ext cx="228600" cy="343080"/>
          </a:xfrm>
          <a:custGeom>
            <a:avLst/>
            <a:gdLst>
              <a:gd name="textAreaLeft" fmla="*/ 30600 w 228600"/>
              <a:gd name="textAreaRight" fmla="*/ 198000 w 228600"/>
              <a:gd name="textAreaTop" fmla="*/ 59760 h 343080"/>
              <a:gd name="textAreaBottom" fmla="*/ 2487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41101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12.7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r überweisen dem Lieferanten Wiffzack unsere offene Schuld unter Abzug von 2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2332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3320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2332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352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5589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3… Lieferant Wiffzack      48,-- / </a:t>
            </a: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5880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antenskonto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4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8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269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269244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80 Lieferantensk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6924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3068640"/>
            <a:ext cx="45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3080" y="33559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in Saldo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9440" y="312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93080" y="312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Merke !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000000"/>
                </a:solidFill>
                <a:uFillTx/>
                <a:latin typeface="Tahoma"/>
              </a:rPr>
              <a:t>Unterscheide</a:t>
            </a: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 Kunden– u. Lieferantensko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Wird unter Abzug von Skonto bezahlt – gibt es </a:t>
            </a:r>
            <a:r>
              <a:rPr b="1" lang="de-AT" sz="3200" spc="-1" strike="noStrike">
                <a:solidFill>
                  <a:srgbClr val="ff0000"/>
                </a:solidFill>
                <a:latin typeface="Tahoma"/>
              </a:rPr>
              <a:t>zwei</a:t>
            </a: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 Buchungssät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Skonto stellt eine </a:t>
            </a:r>
            <a:r>
              <a:rPr b="1" lang="de-AT" sz="3200" spc="-1" strike="noStrike">
                <a:solidFill>
                  <a:srgbClr val="000000"/>
                </a:solidFill>
                <a:latin typeface="Tahoma"/>
              </a:rPr>
              <a:t>Korrektur</a:t>
            </a: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 der </a:t>
            </a:r>
            <a:r>
              <a:rPr b="0" lang="de-AT" sz="3200" spc="-1" strike="noStrike" u="sng">
                <a:solidFill>
                  <a:srgbClr val="000000"/>
                </a:solidFill>
                <a:uFillTx/>
                <a:latin typeface="Tahoma"/>
              </a:rPr>
              <a:t>ursprüng-lichen Buchung (Einkauf/Verkauf)</a:t>
            </a: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 d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Nach Verbuchung des Skontos gibt es </a:t>
            </a:r>
            <a:r>
              <a:rPr b="0" lang="de-AT" sz="3200" spc="-1" strike="noStrike" u="sng">
                <a:solidFill>
                  <a:srgbClr val="000000"/>
                </a:solidFill>
                <a:uFillTx/>
                <a:latin typeface="Tahoma"/>
              </a:rPr>
              <a:t>keine Restschuld</a:t>
            </a:r>
            <a:r>
              <a:rPr b="0" lang="de-AT" sz="3200" spc="-1" strike="noStrike">
                <a:solidFill>
                  <a:srgbClr val="000000"/>
                </a:solidFill>
                <a:latin typeface="Tahoma"/>
              </a:rPr>
              <a:t> mehr auf dem Konto (d.h. kein Saldo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Sofort gewährter 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 beim Kauf sofort gewährte Skonto wir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ofor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m Rechnungsbetra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bgezo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d der so reduzierte Betrag verbuch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e bei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fort gewährten Rabat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328608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3860640"/>
            <a:ext cx="3384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arenwert Netto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2% Skonto              -16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arenwert Netto      784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+ 20 % USt               156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arenwert brutto      940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16000" y="5661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10 HW-Einsatz       € 784,--  / 33… Lieferant 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0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              156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SKONTO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ühe Bez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Abzug des Skon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hnt sich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729080" cy="128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griffsklärung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0000"/>
                </a:solidFill>
                <a:latin typeface="Tahoma"/>
              </a:rPr>
              <a:t>SKONTO</a:t>
            </a: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 ist ein </a:t>
            </a:r>
            <a:r>
              <a:rPr b="1" lang="de-AT" sz="2800" spc="-1" strike="noStrike" u="sng">
                <a:solidFill>
                  <a:srgbClr val="000000"/>
                </a:solidFill>
                <a:uFillTx/>
                <a:latin typeface="Tahoma"/>
              </a:rPr>
              <a:t>Preisabzug</a:t>
            </a: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, der gewährt wird, wenn eine auf Ziel gekaufte Ware innerhalb einer kurzen Frist nach Erhalt der Rechnung (= </a:t>
            </a:r>
            <a:r>
              <a:rPr b="1" lang="de-AT" sz="2800" spc="-1" strike="noStrike" u="sng">
                <a:solidFill>
                  <a:srgbClr val="000000"/>
                </a:solidFill>
                <a:uFillTx/>
                <a:latin typeface="Tahoma"/>
              </a:rPr>
              <a:t>Kassafrist</a:t>
            </a: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) bezahlt wi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869000"/>
            <a:ext cx="7129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15772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UF / VERKAU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f Z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988360" y="3211920"/>
            <a:ext cx="358920" cy="2808360"/>
          </a:xfrm>
          <a:custGeom>
            <a:avLst/>
            <a:gdLst>
              <a:gd name="textAreaLeft" fmla="*/ 0 w 358920"/>
              <a:gd name="textAreaRight" fmla="*/ 129600 w 3589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8200" y="4040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SSAF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840" y="4943520"/>
            <a:ext cx="20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zahlung unter Abzug des Sko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067280" y="5016600"/>
          <a:ext cx="79992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5016600"/>
                    <a:ext cx="7999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43080" y="3643200"/>
          <a:ext cx="142056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3643200"/>
                    <a:ext cx="14205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Zwei Arten von Skonti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70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verkaufen Waren auf Ziel an den Kunden 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2781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Kunde zahlt innerhalb der Kassafrist unter Abzug des Sk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42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UNDENSK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rrek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 Erlösbuchung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234936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3716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46530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700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kaufen Waren auf Ziel beim Lieferanten 33…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781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r bezahlen innerhalb der Kassafrist unter Abzug des Sk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422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EFERANTENSK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5157720"/>
            <a:ext cx="352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rrek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 Einkaufsbuchung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34936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1080" y="3716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46530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067280" y="2924280"/>
            <a:ext cx="5257800" cy="2665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Kund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70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verkaufen Waren auf Ziel an den Kunden 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781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Kunde zahlt innerhalb der Kassafrist unter Abzug des Sk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2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UNDENSK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rrek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 Erlösbuchung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234936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3716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46530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170028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0… Kunde XY  / 4000 HW-Erl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0920" y="33638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00 Bank    /   20… Kunde 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0920" y="44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Arial"/>
              </a:rPr>
              <a:t>4410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 Kundenskonti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/   20… Kunde 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781360"/>
            <a:ext cx="647640" cy="2952720"/>
          </a:xfrm>
          <a:custGeom>
            <a:avLst/>
            <a:gdLst>
              <a:gd name="textAreaLeft" fmla="*/ 0 w 647640"/>
              <a:gd name="textAreaRight" fmla="*/ 234000 w 6476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40705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chungssätz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16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Kund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788000" y="1413000"/>
          <a:ext cx="4032000" cy="248760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936720"/>
                <a:gridCol w="86328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0… Kunde Wais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757080" y="4149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30.6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kauf von Waren an den Kunden Waisnix (20…) € 1.000,-- + 20 % USt = € 1.200,-- auf Z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5661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0… Kunde Waisnix  € 1.200,-- / 4000 HW-Erlöse       € 1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500 USt                        2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00 HW-Erlö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Kund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788000" y="1413000"/>
          <a:ext cx="4032000" cy="248760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936720"/>
                <a:gridCol w="86328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0… Kunde Wais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468360" y="41101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12.7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Kunde Waisnix überweist auf unser Bankkonto seine offene Schuld unter Abzug von 3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00 HW-Erlö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4464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hlungsbeding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 auf 30 Tage Ziel,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halb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T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er Abzug v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4076640"/>
            <a:ext cx="28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pr. Schu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% Skonto             - 36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hlungsbetrag    1.164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73408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800 Bank    /   20… Kunde Waisnix               1.164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240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240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9440" y="240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64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26160" y="4268880"/>
            <a:ext cx="1725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0 * 3 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8520" y="4309920"/>
            <a:ext cx="228600" cy="343080"/>
          </a:xfrm>
          <a:custGeom>
            <a:avLst/>
            <a:gdLst>
              <a:gd name="textAreaLeft" fmla="*/ 30600 w 228600"/>
              <a:gd name="textAreaRight" fmla="*/ 198000 w 228600"/>
              <a:gd name="textAreaTop" fmla="*/ 59760 h 343080"/>
              <a:gd name="textAreaBottom" fmla="*/ 2487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Kund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788000" y="1413000"/>
          <a:ext cx="4032000" cy="2487600"/>
        </p:xfrm>
        <a:graphic>
          <a:graphicData uri="http://schemas.openxmlformats.org/drawingml/2006/table">
            <a:tbl>
              <a:tblPr/>
              <a:tblGrid>
                <a:gridCol w="647640"/>
                <a:gridCol w="1728720"/>
                <a:gridCol w="863640"/>
                <a:gridCol w="79200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0… Kunde Wais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68360" y="41101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12.7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Kunde Waisnix überweist auf unser Bankkonto seine offene Schuld unter Abzug von 3 % 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00 HW-Erlö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4076640"/>
            <a:ext cx="28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pr. Schu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% Skonto               36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hlungsbetrag    1.164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40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40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9440" y="240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64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6160" y="4268880"/>
            <a:ext cx="1725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0 * 3 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8520" y="4309920"/>
            <a:ext cx="228600" cy="343080"/>
          </a:xfrm>
          <a:custGeom>
            <a:avLst/>
            <a:gdLst>
              <a:gd name="textAreaLeft" fmla="*/ 30600 w 228600"/>
              <a:gd name="textAreaRight" fmla="*/ 198000 w 228600"/>
              <a:gd name="textAreaTop" fmla="*/ 59760 h 343080"/>
              <a:gd name="textAreaBottom" fmla="*/ 2487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5840" y="558972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4410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Kundenskonti     30,--   /   20… Kunde Waisnix        36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500 USt                       6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278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2781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10 Kundensk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29440" y="27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314172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4360" y="3213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3213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in Saldo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-38160" y="2997360"/>
            <a:ext cx="5257800" cy="266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Lieferant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00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kaufen Waren auf Ziel beim Lieferanten 33…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2781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r bezahlen innerhalb der Kassafrist unter Abzug des Sk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422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EFERANTENSK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64000" y="5157720"/>
            <a:ext cx="352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rrek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 Einkaufsbuchung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61080" y="234936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1080" y="3716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61080" y="46530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f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7794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10 HW-Einsatz   / 33… Lieferant 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200" y="33638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…. Lieferant XY   /  2800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8200" y="45878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… Lieferant XY /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88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eferanten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4932000" y="2781360"/>
            <a:ext cx="647640" cy="2952720"/>
          </a:xfrm>
          <a:custGeom>
            <a:avLst/>
            <a:gdLst>
              <a:gd name="textAreaLeft" fmla="*/ 0 w 647640"/>
              <a:gd name="textAreaRight" fmla="*/ 234000 w 6476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404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chungssätz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0394 C 0.01042 -0.04676 0.05539 -0.0787 0.10539 -0.0787 C 0.15539 -0.0787 0.20035 -0.04676 0.23039 0.00394 C 0.20035 0.05463 0.15539 0.08657 0.10539 0.08657 C 0.05539 0.08657 0.01042 0.05463 -0.01961 0.00394 Z">
                                      <p:cBhvr>
                                        <p:cTn id="34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Beispiel Lieferantenskonto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788000" y="1413000"/>
          <a:ext cx="4032000" cy="248760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936720"/>
                <a:gridCol w="86328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3… Lieferant Wiffz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o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757080" y="414972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30.6.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kauf von Waren vom Lieferanten Wiffzack (33…) um € 2.000,-- + 20 % USt = € 2.400,-- auf Z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54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5010 HW-Einsatz       € 2.000,--  / 33… Lieferant Wiffzack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500 Vorsteuer                 4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98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35640" y="198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944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24:03Z</dcterms:created>
  <dc:creator>Alexander Pointecker</dc:creator>
  <dc:description/>
  <dc:language>en-US</dc:language>
  <cp:lastModifiedBy>hbla</cp:lastModifiedBy>
  <dcterms:modified xsi:type="dcterms:W3CDTF">2006-03-31T06:08:13Z</dcterms:modified>
  <cp:revision>28</cp:revision>
  <dc:subject/>
  <dc:title>SKON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239354</vt:r8>
  </property>
  <property fmtid="{D5CDD505-2E9C-101B-9397-08002B2CF9AE}" pid="3" name="_AuthorEmail">
    <vt:lpwstr>Alexander.POINTECKER@hbla-ried.at</vt:lpwstr>
  </property>
  <property fmtid="{D5CDD505-2E9C-101B-9397-08002B2CF9AE}" pid="4" name="_AuthorEmailDisplayName">
    <vt:lpwstr>POINTECKER.Alexander</vt:lpwstr>
  </property>
  <property fmtid="{D5CDD505-2E9C-101B-9397-08002B2CF9AE}" pid="5" name="_EmailSubject">
    <vt:lpwstr>Unterrichtsmaterial</vt:lpwstr>
  </property>
</Properties>
</file>