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DAC-7E0F-427F-BFF2-6CA22D57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492-50B2-4EBE-8BEA-DC97555E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8D2-A7AF-40DC-9B77-157D9105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74D-BBBD-4CFE-8A84-297E15EE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36F4-1542-4CFE-9262-E86AC3F2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BA0D-B1AD-4C6F-999F-EEA357BD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C58D-5719-45C7-9CB3-801DF87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9F80-E5C4-4CAF-9F4C-89FDB3C9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0BFD-DB5E-43F2-BEED-82649BC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71200" y="312840"/>
            <a:ext cx="81630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9ACB-C7EA-40BA-A5CA-D6E4B41A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79A7-C107-44D6-87E5-B87FABBC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473-BFCF-4346-AB21-20763E6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021F-BF62-471D-80C8-07BDDD5F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8225-47C3-41E2-B991-67043432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026-48BC-48A0-BBAD-9D96C6E4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6151-CCD0-4537-80F8-3BC089B9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A69D-26FF-406C-A71B-1F1AFF7D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023-7693-4E27-988E-3F727A7E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CB4-75E3-4D6E-BBE8-059A2BEA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36F-C640-4142-B3DA-30E42CD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71200" y="312840"/>
            <a:ext cx="81630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061-BF62-4A9B-AB9D-9611D558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A0D-299F-4A80-8F0F-67D882EA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521-ACC3-4E3F-BEB7-062E610E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CF7-93C3-43D4-AF9F-F1091EE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hak03/schule/corporate_design/images/schriftzug_b_s_w.gif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259-F8B3-4E11-AB2C-B30490B2E6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chriftzug_b_s_w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657600" cy="3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79400" y="1215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B419-9464-4859-A88C-223CAAC500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hak03/schule/corporate_design/images/schriftzug_b_s_w.gif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0332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teuerelemente im Registerblat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ntrollfe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onsfe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ldlaufleis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enfe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mbinationsfe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BD06286_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151000" cy="2209680"/>
          </a:xfrm>
          <a:prstGeom prst="rect">
            <a:avLst/>
          </a:prstGeom>
          <a:ln w="0">
            <a:noFill/>
          </a:ln>
        </p:spPr>
      </p:pic>
      <p:pic>
        <p:nvPicPr>
          <p:cNvPr id="214" name="schriftzug_b_s_w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9436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692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teuerelemente aus ..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rsymbolleis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fachere Möglichk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uerelemente-Tool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hr Gestaltungsmöglichkei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30381" t="37702" r="26985" b="41000"/>
          <a:stretch/>
        </p:blipFill>
        <p:spPr>
          <a:xfrm>
            <a:off x="914400" y="3809880"/>
            <a:ext cx="6838920" cy="2563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71640" y="4581360"/>
            <a:ext cx="194472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4581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280" y="41497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troll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347640" y="4723920"/>
            <a:ext cx="64764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419640" y="5084640"/>
            <a:ext cx="576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6000" y="4869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268360" y="5876640"/>
            <a:ext cx="648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6360" y="6093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148000" y="4723920"/>
            <a:ext cx="136836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562720" y="5013360"/>
            <a:ext cx="954000" cy="62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60720" y="479736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dlauf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227640" y="5949720"/>
            <a:ext cx="648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50160" y="6093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2400" y="6095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h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86400" y="5867280"/>
            <a:ext cx="190440" cy="20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Kontrollfeld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816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hr/Falsch-F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big viele Kontrollfelder unabhängig voneinander steuerb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ntrollfeld einfü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lick auf Eigenschaf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sgabeverknüpfung festleg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elle angeben, wo Wahr od. Falsch ausgegeben werden so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36712" t="44692" r="61187" b="52203"/>
          <a:stretch/>
        </p:blipFill>
        <p:spPr>
          <a:xfrm>
            <a:off x="6781680" y="2895480"/>
            <a:ext cx="10144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Optionsfelder ..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8029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d Gruppenfe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 ein Feld einer bestimmten Gruppe kann aktiviert s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onsfelder aus Formularleiste einfü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schriftungstext festle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liebig oft wiederho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 einem Optionsfeld - Klick auf Eigenschaf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sgabeverknüpfung festleg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elle für alle Optionsfelder einer Gruppe gleich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sfelder zu einer Gruppe zusammenf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st ab zwei Gruppen notwendig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61992" t="54801" r="35417" b="42432"/>
          <a:stretch/>
        </p:blipFill>
        <p:spPr>
          <a:xfrm>
            <a:off x="8153280" y="4419720"/>
            <a:ext cx="722520" cy="677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rcRect l="44236" t="54801" r="53608" b="42890"/>
          <a:stretch/>
        </p:blipFill>
        <p:spPr>
          <a:xfrm>
            <a:off x="7238880" y="838080"/>
            <a:ext cx="12924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Optionsfelder ..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8029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ptionsfelder aus Steuerelemente-Toolbox einfü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chriftungstext festlegen – Caption-Eigenschaf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Jedes Optionsfeld hat eine eigene Ausgabeverknüpf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inkedCell: Bereich für Ausgabe eingeb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ktiviertes Optionsfeld = Wahr =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aktiviertes Optionsfeld = Falsch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ptionsfelder zu einer Gruppe zusammenf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 jeden Optionsfeld muss der GroupName festgelegt werde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3520" y="4876920"/>
            <a:ext cx="1647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Bildlaufleisten ..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4995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eten die Möglichkeit Werte aus einem bestimmten Bereich auszuwähle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genschaften wäh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stellungen vorneh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rittweite (SmallChange) festle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19189" t="26854" r="58142" b="47497"/>
          <a:stretch/>
        </p:blipFill>
        <p:spPr>
          <a:xfrm>
            <a:off x="914400" y="3886200"/>
            <a:ext cx="3168720" cy="2690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rcRect l="0" t="22425" r="61235" b="63784"/>
          <a:stretch/>
        </p:blipFill>
        <p:spPr>
          <a:xfrm>
            <a:off x="5364000" y="4437000"/>
            <a:ext cx="3456000" cy="922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V="1">
            <a:off x="3203640" y="4941720"/>
            <a:ext cx="266364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86000" y="5681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sgabeverknüpf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rehfeld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78487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umerischer Inhalt kann um einen bestimmten Wert verändert wer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ymbol wählen und Drehfeld aufzie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genschaften von Drehfeld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en Wert einstellen (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ber- und Untergrenzen festlegen (Min, Ma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rittweite angeben (SmallChan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ellverknüpfung festlegen (LinkedCell) – Wo soll der Wert ausgegeben werd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59006" t="54486" r="38148" b="42172"/>
          <a:stretch/>
        </p:blipFill>
        <p:spPr>
          <a:xfrm>
            <a:off x="7391520" y="762120"/>
            <a:ext cx="137160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stenfeld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le Einträge sind immer sichtbar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mular: Ausgabeverknüpfung enthält Position, an der sich dieser Wert befind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euerelement: in der Ausgabeverknüpfung wird der gewählte Wert ausgegebe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ound Column – Ausgab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unt Column – Anzeige wie viele Spalt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inkedCell – Wo soll Wert ausgegeben werd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istFillRange – Datenberei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 Kombinationsfeldern bleibt nur der gewählte Eintrag stehen! Drop dow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49219" t="54737" r="48699" b="42482"/>
          <a:stretch/>
        </p:blipFill>
        <p:spPr>
          <a:xfrm>
            <a:off x="7696080" y="5181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47215" t="55092" r="50976" b="43013"/>
          <a:stretch/>
        </p:blipFill>
        <p:spPr>
          <a:xfrm>
            <a:off x="7162920" y="838080"/>
            <a:ext cx="14475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6:37:11Z</dcterms:created>
  <dc:creator>user_note13</dc:creator>
  <dc:description/>
  <dc:language>en-US</dc:language>
  <cp:lastModifiedBy>wkloibhofer</cp:lastModifiedBy>
  <dcterms:modified xsi:type="dcterms:W3CDTF">2006-12-04T10:47:46Z</dcterms:modified>
  <cp:revision>16</cp:revision>
  <dc:subject/>
  <dc:title>Steuerelemente im Registerblatt</dc:title>
</cp:coreProperties>
</file>