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580-7FAF-4BB5-8D7C-6290559B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36216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A1D9-05AE-4589-8169-ACBB11B8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16761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36216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36216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DEB4-B16A-4AB8-87CD-60164235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16761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16761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36216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36216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36216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422-F5A0-43A4-A549-279CBEC0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140F-EE7A-428B-81AD-7ED2B2FB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86E5-0D25-4629-B887-2AFE59C8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C245-E268-4953-B7B1-77F17CDC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16761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8BCB-C5B3-4BAB-A87F-95E6F40F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3A95-FDDE-40BF-AAB5-DB7F8DDD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00280" y="800280"/>
            <a:ext cx="784764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6CFD-D253-4422-92E1-58346451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16761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6216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3F52-C780-472F-BBB1-C4B24389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036-1707-4786-AC50-B1E15B18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16761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80080" y="36216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1F25-5C43-455E-938A-8E9CFC50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16761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36216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3AEE-2AA9-4CD2-A044-D35246CF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36216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978C-E71A-48AD-98F7-092449BF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0080" y="16761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6216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80080" y="36216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8CE6-6AE1-4298-B247-F76121D2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9080" y="16761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0080" y="16761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36216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9080" y="36216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0080" y="36216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5A41-C769-489F-B970-BCAEF80E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01F-25EC-45F7-9CB9-2E58E1E3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16761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3E0-F8D7-46C1-89CB-DEF363F5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AEB-6535-4FC6-9AA0-0EC9980A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00280" y="800280"/>
            <a:ext cx="784764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D27-3D2E-4C71-A98C-DE9478DC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6761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6216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D2D-9ADF-4127-A265-625F9E1E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16761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36216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894-7E17-4FA0-881A-ED311B34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16761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6216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084-56F8-45D9-A4FC-C433527F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0800000">
            <a:off x="0" y="6629040"/>
            <a:ext cx="9144000" cy="228600"/>
          </a:xfrm>
          <a:prstGeom prst="roundRect">
            <a:avLst>
              <a:gd name="adj" fmla="val 0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2743200" cy="105264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89240"/>
            <a:ext cx="7391520" cy="277560"/>
            <a:chOff x="228600" y="1389240"/>
            <a:chExt cx="7391520" cy="277560"/>
          </a:xfrm>
        </p:grpSpPr>
        <p:sp>
          <p:nvSpPr>
            <p:cNvPr id="3" name=""/>
            <p:cNvSpPr/>
            <p:nvPr/>
          </p:nvSpPr>
          <p:spPr>
            <a:xfrm>
              <a:off x="609480" y="1389240"/>
              <a:ext cx="7010640" cy="2757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2f75"/>
                </a:gs>
                <a:gs pos="100000">
                  <a:srgbClr val="00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89240"/>
              <a:ext cx="393840" cy="277560"/>
            </a:xfrm>
            <a:prstGeom prst="flowChartDelay">
              <a:avLst/>
            </a:prstGeom>
            <a:gradFill rotWithShape="0">
              <a:gsLst>
                <a:gs pos="0">
                  <a:srgbClr val="002f75"/>
                </a:gs>
                <a:gs pos="100000">
                  <a:srgbClr val="00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355920" y="645912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A60C-5F9A-4BA6-9239-BD8A97757868}" type="datetime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940000" y="6597360"/>
            <a:ext cx="32036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75280" y="6585120"/>
            <a:ext cx="4683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927F-52B0-458F-8B9A-4072E909CB99}" type="slidenum">
              <a:rPr b="1" lang="en-US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>
            <a:lum bright="6000"/>
          </a:blip>
          <a:srcRect l="7785" t="33193" r="13706" b="0"/>
          <a:stretch/>
        </p:blipFill>
        <p:spPr>
          <a:xfrm>
            <a:off x="8534520" y="0"/>
            <a:ext cx="609480" cy="59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429000" cy="68580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429000" y="2900520"/>
            <a:ext cx="4829040" cy="317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356B-5DEF-4B33-9EF2-F532069685D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2864-46BE-4D28-B23B-A02572A707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964440" y="1269360"/>
            <a:ext cx="736668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bright="6000"/>
          </a:blip>
          <a:srcRect l="7785" t="33193" r="13706" b="0"/>
          <a:stretch/>
        </p:blipFill>
        <p:spPr>
          <a:xfrm>
            <a:off x="8153280" y="3240"/>
            <a:ext cx="990720" cy="963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9246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rashkurs Verkaufsgespräch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9280" y="3773160"/>
            <a:ext cx="1800360" cy="116820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WP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C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4/0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3784680"/>
            <a:ext cx="4103640" cy="230832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in guter Verkäuf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as Verkaufsgesprä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Kundenbedürfnisse ermittel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ngebot formulier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eschäft abschließ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erkaufspsycholog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93800" y="946440"/>
            <a:ext cx="7847640" cy="5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n Kunden ansprechen –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e-Standpunkt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1773000"/>
            <a:ext cx="8155080" cy="316836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undenorientierte Ausdrücke verwenden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ier sehen Sie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amit können Sie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ie erhalten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516720" y="2781360"/>
            <a:ext cx="223344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3D2-BE89-49A3-A80A-CE06037A02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eis „verpacken“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1773000"/>
            <a:ext cx="8155080" cy="316836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is erst nennen, wenn beim Kunden ein Wunsch nach dem Produkt vorhanden is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is mit Nutzen und Bedürfnissen verbinde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ise relativieren (Preis/Stück, Preis/Jahr, 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307280" y="2205000"/>
            <a:ext cx="122076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169C-FCDC-4CF1-895D-E31AD394C4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it Einwänden umgehe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1773000"/>
            <a:ext cx="8155080" cy="338436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teresse zeigen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uhig zuhören, nachfragen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igene Argumente vorbringen –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icht verteidigen und rechtfertigen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emeinsame Lösung erarbei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659640" y="1989000"/>
            <a:ext cx="1985760" cy="20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31E-8A78-414C-92C7-DBEA9A86E3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er Abschlus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7720" y="1773360"/>
            <a:ext cx="8155080" cy="302400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ertrauen des Kunden festigen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onkrete Vereinbarung treff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ertrag unterzeichn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ächstes Treffen vereinbaren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undenbindung für weitere Geschäf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07240" y="1700280"/>
            <a:ext cx="1941480" cy="25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028-20ED-4E72-B4CC-83AFD49556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erkaufspsychologie – AIDA-Regel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136520" y="5662440"/>
            <a:ext cx="7632720" cy="50328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tention – Aufmerksamkeit gewinn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06400" y="4869000"/>
            <a:ext cx="6497640" cy="57600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terest - Interesse weck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95440" y="4005360"/>
            <a:ext cx="5112000" cy="64908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sire – Wunsch zum Kau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98720" y="3284640"/>
            <a:ext cx="4103640" cy="50472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tion – Kaufhandlu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8360" y="1989000"/>
            <a:ext cx="2521080" cy="107964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atisfaction –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Zufriedenheit na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em Kau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8671400">
            <a:off x="492480" y="4005720"/>
            <a:ext cx="3816360" cy="360360"/>
          </a:xfrm>
          <a:prstGeom prst="rightArrow">
            <a:avLst>
              <a:gd name="adj1" fmla="val 50000"/>
              <a:gd name="adj2" fmla="val 26476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3726800">
            <a:off x="5596200" y="4003920"/>
            <a:ext cx="3816360" cy="360360"/>
          </a:xfrm>
          <a:prstGeom prst="rightArrow">
            <a:avLst>
              <a:gd name="adj1" fmla="val 50000"/>
              <a:gd name="adj2" fmla="val 26476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0FB-8208-4FF4-AEC9-00752B48E9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ollenspiele Verkaufsgespräch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7720" y="1773360"/>
            <a:ext cx="8155080" cy="417672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3366"/>
                </a:solidFill>
                <a:uFillTx/>
                <a:latin typeface="Arial"/>
              </a:rPr>
              <a:t>Rollenspiel 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Verkäufer: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Mitarbeiter bei Teler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Käufer: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chüler, 16 Jahre. Kaufverhalten ist unschlüssig. Das Handy sollte „In“ sein und die neusten Funktionen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haben. Erstanmeldung, so preiswert wie möglich. 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3366"/>
                </a:solidFill>
                <a:uFillTx/>
                <a:latin typeface="Arial"/>
              </a:rPr>
              <a:t>Rollenspiel 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Verkäufer: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erater bei der Firma Elk-Fertighäus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Käufer: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Ehepaar Anfang 40 mit 2 kleinen Kindern,  durchschnittlicher Verdienst. Kaufwunsch: Kleines Haus im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Grünen für die ganze Familie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3366"/>
                </a:solidFill>
                <a:uFillTx/>
                <a:latin typeface="Arial"/>
              </a:rPr>
              <a:t>Rollenspiel 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Verkäufer: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Verkäufer beim Autohaus Porsche Alpenstraß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Käufer: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Mann, 35 Jahre, gutes Einkommen. Kaufwunsch: Sportwagen, tolles Design, viel Leistu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3366"/>
                </a:solidFill>
                <a:uFillTx/>
                <a:latin typeface="Arial"/>
              </a:rPr>
              <a:t>Rollenspiel 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Verkäufer: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Mitarbeiter bei der Raiffeisenbank Salzbu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Käufer: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hepaar, Anfang 30, durchschnittliches Einkommen. Wunsch: Sichere Geldanlage für das zukünftige Hau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7C2-3906-4DDA-9956-CE03D6A1E1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eedback Rollenspiel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7720" y="1773360"/>
            <a:ext cx="8155080" cy="424800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Kontaktaufnahme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- Wie war die Kontaktaufnahme?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- Ist es schwer gefallen, mit einer fremden“ Person Smalltalk zu führen?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Kundenbedürfnisse ermitteln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- Welche Fragen hat der Verkäufer gestellt um die Kundenbedürfnisse zu erfahren?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- Hat er Interesse an den Wünschen des Kunden gezeigt?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- Wurden die Kundenbedürfnisse richtig erkannt?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Angebot formulieren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- Konnte der Verkäufer die Wünsche des Kunden richtig interpretieren und das richtige Produkt anbieten?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- Wurde der Kunde optimal beraten?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- Produktbeschreibung?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- Wurde das Verlangen des Kunden nach dem Produkt noch gesteigert?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- Preis „verpacken“?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- Wurde der Kunde direkt angesprochen?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- Wie wurde mit Fragen und Einwänden umgegangen?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Abschluss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- Wurde eine konkrete Vereinbarung getroffen?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- Wie wurde der Kauf abgeschlossen?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- Ist es gelungen, den Kunden für weitere Geschäfte zu binden?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3AE-3758-4FA5-B5BB-4E963EFA2B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erkaufsgespräch als Werbu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8155080" cy="470088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Jede Kaufentscheidung ist abhängig vom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erhalten des Verkäufer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492360" y="3716280"/>
            <a:ext cx="2689200" cy="242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11AC-DB4F-4C63-814A-82B0D83BD1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er gute Verkäufe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63640" y="5734080"/>
            <a:ext cx="6193080" cy="88416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ositive Einstellung </a:t>
            </a: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9640" y="2708280"/>
            <a:ext cx="3155760" cy="1933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rot="1617600">
            <a:off x="971280" y="1968120"/>
            <a:ext cx="2725560" cy="45252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undenorientie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453800">
            <a:off x="6418080" y="3428640"/>
            <a:ext cx="2725560" cy="86508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usgezeichne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duktkenntn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4869000"/>
            <a:ext cx="1871640" cy="45216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zuverlässi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283400">
            <a:off x="6082920" y="2060640"/>
            <a:ext cx="2952720" cy="100800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u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nschenkenntn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3558600">
            <a:off x="2168640" y="4534560"/>
            <a:ext cx="2089080" cy="45252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überzeug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9569000">
            <a:off x="684360" y="3573000"/>
            <a:ext cx="2725560" cy="45252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ontaktfreudi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617800">
            <a:off x="6875280" y="5013000"/>
            <a:ext cx="2376360" cy="45252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ragen stel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70200">
            <a:off x="638640" y="5124960"/>
            <a:ext cx="2238480" cy="45252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ktiv zuhö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1700280"/>
            <a:ext cx="2303640" cy="86508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ewinnen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uftre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17600">
            <a:off x="5724000" y="4797360"/>
            <a:ext cx="2160720" cy="45252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blemlö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7BC-6BFB-427A-9CD7-4A165F5E90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erkaufsgespräch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1752120"/>
            <a:ext cx="8155080" cy="412452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orbereitung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ontaktaufnahme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undenbedürfnis ermitteln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ngebot formulieren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bschlu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3008520" cy="24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9EE-E8BD-493E-B9E2-5613627849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sprächsvorbereitu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1752120"/>
            <a:ext cx="8155080" cy="412452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r ist der Kunde?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Ziel festlegen (Verkauf?, Information?, Kennenlernen?)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Zeitrahmen setzen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ngenehme Atmosphäre schaff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43640" y="2997360"/>
            <a:ext cx="2394000" cy="201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869-9C4C-424D-B857-A02F8FC9A5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Kontaktaufnahm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1752120"/>
            <a:ext cx="8155080" cy="412452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grüßung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urzer Smalltalk (je nach Charakter und Bekanntheitsgrad)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ngenehme Atmosphä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4653000"/>
            <a:ext cx="6193080" cy="86508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er erste Eindruck entscheidet </a:t>
            </a: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47D-506F-4388-909C-D74B3D9C9E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Kundenbedürfnis ermittel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1699920"/>
            <a:ext cx="8155080" cy="475308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Zuhö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ufnahmebereitschaft/Interesse signalisier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eit lass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Keine Störung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ra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Geschlossene Fragen (mit JA/NEIN-Antworten)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- Zur Bestätigung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- Abschluss herbeiführ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ffene Fragen (Wie?, Warum?, Was?, Welche?, Wo?, …)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- Zur Informationsgewinnu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84720" y="2060640"/>
            <a:ext cx="2880000" cy="1763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71640" y="5445000"/>
            <a:ext cx="7488000" cy="100836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erkäufer als Psychologe und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blemlös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899D-119D-41AA-BE86-C434C4DDA4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otive und Bedürfnisse erkenne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3357720"/>
            <a:ext cx="2003760" cy="1263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3429000"/>
            <a:ext cx="3240360" cy="108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00000" y="4632480"/>
            <a:ext cx="3672000" cy="81252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on A nach B fahre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inkauf transportiere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3640" y="4632480"/>
            <a:ext cx="3888000" cy="81252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chön?, Reich?, Sex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chnell?, tolle Ausflüg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637000"/>
            <a:ext cx="2376720" cy="72072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rund- u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Zusatznutz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2637000"/>
            <a:ext cx="2374920" cy="72072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rlebnis- u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eltungsnutz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7920" y="5589720"/>
            <a:ext cx="7920000" cy="79200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le Kaufentscheidungen kommen aus dem Gefühl, nur wenige vom Verst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1773360"/>
            <a:ext cx="7704360" cy="79200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dukte verkaufen sich über den Grund-/ Zusatznutzen und den Erlebnis-/Geltungsnutz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664E-A656-42BE-882B-33C6B17F30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gebot formuliere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7720" y="1773360"/>
            <a:ext cx="8155080" cy="4464000"/>
          </a:xfrm>
          <a:prstGeom prst="rect">
            <a:avLst/>
          </a:prstGeom>
          <a:solidFill>
            <a:srgbClr val="c0d7fa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ilder &amp; Prospekte verwenden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rkmale &amp; Nutzen des Produktes beschreiben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darfsgerecht anbieten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infache Sprache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urze Sätze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ratu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19640" y="2997360"/>
            <a:ext cx="3384720" cy="27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B14-3756-4EAF-AB95-275B42088E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36:26Z</dcterms:created>
  <dc:creator>Alexander Wallner</dc:creator>
  <dc:description/>
  <dc:language>en-US</dc:language>
  <cp:lastModifiedBy>Alexander Wallner</cp:lastModifiedBy>
  <dcterms:modified xsi:type="dcterms:W3CDTF">2005-01-23T12:35:45Z</dcterms:modified>
  <cp:revision>124</cp:revision>
  <dc:subject/>
  <dc:title>Management von EDV-Anwendungsprojekten</dc:title>
</cp:coreProperties>
</file>