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A5E-9802-4B10-890B-4CE25386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0A6-699D-4546-AB4E-77818F26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96C-D4C4-4C8D-B637-171F512D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ADC-57A8-464E-9625-FDBBFB26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B47-C607-48B7-9FDF-101C66C1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00000" y="-171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275-DDF4-4886-8801-946AF7B5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842-A8FA-4A0C-AD8D-36E94BA4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CAB-96EA-4B97-B6D2-BBD9C175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6944-3AEF-4533-9813-BB9D0775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8F2-AAAA-47F0-A0AF-446323CB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FA7-C36A-4765-8918-B1977445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149-DA9D-4602-83F6-F0AE8655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-171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9040" y="692280"/>
            <a:ext cx="8305920" cy="182520"/>
            <a:chOff x="419040" y="692280"/>
            <a:chExt cx="8305920" cy="182520"/>
          </a:xfrm>
        </p:grpSpPr>
        <p:sp>
          <p:nvSpPr>
            <p:cNvPr id="2" name=""/>
            <p:cNvSpPr/>
            <p:nvPr/>
          </p:nvSpPr>
          <p:spPr>
            <a:xfrm>
              <a:off x="6896160" y="692280"/>
              <a:ext cx="182880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9040" y="768600"/>
              <a:ext cx="830592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50080" y="6402240"/>
            <a:ext cx="2146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Mag. Michael Spannber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HAK/BHAS Hal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77465D-D35D-4E73-B4C3-322F28FEF2F4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Arial"/>
              </a:rPr>
              <a:t>Zahlungsbedingunge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1052640"/>
            <a:ext cx="4176720" cy="39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? Wann? Wer trägt die Ko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6880" y="1700280"/>
            <a:ext cx="3448080" cy="45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hlungs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9280" y="2565360"/>
            <a:ext cx="1506600" cy="36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hlung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5040" y="2492280"/>
            <a:ext cx="1213920" cy="36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pun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37440" y="2749680"/>
            <a:ext cx="1745640" cy="36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derfor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00" y="2997360"/>
            <a:ext cx="24102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Ort des Käufers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BER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„Geldschulden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ickschulde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5960" y="2921040"/>
            <a:ext cx="3051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) Vorauszah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ebay, Ware knapp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) Prompte Zah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Zug um Zug“ bei Üb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be der Ware 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ort nach Übersend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Rechnung (Faktura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….“zahlbar sofort nach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hal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) Spätere Zah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Kauf auf Ziel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 …zahlbar innerhalb v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0 Tagen.(meist mit Sko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3429000"/>
            <a:ext cx="2987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) Anzah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teilweise Vorauszah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bei Sonderanfertigung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) Ang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ilweise Vorauszah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mit besonderen rech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licher Auswirku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) Teilzahlung (Ra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) Abzahlungsgeschäft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nach dem KSch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00" y="4294080"/>
            <a:ext cx="2733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Käufer bezahlt rech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itig, wenn er 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älligkeitstag den Bet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 seinem Wohn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gunsten des V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käufers einzahlt.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äuf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uss die Üb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isung beza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124000" y="22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24360" y="227664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51800" y="189000"/>
            <a:ext cx="1653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765000"/>
            <a:ext cx="86756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 der Käufer bezahlt an den Verkäufer eine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       Anzahlung/Angeld von € 10.000,-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ll 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er Verkäufer kann nicht lief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zah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er Verkäufer muss die Anzahlung komplett zurückge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g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er Verkäufer muss dem Käufer das doppelte Angeld (€ 20.000,-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a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ll 2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er Käufer nimmt die gelieferte Maschine nicht 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zahl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 Der Verkäufer muss einen eventuell entstanden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Schaden nachweisen. Beispielsweise kann er die Maschine heu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nur mehr um € 6.000,-- weniger verkaufen. In diesem Fall muss 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dem Käufer € 4.000,-- zurückgeben (erhaltene Anzahlung v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€ 10.000,-- minus entstandenen Schaden von € 6.000,-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gel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 der Verkäufer kann sich das gesamte Angeld behalten (und m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n Schaden nachwei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4360" y="758880"/>
            <a:ext cx="7488000" cy="61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bzahlungsgeschäfte nach dem KSc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gelungen schützen Konsumenten vor unüberlegten Ratengeschäf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e gelten NUR wen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käufer ist Unternehmer, Käufer ist Privat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ufvertrag über eine bewegliche, körperliche S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arzahlungspreis € 25.000,-- nicht übersteigt (Preis ohne Zins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ndestens 3 Raten vereinbart wu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spiele für „Schutzregelungen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richtsstand ist immer der Wohnort des Konsu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Gesamtlaufzeit der Vereinbarung darf höchstens 60 Monate betr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  <a:lum bright="6000"/>
          </a:blip>
          <a:stretch/>
        </p:blipFill>
        <p:spPr>
          <a:xfrm>
            <a:off x="3203640" y="4724280"/>
            <a:ext cx="3151080" cy="194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7729" r="0" b="0"/>
          <a:stretch/>
        </p:blipFill>
        <p:spPr>
          <a:xfrm>
            <a:off x="611280" y="4149720"/>
            <a:ext cx="2120760" cy="2708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59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Arial"/>
              </a:rPr>
              <a:t>Verpackun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4120" y="1052640"/>
            <a:ext cx="4211640" cy="45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ktionen der Verpack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600" y="1700280"/>
            <a:ext cx="1347840" cy="518400"/>
          </a:xfrm>
          <a:prstGeom prst="rect">
            <a:avLst/>
          </a:prstGeom>
          <a:solidFill>
            <a:srgbClr val="ffff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u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73640" y="1844640"/>
            <a:ext cx="2195280" cy="1006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leichter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 Tran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 der Lag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00600" y="1844640"/>
            <a:ext cx="1721160" cy="518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440" y="2349360"/>
            <a:ext cx="25682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yropor bei Elektro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gerä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tränkepack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(gegen Ausri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uftdicht bei Druck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patr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0560" y="155736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155736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99400" y="3284640"/>
            <a:ext cx="2532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812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.B. Paletten fü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Zie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chachteln ver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packte Elektro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97360" y="2637000"/>
            <a:ext cx="2097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812"/>
              <a:buBlip>
                <a:blip r:embed="rId1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prechend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chenkv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pack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6300720" y="4005360"/>
            <a:ext cx="30592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4259160"/>
            <a:ext cx="3463920" cy="2598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37052" t="0" r="35493" b="0"/>
          <a:stretch/>
        </p:blipFill>
        <p:spPr>
          <a:xfrm rot="1056600">
            <a:off x="7473960" y="2601720"/>
            <a:ext cx="1573200" cy="4292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59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Arial"/>
              </a:rPr>
              <a:t>Verpackun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4640" y="765000"/>
            <a:ext cx="68079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urden keine Vereinbarungen getroffen gi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käufer muss Verpackung „mit der Sorgfalt eines ordentlic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Kaufmannes“ auswählen („normale Verpackung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äufer muss die Kosten der Verpackung zahl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meist im Preis inbegriffe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2637000"/>
            <a:ext cx="784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derrege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„neutrale Verpackung“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(kein Hinweis auf den Hersteller auf der Verpack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3789360"/>
            <a:ext cx="291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r mehr Kunststof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inwegverpack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2960" y="3860640"/>
            <a:ext cx="326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hr fabriksverpackte 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0560" y="350028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wicklungen bei der Verpac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437000"/>
            <a:ext cx="2916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ärkere Werbungs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funk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rcRect l="19766" t="0" r="21202" b="0"/>
          <a:stretch/>
        </p:blipFill>
        <p:spPr>
          <a:xfrm>
            <a:off x="5651640" y="4724280"/>
            <a:ext cx="1679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27840" y="1593720"/>
            <a:ext cx="3116160" cy="1835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Arial"/>
              </a:rPr>
              <a:t>Lieferbedingunge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5200" y="1557360"/>
            <a:ext cx="60940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ufpreis der 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zugspesen (z.B. Frachtkosten, Versicherung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standsp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10760" y="2943360"/>
            <a:ext cx="29224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efer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5600" y="3645000"/>
            <a:ext cx="1881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üllungszei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„Liefertermin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58120" y="3716280"/>
            <a:ext cx="161784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füllung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40680" y="3716280"/>
            <a:ext cx="27806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stenüberga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nsport, Versicher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0000" y="4869000"/>
            <a:ext cx="277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mpt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chäf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„Sofort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nn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nicht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vereinbar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gilt „sofort“ (inn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lb weniger 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05360" y="4149720"/>
            <a:ext cx="327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 geht das Eigentum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somit auch das Risik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eventuelle Beschädigun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 auf den Käufer über?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n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ch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einbar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 = Ort an dem Verkäuf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Zeitpunkt des Vertrag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chlusses seinen Sitz hat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4581360"/>
            <a:ext cx="236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nn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nicht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vereinbart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erkäufer trägt all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Kosten bis zum Er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füllung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50160" y="4869000"/>
            <a:ext cx="11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min-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ch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55280" y="4292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4292640"/>
            <a:ext cx="43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9680" y="765000"/>
            <a:ext cx="680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arum wichtig? - hohe Kosten bei Einkauf im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sland oder beim Transport von schweren/wertvollen Güter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84360" y="342900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429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3429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3:01:48Z</dcterms:created>
  <dc:creator>Teilnehmer</dc:creator>
  <dc:description/>
  <dc:language>en-US</dc:language>
  <cp:lastModifiedBy>Mag. Helmut Bauer</cp:lastModifiedBy>
  <dcterms:modified xsi:type="dcterms:W3CDTF">2006-03-15T12:24:18Z</dcterms:modified>
  <cp:revision>105</cp:revision>
  <dc:subject/>
  <dc:title>Kaufvertrag</dc:title>
</cp:coreProperties>
</file>