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80E-1B26-42EF-85F5-D0FCC0EF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0AC-B98B-48A2-B68D-4D6C8E48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431-2BA9-4E29-BFE6-EA56CA40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6C2-E3C7-4BCE-8B2C-F4D222A1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C25-FDB2-445E-81DD-55969858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97D-3A83-404F-9AE5-EE1F4A51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5FE-09E5-4601-941A-4648B446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E5B-7050-44F1-8A28-826F371E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EF5-D0C2-418C-B997-5D8C6E4D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FC5-E065-413B-AE38-FCDBC727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27F-769B-4B4B-A50C-6173C4AE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306-9CB3-4C5A-A00C-68CD882F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DC65-0E20-4352-85B9-515114BEA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Bestandsko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1557360"/>
            <a:ext cx="7561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ktive Bestandskonten: dort werden die Vermögenswerte (Aktiva) verrechnet. zB Lebensmittel, Getränke, Bank, Kassa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m Soll stehen -- AB und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m Haben stehen  -- EB (Saldo) und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assive Bestandskonten: dort wird das Eigenkapital und Fremdkapital (Schulden, Passiva) verrechnet. zB LVB, Darlehen, EK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m Haben stehen -- AB und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m Soll stehen -- EB (Saldo) und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19640" y="306864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8207280" cy="319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Eröffnung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– mit dem Eröffnungsbilanzkonto </a:t>
            </a: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EBK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ktive Bestandskonten: </a:t>
            </a:r>
            <a:r>
              <a:rPr b="0" lang="de-AT" sz="2800" spc="-1" strike="noStrike">
                <a:solidFill>
                  <a:srgbClr val="0033cc"/>
                </a:solidFill>
                <a:latin typeface="Arial"/>
              </a:rPr>
              <a:t>akt. Konto / EBK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zB Bank/EBK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assive Bestandskonten: EBK/pass. Konto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zB EBK/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81374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Abschluss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– mit dem Schlussbilanzkonto </a:t>
            </a: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SB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ktive Bestandskonten: </a:t>
            </a:r>
            <a:r>
              <a:rPr b="0" lang="de-AT" sz="2800" spc="-1" strike="noStrike">
                <a:solidFill>
                  <a:srgbClr val="0033cc"/>
                </a:solidFill>
                <a:latin typeface="Arial"/>
              </a:rPr>
              <a:t>SBK / akt. K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assive Bestandskonten: pass. Konto/SB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Eröffnung, Abschluss und die dazwischen liegenden Geschäftsfälle werden im Hauptbuch wie folgt „zusammengefasst“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Jedes einzelne Konto muss als erstes mit dem EBK eröffne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bschluss EBK – kein Saldo, dh Aktiva und Passiva gle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Verbuchung der einzelnen Geschäftsfä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tragung der Buchungssätze in die einzelnen Ko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bschluss der Bestandskonten (Klasse 0,1,2,3) mit SB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bschluss der Erfolgskonten (Klasse 4,5,6,7,8) mit Gu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bschluss des Kontos Privat mit Eigenkapital (960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bschluss GuV mit EK (Am GuV ergibt der Saldo Gewinn oder Verlust, welcher dann zu einer Erhöhung oder Verminderung des EK führ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bschluss EK mit SB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ummengleichheit im SB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4:04:06Z</dcterms:created>
  <dc:creator>Wegscheider</dc:creator>
  <dc:description/>
  <dc:language>en-US</dc:language>
  <cp:lastModifiedBy>Wegscheider</cp:lastModifiedBy>
  <dcterms:modified xsi:type="dcterms:W3CDTF">2004-11-02T14:21:15Z</dcterms:modified>
  <cp:revision>2</cp:revision>
  <dc:subject/>
  <dc:title>Bestandskonten</dc:title>
</cp:coreProperties>
</file>