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2E89-C27D-42CD-AD91-AF15870C6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3A10-8E8A-494B-96E3-424F857C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6AE6-329F-480E-976C-E6ECCB5D6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41D1-C72C-45E6-A23E-6CF576E38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43DC-16BC-4C99-9878-1680848E8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1CE6-A03D-477B-938B-00F4B53A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C2C7-9C0F-4AF3-935D-ECDCD4D6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CB74-9526-45A0-AFAA-F11258B4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D0287-A629-4674-824C-868AC9EC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A59F-71C5-43BE-B1AC-5D6B02D2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D4B1-B658-4167-BABD-92F9C8DC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5DEA-BA68-4155-8502-6859B35E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00B6-E475-4D57-8041-904FB8E4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1619-DCB7-4870-B3DE-A6E89E88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0F5E-9F14-4551-8374-98FFCAEC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BE38-B502-48FF-B839-CFCA58D4B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F3BA-00C2-4C59-87E5-721CB7AAB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6776-FB5F-4F65-AB74-10D51879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2A9C-A2DA-4442-8412-F3FD5FBC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5452-7B50-42EF-8ABC-41D89544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F66F-77E1-413C-8A02-2EC22189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6B4B-E8E4-48B2-942D-7D1BFF2D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516C-2246-4F0A-A299-B052710A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F49C-DE67-41FA-9947-C2A2ED43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6C34-FBD8-447D-8224-C4A5C5A9FF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95AD-3BE1-4628-A413-BC9C6ACCA32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7494840" cy="32115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12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in Bild sagt mehr als 1000 Wort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 Black"/>
              </a:rPr>
              <a:t>Schritt 2 - Datenbereic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723920" y="1523520"/>
            <a:ext cx="4064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Daten, die für das Diagramm wichtig si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6600"/>
                </a:solidFill>
                <a:latin typeface="Tahoma"/>
              </a:rPr>
              <a:t>Reihe in Zeilen: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Zeilen bilden Säulengrupp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6600"/>
                </a:solidFill>
                <a:latin typeface="Tahoma"/>
              </a:rPr>
              <a:t>Reihe in Spalten: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 Spalten bilden Säulengrupp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(in diesem Fall wurde Reihen in Spalten gewähl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Bei Blatt „Reihen“ kann man die Namen der Reihen ändern und die Rubrikenachse beschrift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80880" y="1676520"/>
          <a:ext cx="4135680" cy="182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76520"/>
                    <a:ext cx="41356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380880" y="3505320"/>
          <a:ext cx="4191120" cy="2936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505320"/>
                    <a:ext cx="4191120" cy="29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Black"/>
              </a:rPr>
              <a:t>Schritt 3a - Diagrammoption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Formatierung des Diagramms</a:t>
            </a:r>
            <a:br>
              <a:rPr sz="2200"/>
            </a:br>
            <a:br>
              <a:rPr sz="1800"/>
            </a:b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-&gt; </a:t>
            </a:r>
            <a:r>
              <a:rPr b="0" lang="de-DE" sz="2200" spc="-1" strike="noStrike">
                <a:solidFill>
                  <a:srgbClr val="ff6600"/>
                </a:solidFill>
                <a:latin typeface="Tahoma"/>
              </a:rPr>
              <a:t>Titel</a:t>
            </a: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: Eingabe des Titels und Beschriftung der Achsen (TIP: nicht mit Enter sondern mit Tabulator bestätigen)</a:t>
            </a:r>
            <a:br>
              <a:rPr sz="2200"/>
            </a:b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-&gt; </a:t>
            </a:r>
            <a:r>
              <a:rPr b="0" lang="de-DE" sz="2200" spc="-1" strike="noStrike">
                <a:solidFill>
                  <a:srgbClr val="ff6600"/>
                </a:solidFill>
                <a:latin typeface="Tahoma"/>
              </a:rPr>
              <a:t>Gitternetzlinie</a:t>
            </a: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: Hinzufügen oder Entfernen der Linien in der Diagrammfläche</a:t>
            </a:r>
            <a:br>
              <a:rPr sz="2200"/>
            </a:b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-&gt; </a:t>
            </a:r>
            <a:r>
              <a:rPr b="0" lang="de-DE" sz="2200" spc="-1" strike="noStrike">
                <a:solidFill>
                  <a:srgbClr val="ff6600"/>
                </a:solidFill>
                <a:latin typeface="Tahoma"/>
              </a:rPr>
              <a:t>Legende</a:t>
            </a: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: Entscheidung ob Legende oder nicht und wo diese platziert ist</a:t>
            </a:r>
            <a:br>
              <a:rPr sz="2200"/>
            </a:b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Black"/>
              </a:rPr>
              <a:t>Schritt 3b - Diagrammoption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&gt; </a:t>
            </a:r>
            <a:r>
              <a:rPr b="0" lang="en-US" sz="2200" spc="-1" strike="noStrike">
                <a:solidFill>
                  <a:srgbClr val="ff6600"/>
                </a:solidFill>
                <a:latin typeface="Tahoma"/>
              </a:rPr>
              <a:t>Datenbeschriftu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nzeigen des Wertes, der Beschriftung, der Prozente 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&gt; </a:t>
            </a:r>
            <a:r>
              <a:rPr b="0" lang="en-US" sz="2200" spc="-1" strike="noStrike">
                <a:solidFill>
                  <a:srgbClr val="ff6600"/>
                </a:solidFill>
                <a:latin typeface="Tahoma"/>
              </a:rPr>
              <a:t>Datentabel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die Tabelle wird unter dem Diagramm angezeigt (siehe folgendes Diagram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80880" y="3352680"/>
          <a:ext cx="8153640" cy="32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352680"/>
                    <a:ext cx="815364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 Black"/>
              </a:rPr>
              <a:t>Schritt 4 - Diagramm einfüg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80880" y="1600200"/>
          <a:ext cx="7772400" cy="468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7772400" cy="468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Arial Black"/>
              </a:rPr>
              <a:t>Formatierung des Diagram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itere Formatierung des Diagramms (Hintergrundfarbe, Änderungen von Titel, Legende, Gitternetzlinien)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licken auf die einzelnen Bestandteile des Diagramms mit der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rechten Maustas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mensch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7944120" cy="2779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s sind Diagramme im EXC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nt zur grafische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rstellung einer Tabe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rden mit Hilfe d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agramm-Assistenten erstel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Menü Einfügen – Diagramm..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989680" y="2514600"/>
            <a:ext cx="315432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600200" y="1981080"/>
          <a:ext cx="6372360" cy="394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981080"/>
                    <a:ext cx="6372360" cy="39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estandteile eines Diagram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376560" y="5875200"/>
            <a:ext cx="25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-Achse(Größenach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2590920"/>
            <a:ext cx="609480" cy="76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7620120" y="297180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409720" y="2209680"/>
            <a:ext cx="1219320" cy="1295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590560" y="2286000"/>
            <a:ext cx="15228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6552720" y="5562720"/>
            <a:ext cx="30492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523880" y="5029200"/>
            <a:ext cx="68580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343400" y="5791320"/>
            <a:ext cx="3049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1905120"/>
            <a:ext cx="228600" cy="1904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19051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714640" y="5257800"/>
            <a:ext cx="15228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95360" y="6172200"/>
            <a:ext cx="24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-Achsenbeschrif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6172200"/>
            <a:ext cx="276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-Achse(Rubrikenach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72080" y="5722920"/>
            <a:ext cx="24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brikenbeschrif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16002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enpunkt(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440" y="1531800"/>
            <a:ext cx="166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grammtit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286000"/>
            <a:ext cx="248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-Achsenbeschrif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3040" y="1981080"/>
            <a:ext cx="222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ößenbeschrif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5280" y="1836720"/>
            <a:ext cx="206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enbeschrif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43800" y="259884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e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Arial Black"/>
              </a:rPr>
              <a:t>Diagramm-Assist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uerst werden die für das Diagramm notwendigen Daten markier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ipp: auch auf die Beschriftungen nicht vergesse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nach wird der Assistent geöffne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ü Einfügen – Diagramm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folgenden vier Schritte sind zu bearbeit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Black"/>
              </a:rPr>
              <a:t>Schritt 1 – </a:t>
            </a:r>
            <a:br>
              <a:rPr sz="4000"/>
            </a:br>
            <a:r>
              <a:rPr b="0" lang="en-US" sz="4000" spc="-1" strike="noStrike">
                <a:solidFill>
                  <a:srgbClr val="ff6600"/>
                </a:solidFill>
                <a:latin typeface="Arial Black"/>
              </a:rPr>
              <a:t>Auswahl Diagrammar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f dieser Seite wählt man die Diagrammart au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die wichtigsten werden auf den nächsten Seiten beschriebe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man auf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„Schaltfläche länger gedrückt halten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klickt, bekommt man eine kurze Vorschau des Diagram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ch Auswahl mit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Weit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estäti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äulendiagram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09480" y="2583000"/>
          <a:ext cx="7925040" cy="398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583000"/>
                    <a:ext cx="7925040" cy="39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72164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enänderungen innerhalb bestimmten Zeitra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nn Zeitspannen (Jahre, Monate) im Spiel si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609480" y="3505320"/>
          <a:ext cx="7925040" cy="319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505320"/>
                    <a:ext cx="7925040" cy="31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lkendiagram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agrechte Darstellung des Zahlenmateri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gleiche zwischen mehreren Elementen (wer was mehr, gleich viel oder weniger ha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- und Y- Achse vertauscht zu Liniendiagra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iniendiagram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85800" y="2666880"/>
          <a:ext cx="7505640" cy="38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666880"/>
                    <a:ext cx="7505640" cy="38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657440"/>
            <a:ext cx="817884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ur Feststellung der Entwicklungstendenz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über längeren Zeitra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Kreisdiagram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971800"/>
          <a:ext cx="7467840" cy="369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971800"/>
                    <a:ext cx="7467840" cy="36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Darstellung: prozentualer Anteil an Gesamthei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8T21:38:48Z</dcterms:created>
  <dc:creator>Alber Birgit</dc:creator>
  <dc:description/>
  <dc:language>en-US</dc:language>
  <cp:lastModifiedBy>Alber Birgit</cp:lastModifiedBy>
  <dcterms:modified xsi:type="dcterms:W3CDTF">2000-12-14T14:01:01Z</dcterms:modified>
  <cp:revision>53</cp:revision>
  <dc:subject/>
  <dc:title>Diagrammerstellung</dc:title>
</cp:coreProperties>
</file>