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7F8-9DA0-4A98-BB71-253962DA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CB1-81E5-4110-BA31-1036B0C5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F68-0A68-4DB7-A5CA-A6C59484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D72-B681-441E-BF18-D48E237C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405-415A-418D-88AA-E8129CF1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BE6-6D19-4005-8CBD-02EEA995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B3E-21A3-459D-AC4F-5193D7CB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BDC-A74F-46BD-BBB7-E77E4D54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B55-4FE0-4653-9A96-5E9E7F92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E47-5E4A-4C70-9C34-2A1E665D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6FC-3D79-421A-8889-94A43EE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3B9-1EEE-4910-86EA-4E20D28A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5108-DF3D-4761-B961-EC71B68DC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5410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© www.bauerpoi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0"/>
          <a:ext cx="57780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778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1000" y="152280"/>
            <a:ext cx="4385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Verständlichkeitsreg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720" y="990720"/>
            <a:ext cx="740160" cy="1099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990720"/>
            <a:ext cx="2590560" cy="3045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infachh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990720"/>
            <a:ext cx="2590920" cy="3045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omplizierth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23640" y="1371600"/>
            <a:ext cx="180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kurze Sät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bekannte Wö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anschau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33520" y="1371600"/>
            <a:ext cx="202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lange Sät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unbekannte Wö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unanschau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6720" y="2589120"/>
            <a:ext cx="740160" cy="1099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435400"/>
            <a:ext cx="2590560" cy="3045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Übersichtlich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435400"/>
            <a:ext cx="2590920" cy="3045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nübersichtlich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21480" y="2816280"/>
            <a:ext cx="2381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geglied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folgerich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alles der Reihe n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Wichtiges hervorhe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31360" y="2816280"/>
            <a:ext cx="264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ungeglied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zusammenhang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alles durchein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Wichtiges nicht erkenn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720" y="4268880"/>
            <a:ext cx="785880" cy="1099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114800"/>
            <a:ext cx="2590560" cy="3049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ü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4114800"/>
            <a:ext cx="25909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eitschweifig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1120" y="4419720"/>
            <a:ext cx="214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kn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nur das Wesentl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kurz und bün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1360" y="4419720"/>
            <a:ext cx="223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ausführ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viel Nebensächli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breit und umständ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720" y="5759280"/>
            <a:ext cx="785880" cy="1099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605560"/>
            <a:ext cx="2590560" cy="3045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reg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5605560"/>
            <a:ext cx="2590920" cy="3045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eine Anreg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21840" y="5910120"/>
            <a:ext cx="129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leben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interess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- persön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920" y="5910120"/>
            <a:ext cx="138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- nüch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- sach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- unpesön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flipH="1">
            <a:off x="7822800" y="0"/>
            <a:ext cx="132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0480" y="7632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tschläge für eine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7040" y="1114560"/>
            <a:ext cx="796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3333cc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Hauptsätze, Hauptsätze, Hauptsä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3333cc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Zettelmethode - kleiner als DIN A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3333cc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Gesetz der ersten 180 Sekunden berücksicht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3333cc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er Mensch ist ein Augentier. Das Negative fällt ihm e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f als das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3333cc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Was sich schnell ändern läßt, ändere ich sofort (Haltung, Atm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3333cc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ie 3 T: touch, turn, tal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546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29920" y="152280"/>
            <a:ext cx="4183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Wortschatzaktiv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6280" y="1547640"/>
            <a:ext cx="5345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Frau geht zur Haltest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Löwe geht durch den Dschu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Dichter geht unter den Sternen he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Kinder gehen im Hof he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Betrunkene geht auf die Parkbank 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Katze geht um den Baum he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Offizier geht an der Truppe vorb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alte Mann geht auf der 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Frau geht über das Glat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Eltern gehen mit den Kindern durch den Wa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kleine Mädchen geht die Treppe hin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Wanderer geht durch den Sch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Junge geht um die Pfütze he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Ente geht zum 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Gläubigen gehen nach Lour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Verirrte geht durch die Dunkelh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Dieb geht mit seiner Beute dav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hektische Vertreter geht durch die 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29860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3600" y="1050840"/>
            <a:ext cx="6593760" cy="703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Ersetze in den nachstehenden Sätzen das Wort „gehen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urch einen anderen, lebendigeren Ausdruc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76440" y="11592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ergleiche bi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0720" y="1106640"/>
            <a:ext cx="835704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Ergänze die Sätze durch möglichst anschauliche Vergle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20" y="1828800"/>
            <a:ext cx="5205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Das Telefonieren ist so wichtig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Der Tisch ist so lang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Unser Nachbar ist so lustig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Der Blumenstrauß ist so prächtig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Der Hund ist so faul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Das Parfum duftet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Deine Wangen sind so rot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Du bist so blaß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Mein Bruder ist so gefräßig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Der Inhalt ist so interessant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Ich bin so müde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Sie singt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Der Anfahrtsweg war so anstrengend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Ich fühle mich hier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Mein Urlaub war wi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41960" y="763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onz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960" y="1555920"/>
            <a:ext cx="823032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...bedeutet, die Aufmerksamkeit gezielt auf etwas zu 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und aufrechtzuerhalten. Das ist besonders beim Spre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und Lesen notwend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1066680"/>
            <a:ext cx="815328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rbara saß nah am Abhang bei betend büßenden bärt´gen Bau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autkleid bleibt Brautkleid Blaukraut bleibt Blaukra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 Wiener Wäschweiber würden weiße Wäsche waschen, wenn wi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üßten, wo wirklich weiches warmes Waschwasser wä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Cottbusser Postkutscher putzt den Cottbusser Postkutschka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die Hockeyhölzer hackeln und die Schlittschuhschnörkel schnack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 dem Türmchen steht ein Würmchen mit dem Schirmchen unter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Ärmchen. Kommt ein Stürmchen, bläst das  Würmchen mit de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irmchen unterm Ärmchen von dem Türm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ld blüht breitblättriger Wegerich; breitblättriger Wegericht blüht ba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Katze tritt die Treppe krumm, die Treppe tritt die Katze kru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saßen zwei zischende Schlangen zwischen zwei spitzen Steinen und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schten sich zuweilen 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el essen Nesseln gern, Nesseln essen Esel g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6160" y="3024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rachüb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2960" y="835200"/>
            <a:ext cx="8199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ter Hansens Hühnerhaus hüpfen hundert Hasen ra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ßwechsel, Wachsmaske - Wachsmaske, Meßwech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omas trank tausend Tassen Tee. Tausend Tassen Tee trank 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dem Scheibenschießschützenhaus schätzen Schützen Schießdist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Öffne mir, schleichender Schließer, das schlotternde Sch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önig Kuno klaut Kaisers Kle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oft ess´ich Essig? Ess´ich Essig im Schla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chsundzwanzig Stück sächsische Schuhzwec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krummköpfiger, kürbisgroßer, grasgrüner grauer Karnickelko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er Speck schmeckt der Schnecke schlecht, schlecht schmeckt d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ecke fetter Sp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tolzer Student stieß an den spitzen Stein und stolp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klapperten die Klapperschlangen, bis ihre Klappern schlapper klan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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lene hält helle Halbe in den Hä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6160" y="3024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rachüb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5334120"/>
            <a:ext cx="1371600" cy="1164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4191120"/>
            <a:ext cx="1371600" cy="1164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8000000">
            <a:off x="1572840" y="2694240"/>
            <a:ext cx="1371600" cy="1164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8000000">
            <a:off x="3249360" y="2084040"/>
            <a:ext cx="1371600" cy="1165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219320"/>
            <a:ext cx="1371600" cy="1164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5257800"/>
            <a:ext cx="1371600" cy="1165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5257800"/>
            <a:ext cx="1371600" cy="1165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4114800"/>
            <a:ext cx="1371600" cy="1165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2971800"/>
            <a:ext cx="1371600" cy="1165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000000">
            <a:off x="5840280" y="1474560"/>
            <a:ext cx="1371600" cy="1165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971800"/>
            <a:ext cx="1371600" cy="1165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1143000"/>
            <a:ext cx="1371600" cy="1165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1720" y="152280"/>
            <a:ext cx="3053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erständlich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90840" y="763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örpersprache bei d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59040" y="1179360"/>
            <a:ext cx="83808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7520" y="137160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unkte sind zu bea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438280"/>
            <a:ext cx="53352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276720"/>
            <a:ext cx="533520" cy="533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114800"/>
            <a:ext cx="53352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029200"/>
            <a:ext cx="53352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5943600"/>
            <a:ext cx="53352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6840" y="236232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i der Präsentation stehen, sitzen nur während Diskussionspau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iemals auf den Tisch setzen, womöglich auf den Tisch des Zuhör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5760" y="327672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ide Füße auf dem Boden, leicht geöffnet, Fußspitzen auf gl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öhe, Standplatz nur gelegentlich wechsel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8640" y="4114800"/>
            <a:ext cx="76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icht nach links oder rechts bewegen, eher auf die Gruppe zu und wie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zurück, nicht hin- und herlau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9000" y="4876920"/>
            <a:ext cx="762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rme und Hände gezielt einsetzen, nicht herumrudern. Neutraler posit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und negativer Bereich. Nicht mit dem Finger auf jemanden zeigen, n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oben geöffnete Handflä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4680" y="6019920"/>
            <a:ext cx="63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lickkontakt mit den Zuhörern halten. Hilfe: Zuerst W dann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2043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8320" y="76320"/>
            <a:ext cx="39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r Start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63680" y="1905120"/>
            <a:ext cx="76024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lott, aber nicht hektisch zum Präsentationsort g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In Ruhe die Unterlagen ablegen und ord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in freundliches Gesicht machen. Lächeln gewin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Blickkontrolle - Suche einen freundlichen wohlgesinnten Zuhö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Bewußt AUSat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Pause, bis die Aufmerksamkeit bei mir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Ich beginne zu sprechen: Langsam, Ruhig, La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ie ersten 3 Sätze kann ich auswend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600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2:39:28Z</dcterms:created>
  <dc:creator>Mag. Helmut Bauer</dc:creator>
  <dc:description/>
  <dc:language>en-US</dc:language>
  <cp:lastModifiedBy>Mag. Helmut Bauer</cp:lastModifiedBy>
  <cp:lastPrinted>1999-03-25T13:36:50Z</cp:lastPrinted>
  <dcterms:modified xsi:type="dcterms:W3CDTF">2000-10-06T16:53:16Z</dcterms:modified>
  <cp:revision>16</cp:revision>
  <dc:subject/>
  <dc:title>Kein Folientitel</dc:title>
</cp:coreProperties>
</file>