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9A0-B787-4E13-B4B9-5503B7C6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0F5-4A6A-4E09-B4F7-7DAA93AC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C64-DB11-46BD-956E-700503A3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298-10A6-44DB-BB71-12F55469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EEE-8315-40E2-A533-BC33714B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22E-4571-428E-877E-34E6E4A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0BC-99E9-45A0-8353-67ADB02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B87-0926-4365-9E9B-AD2548B7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881-FEE0-438A-B47F-18066B8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0AF-E2BF-4CB6-8D6E-FDB1652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D3B-1A9D-4023-BE99-E40BCC20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7DF-DA5E-41C6-B3ED-3252F77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4B3-CA5B-4527-BB77-5F485ECC2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2222280" y="3239280"/>
            <a:ext cx="52632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. Jahrgang - Anlagenabschrei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1100160" cy="1804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7926" t="28341" r="61818" b="34247"/>
          <a:stretch/>
        </p:blipFill>
        <p:spPr>
          <a:xfrm>
            <a:off x="2484360" y="907920"/>
            <a:ext cx="5254560" cy="487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15320" y="6381720"/>
            <a:ext cx="192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ww.handelsakademie.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4220640"/>
            <a:ext cx="2089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CHREIBUNG ANLAGENKONTO BUCHWERT ERLÖS ERWEITERUNG GWG INSTANDHALTUNG KUMULIERT LINEAR NUTZUNGSDAUER UMBAU VERLUST VORSTEUER WARENVORR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4413" r="75101" b="41148"/>
          <a:stretch/>
        </p:blipFill>
        <p:spPr>
          <a:xfrm>
            <a:off x="2700360" y="333360"/>
            <a:ext cx="583092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" y="1364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0:12:21Z</dcterms:created>
  <dc:creator>Mag. Helmut Bauer</dc:creator>
  <dc:description/>
  <dc:language>en-US</dc:language>
  <cp:lastModifiedBy>Mag. Helmut Bauer</cp:lastModifiedBy>
  <dcterms:modified xsi:type="dcterms:W3CDTF">2005-05-08T20:13:38Z</dcterms:modified>
  <cp:revision>2</cp:revision>
  <dc:subject/>
  <dc:title>Folie 1</dc:title>
</cp:coreProperties>
</file>