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53B8-AED2-4A84-9FAE-0F1792982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91A9-DE7D-4839-831C-B0591AAC6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D46D-03CB-4A8C-BC37-64EA8706B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812A-C41B-4D13-BA9E-FB1108087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AEC0-2324-445C-A330-6205833A7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E49C-D219-491C-9483-79B353929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3DE4-067E-410A-AB74-C585E30BF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ECB0-538D-41EC-8AD9-3FE752B2C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C79E-F823-4F17-89C4-24634D017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2AC7-39F3-4144-87A2-1E679D364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4549-5908-4A29-88A5-3892A120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DBE9-4E46-4482-8DEB-8BA63085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E7281-C379-4B95-8A77-8614663F9B9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706120" y="-720"/>
            <a:ext cx="3533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r Rechnungsausglei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96960" y="0"/>
            <a:ext cx="8069040" cy="4741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69800" y="4713120"/>
            <a:ext cx="5910480" cy="2054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7240" y="14400"/>
            <a:ext cx="424656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Across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7. Kreditinstitu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9. Schul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12. Zeitrahmen für die Zahlu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13. ...berechtigt den Inhaber, Rechnungen ohne Bargeld zu begleichen. 14. Preisabzug durch den Kunde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15. Funktion auf der Bankomatkar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16. Werden bei verspäteter Zahlung verrechne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18. Gegenteil von Debi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20. ... wird von d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Kreditkartenorganisatione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verrechne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21. Sofortige Begleichu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iner Schu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803920" y="4338720"/>
            <a:ext cx="404964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ow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Konto 7792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...muss beim Lieferantenskonto korrigiert werde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Kreditkartenorganis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Postsparkass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Kreditkartenorganis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Provis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Bruttobetrag abzüglich Umsatzsteu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Werden verrechnet, wenn das Zahlungsziel nich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ingehalten wur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Geldausgabeautoma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. Eingangsrechnung Abk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7. Preisabzu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. Preisnachlas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47000" y="0"/>
            <a:ext cx="27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 Rechnungsausgle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7T18:12:02Z</dcterms:created>
  <dc:creator>Mag. Helmut Bauer</dc:creator>
  <dc:description/>
  <dc:language>en-US</dc:language>
  <cp:lastModifiedBy>PC4</cp:lastModifiedBy>
  <dcterms:modified xsi:type="dcterms:W3CDTF">2006-05-24T11:50:27Z</dcterms:modified>
  <cp:revision>3</cp:revision>
  <dc:subject/>
  <dc:title>Folie 1</dc:title>
</cp:coreProperties>
</file>