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38F-C6BA-4FD8-822D-90192EE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920" y="419292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664-9BD8-4E57-9A53-FDC9CE12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684-62C2-4331-A399-C58AAF40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340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24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92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340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24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308-B351-40AF-B5F8-3393A1B9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26A1-332C-4CD1-8C68-81AE36E4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1778-5726-4150-ACF6-4E28BBC1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52A4-F689-4256-A801-23DC9632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904C-879F-40B1-9FD6-9694C8FE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1DB5-47F7-4FC7-9A2A-44EAD7E6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6E5-7F55-4B43-9B3F-3CC4F0C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0AEE-56AE-4910-A1E8-BDCC94F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72A-AC68-46E1-A2F6-FB4B332F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96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3C8-D2E5-4B63-9AF4-3FDFF38A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73CF-0712-43D7-BFAC-7D88244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42920" y="419292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4DC8-49A8-431A-9362-4E989F53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96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F3EE-16E9-4B66-B833-8058D830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2340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424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4292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2340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424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4E9A-FCA1-4737-AEC1-0FBF0876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4FE-4658-42EA-9923-0517A4A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396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042920" y="419292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96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2340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04240" y="184464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04292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2340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04240" y="4192920"/>
            <a:ext cx="245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3B9-6E29-43BF-B97C-39E873CF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C4D-E2F5-47E0-B5E3-B0CE3667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CF2-87E7-4113-BB0F-01E700B7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B22-D636-401C-96E4-9D62719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419292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E24-8BC3-4C79-A128-0A4F2C6E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844640"/>
            <a:ext cx="37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920" y="4192920"/>
            <a:ext cx="7632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7CB-4C45-4FF0-B48B-B872CF67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7785-506D-47E8-94EF-67DA34152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00000" cy="6858000"/>
            <a:chOff x="0" y="0"/>
            <a:chExt cx="900000" cy="6858000"/>
          </a:xfrm>
        </p:grpSpPr>
        <p:sp>
          <p:nvSpPr>
            <p:cNvPr id="42" name=""/>
            <p:cNvSpPr/>
            <p:nvPr/>
          </p:nvSpPr>
          <p:spPr>
            <a:xfrm>
              <a:off x="668520" y="0"/>
              <a:ext cx="231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722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4D32-BFBC-48F5-82E5-454EB01AD8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6453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Mag. Kr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s 1x1 de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eit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173196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ssen Sie die Zeitdieb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2920" y="2944800"/>
            <a:ext cx="7632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sere Zeit wird uns teils geraubt, teils abgeluchst, und was übrig bleibt, verliert sich unbemerkt.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Sene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211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212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3288000">
              <a:off x="1164960" y="71748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ssen Sie die Zeitdieb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669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en Sie mit einer Arbeitsstudie über sich selb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 oder was stiehlt uns die Zeit? Welche Zeitdiebe kennen w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222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3288000">
              <a:off x="1164960" y="71748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843280" y="458136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780000" y="3730680"/>
            <a:ext cx="290340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42920" y="2301840"/>
            <a:ext cx="7632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gen zum Überle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für hätten Sie gerne mehr Ze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hindert Sie daran, die notwendige Zeit für diese Wünsche aufzubringen? (Notieren Sie Ihre drei schlimmsten "Zeitfresser"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könnten Sie ändern, um diese drei "Zeitfresser" zu eliminier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50920" y="189000"/>
            <a:ext cx="1485720" cy="1714320"/>
            <a:chOff x="250920" y="189000"/>
            <a:chExt cx="1485720" cy="1714320"/>
          </a:xfrm>
        </p:grpSpPr>
        <p:grpSp>
          <p:nvGrpSpPr>
            <p:cNvPr id="234" name=""/>
            <p:cNvGrpSpPr/>
            <p:nvPr/>
          </p:nvGrpSpPr>
          <p:grpSpPr>
            <a:xfrm>
              <a:off x="250920" y="189000"/>
              <a:ext cx="1485720" cy="1714320"/>
              <a:chOff x="250920" y="189000"/>
              <a:chExt cx="1485720" cy="1714320"/>
            </a:xfrm>
          </p:grpSpPr>
          <p:sp>
            <p:nvSpPr>
              <p:cNvPr id="235" name=""/>
              <p:cNvSpPr/>
              <p:nvPr/>
            </p:nvSpPr>
            <p:spPr>
              <a:xfrm>
                <a:off x="250920" y="189000"/>
                <a:ext cx="1485720" cy="171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93600" y="18900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93600" y="161748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0920" y="104616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88600" y="104616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936360" y="1890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6360" y="987120"/>
              <a:ext cx="685800" cy="114120"/>
            </a:xfrm>
            <a:prstGeom prst="rightArrow">
              <a:avLst>
                <a:gd name="adj1" fmla="val 50000"/>
                <a:gd name="adj2" fmla="val 150237"/>
              </a:avLst>
            </a:prstGeom>
            <a:solidFill>
              <a:srgbClr val="000000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08000" y="274680"/>
            <a:ext cx="677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ssen Sie die Zeitdie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eren Sie Zie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63272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hdem wir das Ziel endgültig aus den Augen verloren hatten, verdoppelten wir unsere Anstrengungen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rk Tw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50920" y="189000"/>
            <a:ext cx="1485720" cy="1714320"/>
            <a:chOff x="250920" y="189000"/>
            <a:chExt cx="1485720" cy="1714320"/>
          </a:xfrm>
        </p:grpSpPr>
        <p:grpSp>
          <p:nvGrpSpPr>
            <p:cNvPr id="246" name=""/>
            <p:cNvGrpSpPr/>
            <p:nvPr/>
          </p:nvGrpSpPr>
          <p:grpSpPr>
            <a:xfrm>
              <a:off x="250920" y="189000"/>
              <a:ext cx="1485720" cy="1714320"/>
              <a:chOff x="250920" y="189000"/>
              <a:chExt cx="1485720" cy="1714320"/>
            </a:xfrm>
          </p:grpSpPr>
          <p:sp>
            <p:nvSpPr>
              <p:cNvPr id="247" name=""/>
              <p:cNvSpPr/>
              <p:nvPr/>
            </p:nvSpPr>
            <p:spPr>
              <a:xfrm>
                <a:off x="250920" y="189000"/>
                <a:ext cx="1485720" cy="171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93600" y="18900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93600" y="161748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0920" y="104616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88600" y="104616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936360" y="1890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36360" y="987120"/>
              <a:ext cx="685800" cy="114120"/>
            </a:xfrm>
            <a:prstGeom prst="rightArrow">
              <a:avLst>
                <a:gd name="adj1" fmla="val 50000"/>
                <a:gd name="adj2" fmla="val 150237"/>
              </a:avLst>
            </a:prstGeom>
            <a:solidFill>
              <a:srgbClr val="000000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913200" cy="29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640" y="26460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eren Sie Zie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iele sind Herausorderungen für alle Beteiligten und löse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dlung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iele sind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ßst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zur Beurteilung von Leist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hren durch Zielsetzung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(Management by objectives)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st eine wirksame Methode zeitgemäßer Unternehmensführ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50920" y="189000"/>
            <a:ext cx="1485720" cy="1714320"/>
            <a:chOff x="250920" y="189000"/>
            <a:chExt cx="1485720" cy="1714320"/>
          </a:xfrm>
        </p:grpSpPr>
        <p:grpSp>
          <p:nvGrpSpPr>
            <p:cNvPr id="258" name=""/>
            <p:cNvGrpSpPr/>
            <p:nvPr/>
          </p:nvGrpSpPr>
          <p:grpSpPr>
            <a:xfrm>
              <a:off x="250920" y="189000"/>
              <a:ext cx="1485720" cy="1714320"/>
              <a:chOff x="250920" y="189000"/>
              <a:chExt cx="1485720" cy="1714320"/>
            </a:xfrm>
          </p:grpSpPr>
          <p:sp>
            <p:nvSpPr>
              <p:cNvPr id="259" name=""/>
              <p:cNvSpPr/>
              <p:nvPr/>
            </p:nvSpPr>
            <p:spPr>
              <a:xfrm>
                <a:off x="250920" y="189000"/>
                <a:ext cx="1485720" cy="171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93600" y="18900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93600" y="161748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0920" y="104616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88600" y="104616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936360" y="1890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36360" y="987120"/>
              <a:ext cx="685800" cy="114120"/>
            </a:xfrm>
            <a:prstGeom prst="rightArrow">
              <a:avLst>
                <a:gd name="adj1" fmla="val 50000"/>
                <a:gd name="adj2" fmla="val 150237"/>
              </a:avLst>
            </a:prstGeom>
            <a:solidFill>
              <a:srgbClr val="000000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eren Sie Zie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2920" y="2230560"/>
            <a:ext cx="7632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ür ein erfolgreiches GANZES Leben, braucht man ein durchdachtes Lebenskonzep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lvorstell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fgaben von heute - Erfolg von mor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50920" y="189000"/>
            <a:ext cx="1485720" cy="1714320"/>
            <a:chOff x="250920" y="189000"/>
            <a:chExt cx="1485720" cy="1714320"/>
          </a:xfrm>
        </p:grpSpPr>
        <p:grpSp>
          <p:nvGrpSpPr>
            <p:cNvPr id="269" name=""/>
            <p:cNvGrpSpPr/>
            <p:nvPr/>
          </p:nvGrpSpPr>
          <p:grpSpPr>
            <a:xfrm>
              <a:off x="250920" y="189000"/>
              <a:ext cx="1485720" cy="1714320"/>
              <a:chOff x="250920" y="189000"/>
              <a:chExt cx="1485720" cy="1714320"/>
            </a:xfrm>
          </p:grpSpPr>
          <p:sp>
            <p:nvSpPr>
              <p:cNvPr id="270" name=""/>
              <p:cNvSpPr/>
              <p:nvPr/>
            </p:nvSpPr>
            <p:spPr>
              <a:xfrm>
                <a:off x="250920" y="189000"/>
                <a:ext cx="1485720" cy="171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93600" y="18900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3600" y="161748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0920" y="104616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88600" y="104616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936360" y="1890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36360" y="987120"/>
              <a:ext cx="685800" cy="114120"/>
            </a:xfrm>
            <a:prstGeom prst="rightArrow">
              <a:avLst>
                <a:gd name="adj1" fmla="val 50000"/>
                <a:gd name="adj2" fmla="val 150237"/>
              </a:avLst>
            </a:prstGeom>
            <a:solidFill>
              <a:srgbClr val="000000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eren Sie Zie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ntration auf das Wesentl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0:20 Regel (Pareto-Prinzip)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50920" y="189000"/>
            <a:ext cx="1485720" cy="1714320"/>
            <a:chOff x="250920" y="189000"/>
            <a:chExt cx="1485720" cy="1714320"/>
          </a:xfrm>
        </p:grpSpPr>
        <p:grpSp>
          <p:nvGrpSpPr>
            <p:cNvPr id="280" name=""/>
            <p:cNvGrpSpPr/>
            <p:nvPr/>
          </p:nvGrpSpPr>
          <p:grpSpPr>
            <a:xfrm>
              <a:off x="250920" y="189000"/>
              <a:ext cx="1485720" cy="1714320"/>
              <a:chOff x="250920" y="189000"/>
              <a:chExt cx="1485720" cy="1714320"/>
            </a:xfrm>
          </p:grpSpPr>
          <p:sp>
            <p:nvSpPr>
              <p:cNvPr id="281" name=""/>
              <p:cNvSpPr/>
              <p:nvPr/>
            </p:nvSpPr>
            <p:spPr>
              <a:xfrm>
                <a:off x="250920" y="189000"/>
                <a:ext cx="1485720" cy="171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3600" y="18900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93600" y="161748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0920" y="104616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488600" y="104616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936360" y="1890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36360" y="987120"/>
              <a:ext cx="685800" cy="114120"/>
            </a:xfrm>
            <a:prstGeom prst="rightArrow">
              <a:avLst>
                <a:gd name="adj1" fmla="val 50000"/>
                <a:gd name="adj2" fmla="val 150237"/>
              </a:avLst>
            </a:prstGeom>
            <a:solidFill>
              <a:srgbClr val="000000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69600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50920" y="228240"/>
            <a:ext cx="678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lanen Sie schriftlic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2920" y="2874960"/>
            <a:ext cx="763272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 im Frühling nicht sät, wird im Herbst nicht ernten.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richw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292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293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7490400">
              <a:off x="1164240" y="106020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lanen Sie schriftlic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03280" y="1700280"/>
            <a:ext cx="741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ung bedeutet Zeit-Gew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Minuten Planung = 1Std. Zeit-Gew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303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304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7490400">
              <a:off x="1164240" y="106020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832720" cy="38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lanen Sie schriftlic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88508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pläne im Kopf – verlieren oft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riftliche Zeitplä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las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dächt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scher Effek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bst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leichtert di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o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r Tagesergeb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nt z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k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315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316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7490400">
              <a:off x="1164240" y="106020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Übersicht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st Zeit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itverluste ohne Zeit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ps für ein besseres Zeit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79640" y="26460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erwenden Sie Tagesplän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920" y="2874960"/>
            <a:ext cx="763272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genauer man plant, desto härter trifft einen den Zufall.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nagerweishe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326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327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936720" y="3744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8895000">
              <a:off x="1050120" y="117468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erwenden Sie Tagesplän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301840"/>
            <a:ext cx="7632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esplanung als Einsti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ist die kleinste und überschaubarste Ein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er Tag kann neu begonnen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esplan = Tagesz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sche Tagesziele pl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337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338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936720" y="3744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8895000">
              <a:off x="1050120" y="117468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826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8c0039"/>
                </a:solidFill>
                <a:latin typeface="Arial"/>
              </a:rPr>
              <a:t>Tagespläne  </a:t>
            </a:r>
            <a:br>
              <a:rPr sz="3600"/>
            </a:br>
            <a:r>
              <a:rPr b="0" lang="de-DE" sz="3600" spc="-1" strike="noStrike">
                <a:solidFill>
                  <a:srgbClr val="8c0039"/>
                </a:solidFill>
                <a:latin typeface="Arial"/>
              </a:rPr>
              <a:t>ALPEN-Metho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632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fgaben, Aktivitäten und Termine aufschrei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änge der Aktivitäten schä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fferzeit reserv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scheidungen über Prioritäten, Kürzungen und Delegationsmöglichkeiten tre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kontrolle – Unerledigtes übert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348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349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936720" y="37440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8895000">
              <a:off x="1050120" y="117468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tzen Sie Priorität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 ist besser, die richtige Arbeit zu tun (=Effektivität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s eine Arbeit „richtig“ zu tun (=Effizienz).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eter Druc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9280" y="260280"/>
            <a:ext cx="1486080" cy="1714680"/>
            <a:chOff x="179280" y="260280"/>
            <a:chExt cx="1486080" cy="1714680"/>
          </a:xfrm>
        </p:grpSpPr>
        <p:grpSp>
          <p:nvGrpSpPr>
            <p:cNvPr id="359" name=""/>
            <p:cNvGrpSpPr/>
            <p:nvPr/>
          </p:nvGrpSpPr>
          <p:grpSpPr>
            <a:xfrm>
              <a:off x="179280" y="260280"/>
              <a:ext cx="1486080" cy="1714680"/>
              <a:chOff x="179280" y="260280"/>
              <a:chExt cx="1486080" cy="1714680"/>
            </a:xfrm>
          </p:grpSpPr>
          <p:sp>
            <p:nvSpPr>
              <p:cNvPr id="360" name=""/>
              <p:cNvSpPr/>
              <p:nvPr/>
            </p:nvSpPr>
            <p:spPr>
              <a:xfrm>
                <a:off x="179280" y="260280"/>
                <a:ext cx="148608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2232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2232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928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1732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86508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0800000">
              <a:off x="864720" y="1174680"/>
              <a:ext cx="114120" cy="457200"/>
            </a:xfrm>
            <a:prstGeom prst="upArrow">
              <a:avLst>
                <a:gd name="adj1" fmla="val 50000"/>
                <a:gd name="adj2" fmla="val 100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340000" y="3860640"/>
            <a:ext cx="5184720" cy="22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96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tzen Sie Priorität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79280" y="260280"/>
            <a:ext cx="1486080" cy="1714680"/>
            <a:chOff x="179280" y="260280"/>
            <a:chExt cx="1486080" cy="1714680"/>
          </a:xfrm>
        </p:grpSpPr>
        <p:grpSp>
          <p:nvGrpSpPr>
            <p:cNvPr id="370" name=""/>
            <p:cNvGrpSpPr/>
            <p:nvPr/>
          </p:nvGrpSpPr>
          <p:grpSpPr>
            <a:xfrm>
              <a:off x="179280" y="260280"/>
              <a:ext cx="1486080" cy="1714680"/>
              <a:chOff x="179280" y="260280"/>
              <a:chExt cx="1486080" cy="1714680"/>
            </a:xfrm>
          </p:grpSpPr>
          <p:sp>
            <p:nvSpPr>
              <p:cNvPr id="371" name=""/>
              <p:cNvSpPr/>
              <p:nvPr/>
            </p:nvSpPr>
            <p:spPr>
              <a:xfrm>
                <a:off x="179280" y="260280"/>
                <a:ext cx="148608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2232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92232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928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1732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86508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864720" y="1174680"/>
              <a:ext cx="114120" cy="457200"/>
            </a:xfrm>
            <a:prstGeom prst="upArrow">
              <a:avLst>
                <a:gd name="adj1" fmla="val 50000"/>
                <a:gd name="adj2" fmla="val 100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 rot="60000">
            <a:off x="1469520" y="1797120"/>
            <a:ext cx="7196400" cy="50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04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tzen Sie Priorität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ktische Anwend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 1-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Aufgab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Tag (ca. 3 Std.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pl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tere 2-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Aufgab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1 Std.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s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 Rest fü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Aufgab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a. 45 Min.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rv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79280" y="260280"/>
            <a:ext cx="1486080" cy="1714680"/>
            <a:chOff x="179280" y="260280"/>
            <a:chExt cx="1486080" cy="1714680"/>
          </a:xfrm>
        </p:grpSpPr>
        <p:grpSp>
          <p:nvGrpSpPr>
            <p:cNvPr id="382" name=""/>
            <p:cNvGrpSpPr/>
            <p:nvPr/>
          </p:nvGrpSpPr>
          <p:grpSpPr>
            <a:xfrm>
              <a:off x="179280" y="260280"/>
              <a:ext cx="1486080" cy="1714680"/>
              <a:chOff x="179280" y="260280"/>
              <a:chExt cx="1486080" cy="1714680"/>
            </a:xfrm>
          </p:grpSpPr>
          <p:sp>
            <p:nvSpPr>
              <p:cNvPr id="383" name=""/>
              <p:cNvSpPr/>
              <p:nvPr/>
            </p:nvSpPr>
            <p:spPr>
              <a:xfrm>
                <a:off x="179280" y="260280"/>
                <a:ext cx="148608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2232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2232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7928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1732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86508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0800000">
              <a:off x="864720" y="1174680"/>
              <a:ext cx="114120" cy="457200"/>
            </a:xfrm>
            <a:prstGeom prst="upArrow">
              <a:avLst>
                <a:gd name="adj1" fmla="val 50000"/>
                <a:gd name="adj2" fmla="val 100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826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ginnen Sie positi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920" y="2944800"/>
            <a:ext cx="7632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 fröhliches Herz ist die beste Arznei; ein gedrücktes Gemüt dörrt das Gebein aus.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tes Testa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393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394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2415200">
              <a:off x="821520" y="105984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96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ginnen Sie positi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echte Startphase = schlechter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ter Start = guter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am Morgen fü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ütliches Aufwachen, schönes Frühstück, persönliche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assene Fahrt zur Arbeit ohne 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04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05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2415200">
              <a:off x="821520" y="105984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74170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859280" cy="25131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5897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ginnen Sie positi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Lebensfüh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Positiv-Reg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en Tag etwas tu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Ihnen viel Freude bereit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s Sie spürbar Ihren persönlichen Zielen näher brin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s Ihnen einen Ausgleich zur Arbeit schafft (Sport, Familie, Hob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17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18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2415200">
              <a:off x="821520" y="105984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c0039"/>
                </a:solidFill>
                <a:latin typeface="Arial"/>
              </a:rPr>
              <a:t>Beachten Sie die Leistungskurve</a:t>
            </a:r>
            <a:endParaRPr b="0" lang="en-US" sz="3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2920" y="2944800"/>
            <a:ext cx="7632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rgenstund hat Gold im Mund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Volksweishe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28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29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3619400">
              <a:off x="748800" y="1077480"/>
              <a:ext cx="114120" cy="457200"/>
            </a:xfrm>
            <a:prstGeom prst="upArrow">
              <a:avLst>
                <a:gd name="adj1" fmla="val 50000"/>
                <a:gd name="adj2" fmla="val 100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utzen Sie die Zei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2944800"/>
            <a:ext cx="7632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ige haben genug Zeit, und doch hat jeder fast alle Zeit, die es gibt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richw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132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133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537200">
              <a:off x="1075320" y="6055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696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c0039"/>
                </a:solidFill>
                <a:latin typeface="Arial"/>
              </a:rPr>
              <a:t>Beachten Sie die Leistungskurve</a:t>
            </a:r>
            <a:endParaRPr b="0" lang="en-US" sz="34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38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39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3619400">
              <a:off x="748800" y="1077480"/>
              <a:ext cx="114120" cy="457200"/>
            </a:xfrm>
            <a:prstGeom prst="upArrow">
              <a:avLst>
                <a:gd name="adj1" fmla="val 50000"/>
                <a:gd name="adj2" fmla="val 100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7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c0039"/>
                </a:solidFill>
                <a:latin typeface="Arial"/>
              </a:rPr>
              <a:t>Beachten Sie die Leistungskurve</a:t>
            </a:r>
            <a:endParaRPr b="0" lang="en-US" sz="34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49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50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3619400">
              <a:off x="748800" y="1077480"/>
              <a:ext cx="114120" cy="457200"/>
            </a:xfrm>
            <a:prstGeom prst="upArrow">
              <a:avLst>
                <a:gd name="adj1" fmla="val 50000"/>
                <a:gd name="adj2" fmla="val 100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332000" y="2368440"/>
            <a:ext cx="684036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76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c0039"/>
                </a:solidFill>
                <a:latin typeface="Arial"/>
              </a:rPr>
              <a:t>Beachten Sie die Leistungskurve</a:t>
            </a:r>
            <a:endParaRPr b="0" lang="en-US" sz="3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Stunde Arbei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n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mäßige Kurzpau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egung, Sauers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61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62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619400">
              <a:off x="748800" y="1077480"/>
              <a:ext cx="114120" cy="457200"/>
            </a:xfrm>
            <a:prstGeom prst="upArrow">
              <a:avLst>
                <a:gd name="adj1" fmla="val 50000"/>
                <a:gd name="adj2" fmla="val 100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403280" y="3543480"/>
            <a:ext cx="77407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Reservieren Sie eine „Stille Stunde“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2920" y="2944800"/>
            <a:ext cx="7632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größten Ereignisse, das sind nicht unsere lautesten, sondern unsere stillsten Stunden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iedrich Nietzs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73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74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708120" y="83124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Reservieren Sie eine „Stille Stunde“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5640" y="2362320"/>
            <a:ext cx="374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örungen, die psychologisch bedingt s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bermüd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Ängste, Sor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tzhaftigke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84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85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6200000">
              <a:off x="708120" y="83124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989600" y="2205000"/>
            <a:ext cx="36306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Reservieren Sie eine „Stille Stunde“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15640" y="2362320"/>
            <a:ext cx="633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örungen, die wi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bst verurs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ordnung am eignem Arbeitspl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samkeit, Weitschweifigke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inarb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genügend Fertigkeiten (z.B. am Comp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496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497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200000">
              <a:off x="708120" y="83124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6747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Reservieren Sie eine „Stille Stunde“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7632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örarme Z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e Stunde einplanen, wichtigsten Aufga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Aufgaben) erle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öranfällige Z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äufige Unterbrechungen einkalkulieren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niger wichtige Arbeiten (C-Aufgaben) verr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508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509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708120" y="83124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050920" y="228240"/>
            <a:ext cx="678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ühren Sie durch Deleg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11280" y="1916280"/>
            <a:ext cx="763272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 selbst arbeitet, verliert die Übersicht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roatisches Sprichw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519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520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7428200">
              <a:off x="707760" y="7171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65534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07640" y="228240"/>
            <a:ext cx="6931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ühren Sie durch Deleg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63272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 ist für Führungskraft 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arbeiter von Vorteil; sie bedeutet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bstentlastu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 schafft Zeit für A-Aufgaben 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n fü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tarbei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ich zu entwickeln (Motiv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531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532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7428200">
              <a:off x="707760" y="7171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ühren Sie durch Deleg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egation nach dem Eisenhower-Prinz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542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543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7428200">
              <a:off x="707760" y="7171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0" name="" descr="Dwight D.Eisenhower"/>
          <p:cNvPicPr/>
          <p:nvPr/>
        </p:nvPicPr>
        <p:blipFill>
          <a:blip r:embed="rId1"/>
          <a:stretch/>
        </p:blipFill>
        <p:spPr>
          <a:xfrm>
            <a:off x="7885080" y="404640"/>
            <a:ext cx="990720" cy="10195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77040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bedeutet Ze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ut Wörterbu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der Ablauf des Geschehens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das Nacheinander des Erlebens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das Aufeinanderfolgen der Ereignis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Zeit ist das, was man auf der Uhr abliest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.Einste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142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143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537200">
              <a:off x="1075320" y="6055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908000" y="274680"/>
            <a:ext cx="677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utzen Sie die Z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1700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73708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712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8c0039"/>
                </a:solidFill>
                <a:latin typeface="Arial"/>
              </a:rPr>
              <a:t>Be“nutzen“ Sie ein Zeitplanbuc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2920" y="2944800"/>
            <a:ext cx="7632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genügt nicht, zum Fluss zu kommen mit dem Wunsch, Fische zu fangen. Man muss auch das Netz mitbringen.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inesische Weishe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79280" y="260280"/>
            <a:ext cx="1486080" cy="1714680"/>
            <a:chOff x="179280" y="260280"/>
            <a:chExt cx="1486080" cy="1714680"/>
          </a:xfrm>
        </p:grpSpPr>
        <p:grpSp>
          <p:nvGrpSpPr>
            <p:cNvPr id="555" name=""/>
            <p:cNvGrpSpPr/>
            <p:nvPr/>
          </p:nvGrpSpPr>
          <p:grpSpPr>
            <a:xfrm>
              <a:off x="179280" y="260280"/>
              <a:ext cx="1486080" cy="1714680"/>
              <a:chOff x="179280" y="260280"/>
              <a:chExt cx="1486080" cy="1714680"/>
            </a:xfrm>
          </p:grpSpPr>
          <p:sp>
            <p:nvSpPr>
              <p:cNvPr id="556" name=""/>
              <p:cNvSpPr/>
              <p:nvPr/>
            </p:nvSpPr>
            <p:spPr>
              <a:xfrm>
                <a:off x="179280" y="260280"/>
                <a:ext cx="148608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2232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2232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7928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1732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86508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265600">
              <a:off x="750240" y="60264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3780000" cy="57326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5897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leiben Sie konsequ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4360" y="2874960"/>
            <a:ext cx="525600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Dinge sind schwer, bevor sie leicht werden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sisches Sprichw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567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568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36360" y="60300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96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leiben Sie konsequ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ser Einstimmung auf den nächsten Arbeits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nung Ihres Tagesablauf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zentration auf das Wesent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bstdisziplin in der Aufgabenerled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au von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esserung der Selbstkontr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höhung von Zufriedenheit und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igerung der persönlichen Leistungsfäh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578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579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36360" y="60300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eitmanagement =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eitgewin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588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589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93636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36360" y="603000"/>
              <a:ext cx="114120" cy="571680"/>
            </a:xfrm>
            <a:prstGeom prst="upArrow">
              <a:avLst>
                <a:gd name="adj1" fmla="val 50000"/>
                <a:gd name="adj2" fmla="val 12523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619280" y="1752480"/>
            <a:ext cx="70563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ch wünsche dir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mehr Zeit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und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viel Erfolg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47380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zu lernen, die Zeit besser zu plan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zu wissen, wo im Alltag Prioritäten gesetzt werden mü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zu erkennen, wo "Zeitfresser" liegen und wie sie gezielt eliminiert werden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zu lernen, wie die Energiebilanz verbessert und der Arbeitsalltag optimiert werden kan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155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156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537200">
              <a:off x="1075320" y="6055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utzen Sie die Zeit – Zeitmanagement WOZU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23640" y="264600"/>
            <a:ext cx="6715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utzen Sie die Zei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2158560"/>
            <a:ext cx="76327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ist ein wertvolles Kapi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ist ein absolut knappes G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ist nicht käufl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kann nicht gespart oder gelag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kann nicht vermeh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verrinnt kontinuierlich und unwiderrufl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ist LE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167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168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537200">
              <a:off x="1075320" y="6055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23640" y="228240"/>
            <a:ext cx="6715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utzen Sie die Zeit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urch Zeit-Manag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920" y="2301840"/>
            <a:ext cx="7632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zungsgrad des menschlichen Leistungspotentials liegt bei 30% bis 40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geht verloren, da klare Ziele, Planung, Prioritäten und Übersichten feh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management bedeutet, die eigene Zeit und Arbeit zu beherrschen, anstatt sich von ihnen beherrschen zu lass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178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537200">
              <a:off x="1075320" y="6055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utzen Sie die Zeit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eit-Manag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920" y="2158560"/>
            <a:ext cx="76327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ti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ber persönliches Zeitkapital gründlich nachde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chdachtes Zeit- bzw. Lebens-Konzept er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 für die Erreichung beruflicher und persönlicher Ziele bewusst eins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189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190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537200">
              <a:off x="1075320" y="6055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utzen Sie die Zeit </a:t>
            </a:r>
            <a:br>
              <a:rPr sz="36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Zeit-Management Erfolgsausichten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2158560"/>
            <a:ext cx="76327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Übersicht über anstehende Aktivitäten und Prioritäten gew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ativ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Freiraum für Kreativität er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ab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bewusst bewältigen, abbauen und verm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Freizeit für Familie, Freunde und sich selbst gew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bensz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le konsequent und systematisch erreichen, damit ihr Leben Sinn und Richtung be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0920" y="260280"/>
            <a:ext cx="1485720" cy="1714680"/>
            <a:chOff x="250920" y="260280"/>
            <a:chExt cx="1485720" cy="1714680"/>
          </a:xfrm>
        </p:grpSpPr>
        <p:grpSp>
          <p:nvGrpSpPr>
            <p:cNvPr id="200" name=""/>
            <p:cNvGrpSpPr/>
            <p:nvPr/>
          </p:nvGrpSpPr>
          <p:grpSpPr>
            <a:xfrm>
              <a:off x="250920" y="260280"/>
              <a:ext cx="1485720" cy="1714680"/>
              <a:chOff x="250920" y="260280"/>
              <a:chExt cx="1485720" cy="1714680"/>
            </a:xfrm>
          </p:grpSpPr>
          <p:sp>
            <p:nvSpPr>
              <p:cNvPr id="201" name=""/>
              <p:cNvSpPr/>
              <p:nvPr/>
            </p:nvSpPr>
            <p:spPr>
              <a:xfrm>
                <a:off x="250920" y="260280"/>
                <a:ext cx="1485720" cy="1714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93600" y="26028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93600" y="168912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920" y="11178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88600" y="111780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936720" y="260280"/>
              <a:ext cx="114120" cy="914400"/>
            </a:xfrm>
            <a:prstGeom prst="upArrow">
              <a:avLst>
                <a:gd name="adj1" fmla="val 50000"/>
                <a:gd name="adj2" fmla="val 2003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537200">
              <a:off x="1075320" y="605520"/>
              <a:ext cx="114120" cy="571320"/>
            </a:xfrm>
            <a:prstGeom prst="upArrow">
              <a:avLst>
                <a:gd name="adj1" fmla="val 50000"/>
                <a:gd name="adj2" fmla="val 12515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6:53:26Z</dcterms:created>
  <dc:creator>athena</dc:creator>
  <dc:description/>
  <dc:language>en-US</dc:language>
  <cp:lastModifiedBy>Privat</cp:lastModifiedBy>
  <dcterms:modified xsi:type="dcterms:W3CDTF">2004-11-18T08:20:48Z</dcterms:modified>
  <cp:revision>29</cp:revision>
  <dc:subject/>
  <dc:title> Das 1x1 des  Zeitmanagement</dc:title>
</cp:coreProperties>
</file>