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404-5C86-4C29-B910-B048C671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3AE-A145-424B-AD1B-E94CC95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DAE-0031-4F24-96DB-4585BD0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E49-16B7-469B-A85B-D06F5F83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02EB-DEA4-4D46-9BC0-1782449E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43AA-23AF-43D0-9612-F392A75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E1E-5A5E-42C7-926F-1F44F42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5023-27EA-4A60-84B6-6B22EE90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A24E-2275-4BC2-8D0B-36D73856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B58-2CCC-4792-94C5-7D58488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D523-59C4-4D7E-BB6B-7263E3A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1DB-4593-4826-A37E-9F85714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3720-B3AD-485D-8813-E3F9DEE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E3C7-08CE-42DE-9743-2632DA7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EA42-75C3-4346-9B5B-4FAC61DF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A57-3CAE-40B3-B9A1-1B4D0AA8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F4E9-6000-4F50-8399-B5A19C2E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9CA-293E-4A22-BDFF-C37CB0D3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FC9-67AE-4F81-84E2-DD52D3DB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572-A1AD-4DC0-BD4C-29FCFA19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9E6-7AB6-4189-A5AC-A334A14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DF3-4B4D-4E41-B700-82D8C3F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DC8-F236-4BE7-AC33-D68A273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F3E-A5A4-481A-8349-EBFEF155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48D0-B509-44BC-88A1-2978F258E8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364-8C38-42DD-8910-12E091E164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rtschaftsordnu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UNGSTRÄ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 plant w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UNGSBERE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werden die Pläne koordini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RDINATION DES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eie Marktwirtschaf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zentrale Planung durch die Produzenten und die Kons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igentum an Produktionsmitteln, freie Unternehmensgrü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ier Arbeitsmarkt, Vertragsfrei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rdinierung der Einzelpläne durch die Signalfunktion der Marktp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hnung wirtschaftlicher Leistungen durch Gew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ktionierung von Fehlleistungen durch Verlust (bis zum Konk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ung von wirtschaftlichen Rahmenbedingungen durch den 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lanwirtschaf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trale Planung durch den 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atliches Eigentum an Produktionsmitt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atlich geregelter Arbeitsmarkt, keine Vertragsfrei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rdinierung der Einzelpläne durch die Planungsbehö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hnung plangerechter Leistungen durch Prämien, Titel und 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ktionierung von Fehlleistungen gegenüber dem Plan durch Kontr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er Staatseingriff in die Wirt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745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7:13:39Z</dcterms:created>
  <dc:creator>Martin</dc:creator>
  <dc:description/>
  <dc:language>en-US</dc:language>
  <cp:lastModifiedBy>Martin</cp:lastModifiedBy>
  <dcterms:modified xsi:type="dcterms:W3CDTF">2006-02-25T15:38:20Z</dcterms:modified>
  <cp:revision>5</cp:revision>
  <dc:subject/>
  <dc:title>Freie Marktwirtschaft</dc:title>
</cp:coreProperties>
</file>