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40E-F40A-46E8-A38E-6CBD0375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221-B14C-4BE7-B0E6-945E57D5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DF8-E216-43C1-9C41-33271FC6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5D1-60B8-45E6-9B8F-8573B212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BFE-22FE-4CB2-9A11-CB6B955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854-B4FB-4256-A976-2AA123C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1AE-9A75-415C-8807-3476425D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758-8901-40CC-8089-D808813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E28-E24F-48B5-946C-5292B07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87D-4745-4FD2-A586-A0661B6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1B6-DB7A-45AF-A800-DBD3ACE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C1F-5485-4BCC-AC76-F4D6CB7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D3DF-AC55-48CA-81F1-C8B9B0ABB9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5720"/>
            <a:ext cx="49942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© bauerpoin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4237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23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740040" y="4027320"/>
          <a:ext cx="2184480" cy="28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0040" y="4027320"/>
                    <a:ext cx="2184480" cy="28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4080" y="0"/>
            <a:ext cx="233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dürf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33880" y="3740040"/>
            <a:ext cx="565200" cy="368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25960" y="3206880"/>
            <a:ext cx="1060200" cy="4442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2800" y="2521080"/>
            <a:ext cx="1225440" cy="6728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073160"/>
            <a:ext cx="2793960" cy="1511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5240" y="3740040"/>
            <a:ext cx="565200" cy="368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18160" y="3206880"/>
            <a:ext cx="1060560" cy="4442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26080" y="2521080"/>
            <a:ext cx="1225800" cy="6728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04240" y="1073160"/>
            <a:ext cx="2793960" cy="1511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98600" y="1192320"/>
          <a:ext cx="176040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00" y="1192320"/>
                    <a:ext cx="1760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458120" y="1335240"/>
          <a:ext cx="2158920" cy="105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8120" y="1335240"/>
                    <a:ext cx="21589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25600" y="4251240"/>
            <a:ext cx="1650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Primä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edürf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1160" y="4267080"/>
            <a:ext cx="1828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Sekundä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edürf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2971800"/>
            <a:ext cx="1650960" cy="11430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933640"/>
            <a:ext cx="1650960" cy="11430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1000" y="2249640"/>
          <a:ext cx="87444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2249640"/>
                    <a:ext cx="8744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480" y="998640"/>
            <a:ext cx="1868400" cy="1206000"/>
            <a:chOff x="6480" y="998640"/>
            <a:chExt cx="1868400" cy="1206000"/>
          </a:xfrm>
        </p:grpSpPr>
        <p:sp>
          <p:nvSpPr>
            <p:cNvPr id="66" name=""/>
            <p:cNvSpPr/>
            <p:nvPr/>
          </p:nvSpPr>
          <p:spPr>
            <a:xfrm>
              <a:off x="1657440" y="2064960"/>
              <a:ext cx="217440" cy="13968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3840" y="1852560"/>
              <a:ext cx="415800" cy="16920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5080" y="1577880"/>
              <a:ext cx="482760" cy="26136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80" y="998640"/>
              <a:ext cx="1109520" cy="59652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87640" y="998640"/>
            <a:ext cx="1868400" cy="1206000"/>
            <a:chOff x="2087640" y="998640"/>
            <a:chExt cx="1868400" cy="1206000"/>
          </a:xfrm>
        </p:grpSpPr>
        <p:sp>
          <p:nvSpPr>
            <p:cNvPr id="71" name=""/>
            <p:cNvSpPr/>
            <p:nvPr/>
          </p:nvSpPr>
          <p:spPr>
            <a:xfrm>
              <a:off x="2087640" y="2064960"/>
              <a:ext cx="217440" cy="13968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52520" y="1852560"/>
              <a:ext cx="416160" cy="16920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14680" y="1577880"/>
              <a:ext cx="482400" cy="26136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6520" y="998640"/>
              <a:ext cx="1109520" cy="59652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200160" y="1022400"/>
          <a:ext cx="704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60" y="1022400"/>
                    <a:ext cx="704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03480" y="1090440"/>
          <a:ext cx="8636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3480" y="1090440"/>
                    <a:ext cx="863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206880" y="2376360"/>
            <a:ext cx="1238040" cy="954360"/>
          </a:xfrm>
          <a:prstGeom prst="rightArrow">
            <a:avLst>
              <a:gd name="adj1" fmla="val 75009"/>
              <a:gd name="adj2" fmla="val 64868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91160" y="10904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dürf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52680" y="1052640"/>
            <a:ext cx="244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edarf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Teil der Bedürf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er gedeck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56160" y="2197080"/>
          <a:ext cx="1765440" cy="12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56160" y="2197080"/>
                    <a:ext cx="17654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698000" y="3568680"/>
            <a:ext cx="1558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Bedarf n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0"/>
            <a:ext cx="390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dürfnisse und Beda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4635360"/>
            <a:ext cx="1033560" cy="1143000"/>
          </a:xfrm>
          <a:prstGeom prst="downArrow">
            <a:avLst>
              <a:gd name="adj1" fmla="val 75009"/>
              <a:gd name="adj2" fmla="val 55299"/>
            </a:avLst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4120" y="5919840"/>
            <a:ext cx="2265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dar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ührt zu Verkä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her: Werbu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67360" y="2600280"/>
            <a:ext cx="1792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ü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efried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edürf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2368440"/>
            <a:ext cx="1238400" cy="954360"/>
          </a:xfrm>
          <a:prstGeom prst="rightArrow">
            <a:avLst>
              <a:gd name="adj1" fmla="val 75009"/>
              <a:gd name="adj2" fmla="val 64887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5:45:08Z</dcterms:created>
  <dc:creator>Mag. Helmut Bauer</dc:creator>
  <dc:description/>
  <dc:language>en-US</dc:language>
  <cp:lastModifiedBy>Mag. Helmut Bauer</cp:lastModifiedBy>
  <cp:lastPrinted>1998-07-28T09:24:54Z</cp:lastPrinted>
  <dcterms:modified xsi:type="dcterms:W3CDTF">2001-01-30T18:42:52Z</dcterms:modified>
  <cp:revision>38</cp:revision>
  <dc:subject/>
  <dc:title>Kein Folientitel</dc:title>
</cp:coreProperties>
</file>