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560-ADDD-4958-8293-C52CF6B0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F32-AAB0-4D3F-A673-EB13B346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E40-B48E-4FF8-9BF7-64CA22F8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CAF-6297-4D53-B751-04056B9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3AB7-63F9-4562-87B3-31AD6A36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4CA-BE1C-4357-ABD5-202520D6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FF5-A0AB-482E-B23C-DA28D283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C14-C08D-4600-B6EE-8EBE095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581F-B1FA-4325-8C8D-F88EA56F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00B-F0F5-4CE6-94BA-F3AC066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708-4CBD-47F6-BC2B-A7FEB45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AB7-E99A-478D-99CB-B4ECC9C2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6785-9CFE-47AE-BE11-F7D322A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820-BB62-40AD-B926-F181908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A11A-399B-40A2-8651-CCF05BC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30E-3CC5-4744-8FDD-95E6D298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15B-E565-4413-B1AB-C6E706DA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C9F-3384-40EB-A176-9701E86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6BC-FA0A-4B5D-BC8E-795FF4F3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492-7E75-45C6-9A6D-8B43B43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C2F-35D0-4420-86EE-A51543E6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733-71A5-4C56-A5D3-A099578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A98-BBDF-488C-A0D9-6270ADD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345-3870-45DF-91B8-714D0B4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C8B-CB12-4D52-83EB-A2EDFCC1AE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C0DD-F603-4B58-A266-89BDD6925F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494840" cy="3211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in Bild sagt mehr als 1000 Wor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Black"/>
              </a:rPr>
              <a:t>Schritt 2 - Datenberei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523520"/>
            <a:ext cx="4064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aten, die für das Diagramm wichtig si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Zeilen: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eil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ahoma"/>
              </a:rPr>
              <a:t>Reihe in Spalten: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palten bilden Säulengru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in diesem Fall wurde Reihen in Spalten gewähl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i Blatt „Reihen“ kann man die Namen der Reihen ändern und die Rubrikenachse beschrif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676520"/>
          <a:ext cx="413568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135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80880" y="3505320"/>
          <a:ext cx="4191120" cy="293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05320"/>
                    <a:ext cx="41911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a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ormatierung des Diagramms</a:t>
            </a:r>
            <a:br>
              <a:rPr sz="2200"/>
            </a:br>
            <a:br>
              <a:rPr sz="18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Titel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ingabe des Titels und Beschriftung der Achsen (TIP: nicht mit Enter sondern mit Tabulator bestätigen)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Gitternetzlini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Hinzufügen oder Entfernen der Linien in der Diagrammfläche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de-DE" sz="2200" spc="-1" strike="noStrike">
                <a:solidFill>
                  <a:srgbClr val="ff6600"/>
                </a:solidFill>
                <a:latin typeface="Tahoma"/>
              </a:rPr>
              <a:t>Legende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: Entscheidung ob Legende oder nicht und wo diese platziert ist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3b - Diagrammoption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beschriftu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zeigen des Wertes, der Beschriftung, der Prozent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0" lang="en-US" sz="2200" spc="-1" strike="noStrike">
                <a:solidFill>
                  <a:srgbClr val="ff6600"/>
                </a:solidFill>
                <a:latin typeface="Tahoma"/>
              </a:rPr>
              <a:t>Datentabel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die Tabelle wird unter dem Diagramm angezeigt (siehe folgendes Diagram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3352680"/>
          <a:ext cx="81536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8153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 Black"/>
              </a:rPr>
              <a:t>Schritt 4 - Diagramm einfü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1600200"/>
          <a:ext cx="77724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77724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 Black"/>
              </a:rPr>
              <a:t>Formatierung des Diagram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ere Formatierung des Diagramms (Hintergrundfarbe, Änderungen von Titel, Legende, Gitternetzlinien)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icken auf die einzelnen Bestandteile des Diagramms mit der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echten Mausta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mensch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44120" cy="27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sind Diagramme im EXC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nt zur grafisch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rstellung einer Tab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den mit Hilfe 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m-Assistenten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enü Einfügen – Diagramm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89680" y="251460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00200" y="1981080"/>
          <a:ext cx="637236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6372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standteile eines Diagram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6560" y="587520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(Größ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590920"/>
            <a:ext cx="60948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0120" y="297180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409720" y="2209680"/>
            <a:ext cx="12193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90560" y="22860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552720" y="55627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5029200"/>
            <a:ext cx="6858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343400" y="57913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2860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905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14640" y="5257800"/>
            <a:ext cx="152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5360" y="61722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172200"/>
            <a:ext cx="276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Achse(Rubrikenach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2080" y="572292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rik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punkt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440" y="153180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mti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0"/>
            <a:ext cx="24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chs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3040" y="19810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öß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5280" y="18367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beschrif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25988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Black"/>
              </a:rPr>
              <a:t>Diagramm-Assis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erst werden die für das Diagramm notwendigen Daten markie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ipp: auch auf die Beschriftungen nicht vergess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ch wird der Assistent geöff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ü Einfügen – Diagramm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folgenden vier Schritte sind zu bearbeit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Schritt 1 –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Auswahl Diagramm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 dieser Seite wählt man die Diagrammart a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die wichtigsten werden auf den nächsten Seiten beschrieb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man au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„Schaltfläche länger gedrückt halten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lickt, bekommt man eine kurze Vorschau des Diagra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 Auswahl mit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Wei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stäti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äul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83000"/>
          <a:ext cx="7925040" cy="39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83000"/>
                    <a:ext cx="79250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216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nänderungen innerhalb bestimmten Zeitra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nn Zeitspannen (Jahre, Monate) im Spiel s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3505320"/>
          <a:ext cx="7925040" cy="31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92504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lkendiagra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agrechte Darstellung des Zahlenmate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gleiche zwischen mehreren Elementen (wer was mehr, gleich viel oder weniger h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 und Y- Achse vertauscht zu Liniendiagra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nien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666880"/>
          <a:ext cx="750564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5056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57440"/>
            <a:ext cx="8178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ststellung der Entwicklungstenden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über längeren Zeitra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reisdiagram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971800"/>
          <a:ext cx="7467840" cy="36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784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rstellung: prozentualer Anteil an Gesamthe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21:38:48Z</dcterms:created>
  <dc:creator>Alber Birgit</dc:creator>
  <dc:description/>
  <dc:language>en-US</dc:language>
  <cp:lastModifiedBy>Alber Birgit</cp:lastModifiedBy>
  <dcterms:modified xsi:type="dcterms:W3CDTF">2000-12-14T14:01:01Z</dcterms:modified>
  <cp:revision>53</cp:revision>
  <dc:subject/>
  <dc:title>Diagrammerstellung</dc:title>
</cp:coreProperties>
</file>