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A28-2EEC-4A52-846A-708A20EE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6B0-3FAE-4BF7-97CE-8E0099A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809-1472-4354-B86E-82CA3F65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F92-63F8-445D-8550-66EDE92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7F9-4CDE-4E52-B201-21FA177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7BC-D1E2-4410-91DF-14604F6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F645-E5B0-4F8F-B9FE-C648298D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DF61-1306-48BC-A967-1E986E89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732-7CA2-4CAF-9429-514E135A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C0F2-5908-4BDD-92CC-BDB5ADF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ECC3-58A3-45D8-B8BF-13582EB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F75-2478-45FD-A3D2-AEBEF24E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79B-E5DC-4C7D-9A65-EB6F2F35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E9E-1138-4F8E-A1EF-B05A9F9A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E82A-6727-432D-9078-2EF00237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009C-7C92-472A-A4EA-349D77C7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D018-4BA6-4197-89C4-11420DFC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197-440B-4975-8DCB-A56C21FF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C4C-148B-4DD3-AD42-B862FEA2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387-361D-4B69-987A-C09235C2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8AC-9A9A-4B42-9299-181033C2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266-574C-426F-AB15-FD5A13E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29B-A0FE-4719-8418-1726ECC7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4A0-F4F8-4489-BE7D-CFB65E92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2857-4A73-4455-BF48-368249419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CFAB-5BF3-4D0E-A427-5BCD19366E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494840" cy="3211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in Bild sagt mehr als 1000 Wor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Black"/>
              </a:rPr>
              <a:t>Schritt 2 - Datenberei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523520"/>
            <a:ext cx="4064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aten, die für das Diagramm wichtig si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Zeilen: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eil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Spalten: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palt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in diesem Fall wurde Reihen in Spalten gewähl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i Blatt „Reihen“ kann man die Namen der Reihen ändern und die Rubrikenachse beschrif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676520"/>
          <a:ext cx="413568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135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80880" y="3505320"/>
          <a:ext cx="4191120" cy="293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05320"/>
                    <a:ext cx="41911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a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ormatierung des Diagramms</a:t>
            </a:r>
            <a:br>
              <a:rPr sz="2200"/>
            </a:br>
            <a:br>
              <a:rPr sz="18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Titel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ingabe des Titels und Beschriftung der Achsen (TIP: nicht mit Enter sondern mit Tabulator bestätigen)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Gitternetzlini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Hinzufügen oder Entfernen der Linien in der Diagrammfläche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Legend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ntscheidung ob Legende oder nicht und wo diese platziert ist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b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beschriftu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zeigen des Wertes, der Beschriftung, der Prozent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tabel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die Tabelle wird unter dem Diagramm angezeigt (siehe folgendes Diagram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3352680"/>
          <a:ext cx="81536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8153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Schritt 4 - Diagramm einfü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1600200"/>
          <a:ext cx="77724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77724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 Black"/>
              </a:rPr>
              <a:t>Formatierung des Diagram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ere Formatierung des Diagramms (Hintergrundfarbe, Änderungen von Titel, Legende, Gitternetzlinien)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icken auf die einzelnen Bestandteile des Diagramms mit der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echten Mausta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mensch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44120" cy="27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sind Diagramme im EXC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nt zur grafisch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rstellung einer Tab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den mit Hilfe 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m-Assistenten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enü Einfügen – Diagramm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89680" y="251460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00200" y="1981080"/>
          <a:ext cx="637236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6372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standteile eines Diagram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6560" y="587520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(Größ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590920"/>
            <a:ext cx="60948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0120" y="297180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09720" y="2209680"/>
            <a:ext cx="12193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90560" y="22860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552720" y="55627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502920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343400" y="57913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2860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905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14640" y="525780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5360" y="61722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172200"/>
            <a:ext cx="276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(Rubrik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2080" y="572292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rik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punkt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440" y="153180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mt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0"/>
            <a:ext cx="24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3040" y="19810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öß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5280" y="18367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25988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Black"/>
              </a:rPr>
              <a:t>Diagramm-Assis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erst werden die für das Diagramm notwendigen Daten markie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ipp: auch auf die Beschriftungen nicht vergess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ch wird der Assistent geöff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ü Einfügen – Diagramm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folgenden vier Schritte sind zu bearbeit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1 –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Auswahl Diagramm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 dieser Seite wählt man die Diagrammart a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e wichtigsten werden auf den nächsten Seiten beschrieb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man au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„Schaltfläche länger gedrückt halten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lickt, bekommt man eine kurze Vorschau des Diagra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 Auswahl mit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ei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stäti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äul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83000"/>
          <a:ext cx="7925040" cy="39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83000"/>
                    <a:ext cx="79250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216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nänderungen innerhalb bestimmten Zeitra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nn Zeitspannen (Jahre, Monate) im Spiel s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3505320"/>
          <a:ext cx="7925040" cy="31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92504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lk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agrechte Darstellung des Zahlenmate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gleiche zwischen mehreren Elementen (wer was mehr, gleich viel oder weniger h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 und Y- Achse vertauscht zu Liniendiagra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nien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666880"/>
          <a:ext cx="750564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5056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57440"/>
            <a:ext cx="8178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ststellung der Entwicklungstenden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über längeren Zeitra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reis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971800"/>
          <a:ext cx="7467840" cy="36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784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rstellung: prozentualer Anteil an Gesamthe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21:38:48Z</dcterms:created>
  <dc:creator>Alber Birgit</dc:creator>
  <dc:description/>
  <dc:language>en-US</dc:language>
  <cp:lastModifiedBy>Alber Birgit</cp:lastModifiedBy>
  <dcterms:modified xsi:type="dcterms:W3CDTF">2000-12-14T14:01:01Z</dcterms:modified>
  <cp:revision>53</cp:revision>
  <dc:subject/>
  <dc:title>Diagrammerstellung</dc:title>
</cp:coreProperties>
</file>